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70.xml" ContentType="application/vnd.openxmlformats-officedocument.theme+xml"/>
  <Override PartName="/ppt/theme/theme28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6.xml" ContentType="application/vnd.openxmlformats-officedocument.theme+xml"/>
  <Override PartName="/ppt/theme/theme63.xml" ContentType="application/vnd.openxmlformats-officedocument.theme+xml"/>
  <Override PartName="/ppt/theme/theme62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</p:sldMasterIdLst>
  <p:notesMasterIdLst>
    <p:notesMasterId r:id="rId72"/>
  </p:notesMasterIdLst>
  <p:sldIdLst>
    <p:sldId id="256" r:id="rId73"/>
    <p:sldId id="257" r:id="rId74"/>
    <p:sldId id="258" r:id="rId75"/>
    <p:sldId id="259" r:id="rId76"/>
    <p:sldId id="260" r:id="rId77"/>
    <p:sldId id="261" r:id="rId78"/>
    <p:sldId id="262" r:id="rId79"/>
    <p:sldId id="263" r:id="rId80"/>
    <p:sldId id="264" r:id="rId81"/>
    <p:sldId id="265" r:id="rId82"/>
    <p:sldId id="266" r:id="rId83"/>
    <p:sldId id="267" r:id="rId84"/>
    <p:sldId id="268" r:id="rId85"/>
    <p:sldId id="269" r:id="rId86"/>
    <p:sldId id="270" r:id="rId87"/>
    <p:sldId id="271" r:id="rId88"/>
    <p:sldId id="272" r:id="rId89"/>
    <p:sldId id="273" r:id="rId90"/>
    <p:sldId id="274" r:id="rId91"/>
    <p:sldId id="275" r:id="rId92"/>
    <p:sldId id="276" r:id="rId9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notesMaster" Target="notesMasters/notesMaster1.xml"/><Relationship Id="rId73" Type="http://schemas.openxmlformats.org/officeDocument/2006/relationships/slide" Target="slides/slide1.xml"/><Relationship Id="rId74" Type="http://schemas.openxmlformats.org/officeDocument/2006/relationships/slide" Target="slides/slide2.xml"/><Relationship Id="rId75" Type="http://schemas.openxmlformats.org/officeDocument/2006/relationships/slide" Target="slides/slide3.xml"/><Relationship Id="rId76" Type="http://schemas.openxmlformats.org/officeDocument/2006/relationships/slide" Target="slides/slide4.xml"/><Relationship Id="rId77" Type="http://schemas.openxmlformats.org/officeDocument/2006/relationships/slide" Target="slides/slide5.xml"/><Relationship Id="rId78" Type="http://schemas.openxmlformats.org/officeDocument/2006/relationships/slide" Target="slides/slide6.xml"/><Relationship Id="rId79" Type="http://schemas.openxmlformats.org/officeDocument/2006/relationships/slide" Target="slides/slide7.xml"/><Relationship Id="rId80" Type="http://schemas.openxmlformats.org/officeDocument/2006/relationships/slide" Target="slides/slide8.xml"/><Relationship Id="rId81" Type="http://schemas.openxmlformats.org/officeDocument/2006/relationships/slide" Target="slides/slide9.xml"/><Relationship Id="rId82" Type="http://schemas.openxmlformats.org/officeDocument/2006/relationships/slide" Target="slides/slide10.xml"/><Relationship Id="rId83" Type="http://schemas.openxmlformats.org/officeDocument/2006/relationships/slide" Target="slides/slide11.xml"/><Relationship Id="rId84" Type="http://schemas.openxmlformats.org/officeDocument/2006/relationships/slide" Target="slides/slide12.xml"/><Relationship Id="rId85" Type="http://schemas.openxmlformats.org/officeDocument/2006/relationships/slide" Target="slides/slide13.xml"/><Relationship Id="rId86" Type="http://schemas.openxmlformats.org/officeDocument/2006/relationships/slide" Target="slides/slide14.xml"/><Relationship Id="rId87" Type="http://schemas.openxmlformats.org/officeDocument/2006/relationships/slide" Target="slides/slide15.xml"/><Relationship Id="rId88" Type="http://schemas.openxmlformats.org/officeDocument/2006/relationships/slide" Target="slides/slide16.xml"/><Relationship Id="rId89" Type="http://schemas.openxmlformats.org/officeDocument/2006/relationships/slide" Target="slides/slide17.xml"/><Relationship Id="rId90" Type="http://schemas.openxmlformats.org/officeDocument/2006/relationships/slide" Target="slides/slide18.xml"/><Relationship Id="rId91" Type="http://schemas.openxmlformats.org/officeDocument/2006/relationships/slide" Target="slides/slide19.xml"/><Relationship Id="rId92" Type="http://schemas.openxmlformats.org/officeDocument/2006/relationships/slide" Target="slides/slide20.xml"/><Relationship Id="rId93" Type="http://schemas.openxmlformats.org/officeDocument/2006/relationships/slide" Target="slides/slide21.xml"/><Relationship Id="rId9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 type="dt" idx="193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0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1" name="PlaceHolder 5"/>
          <p:cNvSpPr>
            <a:spLocks noGrp="1"/>
          </p:cNvSpPr>
          <p:nvPr>
            <p:ph type="ftr" idx="194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PlaceHolder 6"/>
          <p:cNvSpPr>
            <a:spLocks noGrp="1"/>
          </p:cNvSpPr>
          <p:nvPr>
            <p:ph type="sldNum" idx="195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3B05-D8C4-47A3-B078-5128032CE2B4}" type="slidenum"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63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4" name="ตัวแทนหมายเลขภาพนิ่ง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8B55-5B80-4DEE-947A-ACDDBC1F906B}" type="slidenum">
              <a:rPr b="0" lang="th-T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1" name="ตัวแทนหมายเลขสไลด์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95E8-E779-4F73-A578-B2E227084132}" type="slidenum">
              <a:rPr b="0" lang="th-T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9D00-3651-437C-B8CE-09D0C1388DA5}" type="slidenum">
              <a:rPr b="0" lang="th-T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7" name="ตัวแทนหมายเลขภาพนิ่ง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ECF5-32C4-4954-9E3A-79F9839B95DA}" type="slidenum">
              <a:rPr b="0" lang="th-T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DC8F-7D08-494B-AFE9-85F7437B990C}" type="slidenum">
              <a:rPr b="0" lang="th-T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693B-F975-4642-A973-F3FBF83727E7}" type="slidenum">
              <a:rPr b="0" lang="th-T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589B-7BD9-4EA0-9130-ADAED5E89D2F}" type="slidenum">
              <a:rPr b="0" lang="th-T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67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A49F-F755-468F-A0F9-32B47E535FA1}" type="slidenum">
              <a:rPr b="0" lang="th-T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sldImg"/>
          </p:nvPr>
        </p:nvSpPr>
        <p:spPr>
          <a:xfrm>
            <a:off x="2033640" y="1650960"/>
            <a:ext cx="5931000" cy="4449960"/>
          </a:xfrm>
          <a:prstGeom prst="rect">
            <a:avLst/>
          </a:prstGeom>
          <a:ln w="0">
            <a:noFill/>
          </a:ln>
        </p:spPr>
      </p:sp>
      <p:sp>
        <p:nvSpPr>
          <p:cNvPr id="363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7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CEAD-5F9A-4FEC-87C7-B2594CC1750F}" type="slidenum">
              <a:rPr b="0" lang="th-T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D461-A8E4-42CA-B9E4-50FCB4F2BF9B}" type="slidenum">
              <a:rPr b="0" lang="th-T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68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C292-657B-4453-A07D-2E2D2C9F0581}" type="slidenum">
              <a:rPr b="0" lang="th-T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63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0" name="ตัวแทนหมายเลขสไลด์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75FD-7C44-413F-9CE7-125EB0F421EB}" type="slidenum">
              <a:rPr b="0" lang="th-T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64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3" name="ตัวแทนหมายเลขสไลด์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0BFB-CAB4-4695-9CBA-8D178FF3C041}" type="slidenum">
              <a:rPr b="0" lang="th-T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64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6" name="ตัวแทนหมายเลขสไลด์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E0A9-5958-464A-8F3C-8BA1BB4851F0}" type="slidenum">
              <a:rPr b="0" lang="th-T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3649" name="ตัวแทนหมายเลขสไลด์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0AE2-802A-4239-908B-71D1DA3121C3}" type="slidenum">
              <a:rPr b="0" lang="th-T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3652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49F8-D5D1-4E47-A67E-D145FCE8CFC7}" type="slidenum">
              <a:rPr b="0" lang="th-T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3655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A3D4-3BA5-4F61-BCB6-EFA7F5160E4F}" type="slidenum">
              <a:rPr b="0" lang="th-T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1CC4-FEAE-42E6-B28F-D20DC022965D}" type="slidenum">
              <a:rPr b="0" lang="th-T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17E9-34EB-421B-BDCE-1F16C37B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3B8-5234-4341-8FF4-DDB02A68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6DD6B-328D-43E5-A19F-F69264DC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F3A0D-140D-4D4F-81FE-D168BBDC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85225-3395-4718-B7C5-01343A62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5715C-0C6B-48D0-8BC6-1E2A5D1A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3A406-11D9-42B7-9A4F-3140C7A1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0291B-52DC-4DB0-8845-5B4E780E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87A4C-CDB0-49C2-94F3-E346885B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E9E4E-FE27-4C8D-8680-A83FBB7C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7784A-48D4-4A35-8FEE-26EADB9C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949E6-CF87-4784-8E22-E8C587F6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06B-BAB1-4975-B483-F57C1C2A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E73C2-4BE5-4E3C-92A0-D1EFB4EB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9088A-51FB-4B1D-807C-7182F720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68383-E912-44C7-82AA-403D9391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70820-BB72-4189-AE01-8A06AECF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65663-A454-4F2E-A2A2-8CC721C7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920DC-E79F-425E-96FD-C90581DA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4A4FF-E84D-4AB6-989E-CC367CC6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DD99B-B28B-4931-9DCD-5BC7D63B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0DC10-A798-4BA1-B53D-BF389A6A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48528-8743-4C04-B450-53B6759C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B19F-BD8D-44E9-B9F9-B3DB9131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1AC7A-C122-4B25-A94F-8644E449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B8664-925C-4B2D-A337-BFCEDE76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C8AC8-7D4C-419E-92A6-6A0C3084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16D30-2AC3-48B8-A7A8-A1B8E595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5B3DE-4144-450E-8153-E372C45C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E3371-7F51-49A1-A865-437EAC7C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10262-3DC7-4368-BCC2-F29A6C1C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F816C-48D7-4EF6-B475-2D6B6C00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7EE07-9A3E-4BC2-AD14-42AAF868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E5981-F5DE-44F8-9D00-277ECC7C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4A8A-9E94-4B1E-8DD1-0D1163AB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4C962-68A4-4B61-B82A-156ED156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C22F9-34E9-4A23-94E0-B33BEDB4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F2479-7ECE-4B1A-95CC-75C77C3D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23867-FACD-44F9-9B46-CF652EA3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186FA-BCB3-46E5-B9CE-95686BF0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C7115-1984-428D-88BC-C539B779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36297-8793-4E3D-9A8A-89CCDAC8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09B17-385D-49B8-B91D-FFA101CA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88CC8-4C74-41BE-8D5C-C71A5663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0E4F8-6B14-41D2-ABFD-462B4240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91AF-B12C-47CF-B1EA-535D2394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2CE81-58B8-4985-87DD-2882A869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13038-D4A0-49CD-B79C-80ECF71F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6D4AF-11F2-4521-9245-CBC41DC1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00288-B493-433B-852D-E0074C21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80613-80F7-442E-8BF6-26ECB078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6EC06A-C5A3-4941-8ABE-2C1A5279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79677-2484-4E3F-B7A6-47AC4B5A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91B8BC-35B1-4AAB-A247-557B6202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4FBE57-D1EE-467A-8750-315178DC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53DD1-6933-492C-AC72-D10E7DD8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B6AF-1E9D-4FF6-884F-CE30E825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C5320-49B2-41E9-BA36-B68B2AD4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1F2E7-9665-4901-89FD-0EC4C2E9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EACE8-39F1-4C1C-8B3C-ED29184C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FF5976-DE98-4F95-8AD4-6C011F9F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B12154-A4A0-41BA-BE6D-B785E61E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C58B47-10DC-47A5-A3DC-4BA17A08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3B9789-6393-48FE-9E92-81A2251D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77BF1-5AA8-4FF3-A107-C4A353D8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B5CD4A-DC2A-424D-B06E-11B41C06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CBE84E-FB82-43F2-AE85-01C68972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906A-D5D1-4A1E-B89A-807561C8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4069D3-4301-4BDF-B2D3-ABAE1B32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670F1-AA52-4B7E-A014-C76798B0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194FAD-EF76-4327-AB4F-FC90E7AB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C3C367-A7F2-4065-A59C-6EAB2C51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A15C7F-2B8B-4C30-9B88-645D6096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CFF0F1-CBA5-4B76-BEB4-33393FF8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619F3F-B815-47AA-947C-35CCA890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F2FE4E-8BF5-4455-B1AD-5062F397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4847F5-2FC8-4C4B-B480-8378E559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F66DA2-5652-476E-8348-7D4E486D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E0B5-D39B-4183-B168-9B11667F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08BF96-AA55-44F8-A520-67D57DE8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83E21D-91A4-4C3A-BB52-EE4CB579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0F0A89-EB02-452E-8E9E-FBAAC8D5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ADB177-7602-44BB-B9F2-309D7972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C4916-FCD2-45D3-B1C5-BFED7E73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C03025-9051-4825-B620-92FD5E7F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483993-0444-4C42-9E83-C23C3087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82909D-E99A-4728-8EAB-10292B10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FD95B5-92EA-455C-BACA-E08815BD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3DACE9-7C98-4394-8275-0261BF9B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663C-EB19-48A5-9D63-8962F1D8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8A99CA-893F-418E-B27E-898B64D9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7E288D-624C-48B8-8ABE-7DAC4C45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1460F9-6968-4CEA-AF96-6154AA30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011C3C-13B2-44CD-AA42-BEDDA55A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1CE5B9-7B20-4B54-AA69-40F5993C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0649B9-B76E-4144-9E8F-61193326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10768E-0BA3-43F9-89B2-40728C4B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B26CB2-7955-435E-83CE-298297BB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554071-7464-4C45-ABC3-DA984C3C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7F6068-EB99-4DCD-839F-F49FD767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904D-80D8-4C84-A1A4-BDFBBE22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5FF2FC-2602-4AC9-AF74-C8478378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76784D-121E-48AA-9415-7428D266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7A04E-80E6-4C63-A8EF-8193F215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CB9984-4594-4FF0-9282-725DB9AA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972925-2D48-4880-8AA6-B2C2AF97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640A38-9BC4-4D58-88D6-ACD969D5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783771-FC35-41E9-BE81-731E6861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44233A-813B-4703-B168-BDAB4652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EDF833-0981-418D-AFC6-0EF10D9B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4CA05D-5DF9-4DB0-97FC-D1F4F025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4342-5924-4119-BBAD-084804AB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190D-595B-456C-848D-2F8B628D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6BA5AB-11E6-4E58-A04B-F6D2BA24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B4DB9D-A959-4274-98D2-8277A4E7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20B464-B152-403C-BFF6-AFD00282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C6AF0D-8B85-4A7B-820C-8310FF94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D9EE93-59D9-4330-95B7-19FEE9EA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0449-EDA5-4BE1-AE21-EAE10560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39439C-5AFA-4A8A-8F93-033F8631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A236E6-EFFA-4CAE-8FA8-3C4AEA39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A1135A-B737-4DCC-861D-50288BED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BF2F-3B1E-4D2C-883A-6E47D2E0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DE3C92-053C-4813-8754-5D64DCE8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B528DB-147D-4574-ABBE-D534BC2B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F974D2-25C7-4B2F-80A7-8859806F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9017B4-BFD8-4A12-9307-483B9160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2FFAC7-58EF-415F-A740-7FF94825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9B890C-9A4F-47EC-BABC-49E93159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79E5F7-0CCF-4D3C-BBFC-6E6B6931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0D6C19-8213-4773-9C98-FE7DE859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98D180-C458-4B4E-9C8A-B8D8C34E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92E630-E2C1-4D6F-82EE-05DE83EA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D87D-6E66-49C3-8361-3E2486F9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633F41-FCA2-416E-84C4-4E3D8B92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0A2F69-2BC9-4446-9F0B-B0E05A17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9E659C-A554-4AA1-A728-0B760593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8974AE-8827-4420-A891-6CC2F9D5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406DF4-3836-40B4-A443-5C144CD9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CB8C1E-7DBC-4B58-87E3-88A846F8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99A684-0216-47E3-8028-786E8C54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423E4F-B527-4690-BC86-2A80847B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0E11A8-1265-43E8-9223-A09E0E91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D17440-CF44-48F5-A05F-D11935C3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8A4E-5B20-42A3-A77A-221E1C18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62C8E2-D613-468F-AE31-EF222157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1D3AE8-46E4-4721-993E-DA81DE67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37DD3A-5B99-4CA7-8E7C-95A7BCAD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173DE2-4336-4547-AB97-7F799146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754841-1949-466F-80E7-269876DE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52D84C-D822-4CC5-A426-3746D2FA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D35103-711D-4104-815A-07868CFC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0F4DAD-CCF6-4006-B633-A61A6BB8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9ED1C6-AFE0-4C34-B5F3-DB5C2839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15D29B-CE6F-4E29-9391-6E3C0C92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50D9C-B799-48EC-AF3F-AA9DACC2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D27FE4-2E0E-4702-80CB-180EF40D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E7AB72-6755-4023-9D41-C456CA05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398D4B-DAF3-4D62-9CF2-53A2D0DA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D09BAB-CDFB-41CA-99D7-B219F8B0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F46E65-851F-480C-BAAE-ADAC6C39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8C3E6A-FC07-447C-8913-ECC39FC0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219AD8-1144-42FA-B66D-1F5A4F7B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4F4A61-3C9D-4D9F-926B-42367284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0BE583-0B19-4203-8723-F19712A6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05E2D4-9D12-4D8A-9A0B-77323392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2308B-86FB-4966-BCC6-13D7E233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6F37B3-925B-45ED-B4F4-0562849F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720ED9-B699-4BF6-96A1-EF96A8CA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A40B5F-318C-48E8-BA33-73D3E668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48E5A4-F068-4C62-83EB-CEC5CDF9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4FD361-E912-4357-B02D-5FD14673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C093B3-8D4B-474F-8D1C-F32BED0A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07ACA8-09A5-4E3A-A4A7-86532519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3B6A60-48D0-489E-B6FD-1711A6A7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B1CFA9-7B95-4AE4-BFC8-CD6B8F5A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7155E1-7E48-4337-894F-E4841D12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2C7A0-20F9-405D-8844-4FA21DEE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CBD5F9-7C24-485B-A867-389161ED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B7E266-2968-4AD0-9CE3-09C30FAA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6229BE-89DE-4CE9-A4D9-B47DC53F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D31DBD-7C15-4696-89A4-A5A13180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B377BD-777A-4863-93D5-0EB2C613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979F87-3523-4371-ABE0-8D7046BF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AC0379-090B-4BF3-9EDD-0495068A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ADB89E-9C15-46D2-89B4-7A8C2202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67ACCE-3C95-42EB-BFCB-1D02B6AA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7E0CB0-7A8C-4B2B-A252-91875946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9A7C8-B53D-42D8-9748-4945AF69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B33412-0C1D-428F-A196-A7D48D37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B80BCA-435D-41FD-8DBB-77F0EFD2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59E439-1962-4CD8-B2FC-2FD8E3AD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CC590C-DC86-498D-9239-DA913F3A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57CF05-917E-4E1F-BBF8-265AFF3F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D195B8-BC1B-41A0-8C7B-9A72BEE2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497C60-5C27-46BA-90D2-2845CD07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5DC984-9A4E-4D18-B2B1-90FB29AB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5462B6-D8A2-45E3-96F4-0DAB3410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6E1971-5952-4271-A507-B2006DD6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20C44-9A51-418E-AEFF-F366AA8E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CCEF16-D879-42A5-962B-2899B1DF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C680E5-F145-47F5-8186-CB0FC298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F2967A-4B82-49D5-908B-FD206657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219E7E-2D3A-4C4C-9180-167AA72D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EC7F96-FDA2-449D-90AF-68F49DA6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79B0A7-B894-4EA3-9A51-CE090B3C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BE42BB-4E65-40A7-BA29-4EB3CCAE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03F82F-EA6D-4FA8-A6AA-41FB4A54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371AAF-F172-497D-947F-54661186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AEA5DF-186D-49DF-96F3-135FAAFF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B0B4-D846-4E00-BBF3-8EB0D29C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50E2A-9DBB-4525-BDE3-751F4638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FEDDA2-4AB3-4696-BF1A-7B74BF74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65D0DD-671B-4CFC-B494-C773922F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B61922-3757-4918-89FC-52F436B7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3ED682-5621-405F-BF9C-A109F7EB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6D5083-16F8-4A60-8FA9-9AA4D6B8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D79973-5F61-402B-956E-C8B56BED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2F0AE0-B7DA-4934-88F3-D0B9EAD7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5264FE-9269-4B4B-AB2D-9D181AA1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665E62-ADC5-444C-BE9E-10C06690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8A3A5D-9D44-484A-B615-B145F9CF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90C8F-6119-4629-968B-B5732F32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781149-4464-438A-A725-E09AE260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E08386-642D-41A7-8DF1-32DACDEF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BFA24E-53D4-43AF-AD64-48B81A2E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8FDBD4-704F-40E0-AE78-EF10532F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772C89-2315-4ABB-8BE6-23017720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D4887E-7720-410C-9B57-EE7AEFBE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2E921F-5CC2-4D87-A47A-24619B2C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357E64-CDAC-41A6-8A20-1D3C27D8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544405-BF2C-43E6-BC7E-00CF2EA4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049C27-9C8D-423D-BD7A-1624136A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D2D6A-E936-4B2A-B654-C679FAAC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45940B-94D7-4318-AB96-AB206249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998963-5F6C-4F95-97C0-67B6043D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182E17-B1F5-4EA7-9ECD-5D79B0FE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6AFA0A-BDA5-4FA3-B5DB-1760E787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20D2BA-1316-4C10-8786-4B5A345F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A83ACA-C92C-49D1-8AD1-FDF68F0B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F78FF1-022D-4F6C-8B6B-7230DB69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33A352-5D12-463B-B8C9-4481683B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7068EC-C2A4-4886-A6FA-5C607D8A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EB397F-A931-40E0-9E4C-F39FE40E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E2F05-1CAD-4BB2-97EB-F318E6C6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0A2E8F-B3F9-4B47-BFED-C7997B48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1CB66F-E231-4446-A95B-6A26BC26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E9A78A-1920-4FAB-B1EE-F2E8A470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424DC0-A44C-4E66-81CA-31FD5842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D57E10-4C74-43E5-92CA-5270B284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B0F981-F4F6-47FB-B53F-24FE2CEA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D9E162-8874-42AE-918D-B54A9CDE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7ACD2D-AD44-47C5-A640-F007C9B0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927E1E-EAB8-4C01-8929-E3CC507C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6FFD9F-FFCA-45A0-9C69-74F6305E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1364A-0493-4B99-89B4-83ED2CA9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8FEBE8-8AA1-40CF-A568-DEB999D2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6AC75A-1B9C-4916-8D59-0AEA8C45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3330D7-DD0A-4A1B-855E-E53FA0EE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6FC1DA-DF46-48AA-9A44-90CFF53F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2C5282-2317-4227-9DDB-F07F246A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A64157-7357-4BDA-BB1A-0B4B09C3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0DC1EC-015F-4041-B51C-3D6A2EF8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26FC94-6461-4D2D-B6BE-6842A902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3EC3A0-5EDB-4C2B-8733-36E6C84C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4D1C8-C4D6-4B62-9BE9-E9ECDDEB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5F176-E55D-4D8F-B91F-F335B1D1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CDA84F-8E6D-4155-9654-9FA5A7F7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2A4936-2731-4AE4-984D-B4BA9F52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6E5298-28C2-4501-B66B-A75F79B8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64BC1F-86E0-4208-964C-55C0321C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F4130A-902A-471F-A2F8-14073226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DF4286-2750-4BA2-BDC4-7943E992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CF6972-4234-4CFA-882C-BB839C2B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75AFC5-C539-44CE-8A5C-C8E613D7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DF4603-0CBC-4146-B253-99931442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A80BF-F83D-47ED-A26C-2FD61A1F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83F315-312C-4D15-B68D-F3A5EB83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A3E5FB-3594-4505-9CAC-877EFBC0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EFC2C4-D5A7-4C4E-8C32-F6E6FFB5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2ADEF-D366-41F9-A20F-E68A66F7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86E9BB-0235-4497-9581-81D8FCAA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B1EEE1-2C19-46F4-9D36-C985FAF2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9CADE3-2BDC-4451-9DFF-B6451808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F31955-1AB8-4CE4-AB1A-6C1D4B84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636C7D-BFE4-4767-80BF-4464BFDC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6BB7F-AEA7-425D-9E41-B832B559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A79E74-AB14-4975-9841-58BDE1A1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0E6A42-49A3-409B-ACC0-8B40028C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67AF04-E1BC-45C5-BC90-4D8A1D3B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F7C9EF-B092-421B-AE34-A1E9F241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D16F93-247E-46F6-A56A-60F93B38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A53D96-C6C4-4CA9-B2C3-70F46457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1ABAEA-0876-43F3-A94F-A2716384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66970E-3F03-4176-9C39-C0FB5C7F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BCF350-275D-4DB6-B87C-004D58D9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0121FB-DCCB-430A-9C92-7190C5F3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D87B-5110-4D9A-9932-049AD1F4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F5A63-2E90-4EF9-BC4A-8E861CF9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61D401-8F84-4506-8F83-F7854CA7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F73CFE-8CDA-4DD0-BB78-F9FE8285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D28514-DAE7-4109-9B16-2ECB754F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C4F4AB-E420-4F2C-AB15-064B6E73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938B26-A76F-4161-AA55-5D4D9534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6DFE16-5591-4869-ABEE-18C5F4CE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E21633-E926-4D26-82C9-13879736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0D5864-0560-417F-AC35-9C3CCEAA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BA6F00-255E-4FE7-B2A6-59157050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287C14A-4C04-4D64-AFF1-0FCB88EF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72ADC-C76C-45D1-B2AC-B7DA42BE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9E6911-801B-48BC-9875-AF1C5CCB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25645B-1D35-45A5-B4B5-3947F32A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36434A0-F3BB-48E3-892A-B9E995F8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1402887-36C0-48B7-9DA3-6F437AF4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478611B-89B8-4062-8146-C8508EB9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6681E67-F11B-4CE5-B24F-38CC422C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2E3B750-FE30-4F61-A923-2EA9E70B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645F7C-0645-4A07-AAE2-D487E9B0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78B722-7221-46C7-AE4D-5C9E80D5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704A8A-53FE-4998-886A-6B1AF099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97075-985F-43C6-93D7-586D359B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231DA27-425B-48D5-88CB-FAF60EB6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664F06D-18CA-49F3-BE37-A94074C7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5C2565-EE47-4B6A-A1E1-7C1CA1DC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B754B7-20F8-4C98-80C1-0EAC1061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2DCC734-A44A-4A06-B5F7-EBBDDD3D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9FF5A0-FC92-4A72-9D28-1B739D31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6840ABC-1E03-4480-BBFD-A872F8E7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40BD72-CB13-4863-8B22-DAC0EC67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C4D66E-5E0C-4DE9-8B36-25E026DD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5B154B-D46D-4BC0-A8E5-E475C43D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F7B3F-841D-4942-87CF-3A76959E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B9D349A-4C9D-41C1-9A3A-F37BADDE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8FCA3E2-1D82-4144-8903-54CFC6F4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1B5B41-1180-42D6-98A3-DB4828BC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61A8D30-CF3B-4CD4-B7AA-3A8ABEAB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EF373B-4F07-45F6-955B-9631A08E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4A31206-A5ED-4EDC-8894-CCC58EE9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813E9F8-3A83-4A95-8260-0927134C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0A7D1EC-0EBC-49AB-95C1-004530D9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4A7507D-D471-46D8-B31E-F9C2BA82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65B64FD-833D-4A18-A373-46227C37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C3832-CBB5-4B1B-B14F-75544B8D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6B77567-4DFB-412D-8D7E-D927296B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42186F-E893-4F15-9E4C-FE9397D5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7C8E325-D665-4699-AB8A-74E11195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5230F8E-F593-4A7A-B9D9-C916C105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1D0E4B-B8C6-4613-AC40-6B58EF70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B6838E-1071-48EC-B5AF-A623BDDF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E4D4665-8E26-4803-8BEC-CA65BBC0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B9385D-3370-4216-8AE8-1594455C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EB3F95E-640C-4063-B227-887E4D1A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F0CD336-CDE7-4A90-866B-37FDD52C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6D2B1-1565-4896-BC74-C2636541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053C582-CC41-475E-8C30-DF028F62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0237E0F-4A8A-4743-90A4-D0E7F64F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3EE225-D6D2-4154-8643-D02EB365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9654698-BDAD-4713-897A-CF823A2A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1E81371-9A3D-47C6-801E-F7DD034C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665BBE5-C4C6-4130-9AB5-6FC9D55E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5032D31-D760-4F71-8B4D-70C536BB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333A003-C49E-4963-9154-F936FFCE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87A4F72-6F22-49A6-9411-E96D397C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6D0C9AB-49C2-47F8-A3AE-3522FE3B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AFCEC-AC8F-4AC0-8149-1BE419B5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5FD75A7-F62C-49E6-9125-2A2F9058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498BB9F-8FE5-49AC-805C-34401630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C7D38DD-7901-4254-A4E9-3E8EBFC9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663326-9DFE-4DD6-9142-28690C11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929A10C-9336-42C5-8F84-302117B3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6D01073-3BA7-4852-9AE8-3F9B3691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CA518F-5785-41A1-B0F3-F355C167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DA9490E-E65A-407E-9C88-717B6B22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6C0644-0C29-4951-A293-C76DF828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11E6299-9BED-4758-928E-304817FC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6C28A-E9F6-4611-AD3B-B031B6A7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3E014CA-B394-4BCE-9AF1-E784041E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830376F-28A9-4747-B1D2-206E240D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BD648DD-80E4-4458-9F55-B65B102A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FD75AC0-14C4-40DC-B56E-67406EF2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5895D8C-9F41-4F62-9F86-32E120DC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E203D0D-7DCD-4B45-AD2E-7940C89E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0BD72D-3346-420A-8ACC-F27F3B7C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D2C72E6-E513-4A09-9E17-B9CE6462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08885B2-99A1-42D0-B92F-67D24909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85B5AA-E509-48F7-991F-64AD6D32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944AF-33DD-4F18-8FEC-F5A421F3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9ABB9AC-8E13-403D-95F7-772AFD82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522342C-8E8A-47B0-B808-5918FD10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FEED9E3-E350-4225-A981-D1DEB8B6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88D763D-94EE-4895-9E43-257840CA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36C9ADA-CDBC-4161-ABF3-4EA1426A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02BA3ED-22A3-4320-890E-1149363D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C457CBD-ECA3-44C1-ADBE-D59D063D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1E9006E-E0B3-429A-ABCA-BE2489CC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D2250F4-4ED3-48BE-9EA9-8827E6D3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7943C20-90A7-4ECA-9F63-550AF28E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6B561-0A1B-42E1-9ECE-0BDB0B2F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EFB99DC-C709-475C-84E2-F4D7093E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9BFAFB6-97B3-4742-8E0D-9BB37587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4923D7C-73F3-4B46-A5C7-3E552502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9D6DF84-E171-4DFD-86F3-DFDF41D2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A270AB6-A0F0-4A59-A342-16DE50E6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9745D9E-0A1D-496E-9159-4F9EEBF0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6935F78-74BD-4C6F-9B1C-FACCA9AF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680D106-D78C-449B-83B3-6C42A8D6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9798AAB-9A21-4BC5-B9B5-509D81EA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156D503-242B-48B5-A36C-17C81265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DB09-03F6-4E7D-86FD-B42F689A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C76F8-53AB-4132-8B3C-76992969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382450A-CAB8-4FEE-9EB8-7E6FE2CA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955C7CA-E291-4C4B-803F-3D6B38E1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473CA83-1E2A-4049-9640-5B082500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CE25AF0-155D-43EF-BF7E-F28085C8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C713E28-21C9-45AE-9F05-01BACF58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BEAF92D-FD0E-40BF-A898-A04CCA5F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12BDFC2-B02C-47BA-B173-3EB6B422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1815818-F44E-4E35-B3BE-49E4201B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ACC7E2B-2CCE-4392-A99B-F79FE0EA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9E7A6D1-F279-4D53-AE9C-318D2D23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39E1B-76F6-4CE9-893A-7753670F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5AFE527-C536-427E-9DC1-7C876634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5D9889F-BAC3-46AF-8E2C-CE5215EF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97C59BF-934B-405F-9E95-BE27E74F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78BAA89-C2E2-439C-AB47-83B344F8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74DE30D-8656-4295-871E-13ADF7ED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B15F8DE-C36D-4F6B-92B5-AAC6867B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6D004E6-1F8B-4BE3-9383-972938E5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F1836C4-443F-403F-A5C0-9481E134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D59FF39-4573-47B1-B4C1-2392766A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CF49CC5-6DE6-4528-B393-85149468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38C2F-EB82-4FDC-A026-B79D7729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15EB276-0657-4A63-9C3F-78228CB9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548CD29-B7F2-453A-BB64-B6D775F4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6C879D7-7CD7-45B6-A894-08B5D8F5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551538B-1FE2-462B-AFF1-5E727530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EADFBE4-1AAE-4634-B89C-092D5CDE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0018212-C488-4B29-9906-0D48535A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47BAC53-E288-4E7B-AD2E-F25CA3A5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CD9FD6B-2D33-48D1-9806-13DB4417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1BAF2E1-0861-4D1C-AAE1-3D8380EE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0BE5A-BC1E-48FE-8191-FC72BA88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C144D-6DC6-4554-9A00-DA1BEC49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1950DC9-0FD3-44A8-A6E7-64F9F036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963D9EE-0202-41BD-9A05-71F3727A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8C2C7C9-B694-4354-BFF2-FB75D3AF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6632FDD-17B5-4726-A759-B484819C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2BFB6E5-9CCD-49EC-BFF3-7FC8F893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1B0CAC4-61DB-4471-BC37-21FF23CC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6621B1F-C474-4020-A8CF-1166AC1F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616162F-042A-4B9C-B40E-967E62E2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A34CBC7-0CE5-47EA-80C2-C8C4ECD0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F0C69-513A-4F80-8DCC-A1819094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2ACD64E-3AFE-49AE-993E-0417405F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F4E45D2-7D86-4955-B0A5-DD32FB81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013370E-D4E8-4278-B0F5-955D40DA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88F6B07-3750-4C14-8EA2-64D370EF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823F644-B2F9-45F0-8CDB-9FB47D08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5E59F76-2D2C-4094-B751-C2AC3130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DD2BCE5-85CA-412C-AFBC-14A9AB14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FC4543F-8C45-4786-9CB1-609A113C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80A0BB1-59DF-44A1-A28F-7284AC32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CBCF94D-F2DB-43DC-83C7-E6154F96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B73A3-9699-417C-82F6-87D620C7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574BE33-DC19-4956-9A2D-1007B698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24C093B-B7C9-4271-A0ED-E8D9BBD3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1870320-B9FB-4D41-9F35-A4DD30C1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AB8EB12-2427-4FA6-9403-E74B24AE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71856D1-88F6-442D-949C-01E2CDF6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BB9B340-28DC-4B4C-80C7-3E3A6D57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8B017C3-8C6B-4617-B8AE-DCCC6409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8F262C7-4899-467B-935C-4ED96D0E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786138D-0FC6-4E2C-B688-8CDCAAC3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F17AEF7-1AEA-4AF6-AC58-89E8FA9B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63E69-CEE1-42EE-A2D1-CF15A4AD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1CDE6DD-C6CE-4810-B1E4-E5E7BCAE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B665C74-048E-49D6-A8CC-02C6CD23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E97831B-225C-4918-AC19-1382A96B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7EA492C-270C-4117-9918-F30254B8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374DD84-0413-4665-8D22-67A8E579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71506B2-FFF9-434F-858E-0E4664F0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97ABD30-930E-4A5E-B025-DB6E93BD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2BBC13D-D3A8-479A-ACE9-506606CF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9C4CA85-3380-4177-96F9-FCC952DE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4F7B334-508D-400A-AF4A-757AC64E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4FB53-8877-453D-B8AB-5206E341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3A33013-4DF4-40B0-A21C-92F07557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D78666C-463C-4F84-8D9B-AC484E88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D3E838B-9400-48FC-9BCD-ECC9831D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40B527B-AEE6-4F45-9A67-48C23482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595D1AB-BAC6-470D-8B08-48EEBA7C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C812DAB-969B-4547-B34D-8BAA5335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370D7D1-EBE6-4FB1-B085-29E3D838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2513BC4-9C3A-437C-B511-B17F9A0E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E0A9B85-81AC-423F-AE4B-D00C4CD7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D3F55B1-0B47-40F2-86F6-B95B1636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67826-A26E-4E92-80F6-F2972082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AF8A486-885E-472E-A9F4-9F8E2A0C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600BA5E-10BE-4DD2-A8C9-3DCCEDE0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69F2D9C-48A8-448D-95C3-458820B3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84BDE1F-11F1-47E6-9C52-90E31E71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D9C3CC4-F0A5-4510-9A3F-DC135CEE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A874F39-D4C0-454A-88A6-F01E011E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B1DF0F5-08CC-43F8-9758-54D47E91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7C43944-2380-4C32-9598-CF8DCC77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B8B9EBB-0D68-46E8-9507-F7A01DA2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F82E576-3825-42D4-973B-766E8F62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E93-3245-4190-A4BA-88A1B3E0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D3C1D-1646-4E9E-A513-CD6ABA79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E23B8C6-6AF4-497A-AC29-062F6423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81493EF-0DA7-4E08-BEAC-24B55AF8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197C387-2E5E-4A44-BE22-C3DE1466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2146F8E-D9DB-45BC-B3D2-A971A29D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1EDA87D-7357-4A9D-9171-92647A0F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B04DE72-2C8B-4EAD-AB8C-920E534F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892D868-FBE6-4C5E-89CF-54FC7261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DA8B930-B34B-4141-95E9-1B108903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0DB83D9-ECAC-47F4-9A17-07D0800C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5F7B7C9-9188-42E0-9A47-6795BB0F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84297-5302-4062-B773-6C533645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6E6A4BC-8494-4067-B4BE-EF75DA61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A833751-3192-4A14-AC0D-044C0719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8A2E520-316C-4C37-8B05-C7374EC3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493CDFA-B16B-4B9C-8290-98CA001C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10638CD-8E55-4FAD-9A84-B3E50991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9C3ED43-6986-4308-9BE9-09C83450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478569D-418D-4580-924A-2BE5A9E6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1A87C79-D10C-4246-8D1D-EA74D820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C9D4F96-447A-4E5D-A254-6687202D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2373F4A-B28F-4F31-80A8-6A95407C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98B12-D214-4216-86A4-3C69EC2B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4FDEAFF-E193-4359-99A8-41E3FDB7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1BB4BBF-87C6-4CC4-A8EA-6F164605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2C7727A-B518-4F58-9FE3-1E9EE063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DD2B221-E2EA-468F-955E-58123BFB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A08B001-39A4-4F2A-A75C-ECEBACEC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907CE3D-E3D9-409E-AAD9-D6601F88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6564B98-5EE7-4A52-B76C-B645C358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0A34946-8DAE-49A8-B619-0439C714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BEF8FD9-1FBF-4E30-8269-13BF20E2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2EDE4A6-9003-4A0C-B025-0221DD0E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35AB7-F85F-4921-838E-10432F05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8CB5C55-B194-43C5-B0A3-B25BFDFE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062729B-577F-4E37-BEA3-650B075A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C54F765-EC32-4043-B91E-A764EF38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6F9CFA2-0F98-4B31-96AA-4990A72F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68A9D96-29E4-4F21-945D-3E4B9CE5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DA0089E-BE85-42E1-9190-76122F58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7E0323E-4919-4044-94BD-6EDCB76E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4A0B3E3-7577-434C-8A9A-AAD14B38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CECBEEB-A8C6-4C66-8432-B0B6537B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1E5E82E-D3FC-44C6-A2BE-7C122D2D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34261-1866-4067-9C55-BD1130C7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A734B51-0207-4560-9491-CB37AB89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FAA2282-A499-429D-A541-1079F29B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2BB7E1C-AD3D-4AF1-A338-A41B350A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062713E-E6E9-4089-96EC-DF82AAFB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CC38CB9-EDFF-481D-B021-8DCBBF0F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4B5A2F2-B583-476F-9413-5A5ACEEB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F31E933-CCB5-4904-9920-6F47E09D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877DC7E-880B-4F0A-81DB-34456387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F3DE2C1-66D2-4146-AC43-976D8F44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95C42D0-6C98-4C69-9AF3-4591F745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27AE7-9DCE-4A4E-9BB0-12679AE3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E0B61CC-DD5C-447B-BA6F-B5034584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8434C7A-E625-4E62-AA22-B387CB1C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2DA87C9-353D-42CA-8332-D1E934C0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7F06200-0AA6-44E6-9AA5-8D8F71D4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945F610-A3D6-4C79-9BD5-D74AD1DA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B16B0F2-F16E-4F82-8F13-291C2423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73558E0-4395-4B0A-99A0-4817F9D5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810683D-84A6-4F0E-975F-C54480D9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FCA30D1-13D6-4A35-B198-7B20E062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BB8260F-A133-4E01-8A03-9F2742FB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22325-B645-433C-8247-EE3A00D7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F6F5406-F1D9-4B2A-97D5-74431C32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63E4112-43B4-4794-8597-EE191136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1C23BE9-93A3-4691-A33F-DCE80569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54DA239-AEE4-40D9-95A7-11E942FB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A31B2B9-8C29-4F72-B001-0D21DEAD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EBC25FE-5CA2-4950-8152-DA119B5A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7B34264-BA48-4041-B871-D4355515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9BA61B0-5861-491F-94B9-85576EE5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4698C63-819D-44AC-B1C2-FCEE8072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366B803-4E8E-48CD-AEAA-74B05A4E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15380-6605-4C0D-AA7F-543A0AC0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61D7A79-40D3-40C5-90F5-B51F6C16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77BBCC3-400E-40D1-A057-07EFB6A4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522D0B1-1C71-4A35-9E0C-A628E8EE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6ED1F-75DC-403A-B5D6-D7721AB8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4687940-FAB4-4B7E-B7F6-099DE9C5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F234333-4E4E-4355-8E14-EFD76200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7474B78-D763-433A-A1AE-0C183F12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BDDEA3C-45BC-4347-89ED-5F465B85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FBA68F3-FAD8-4AEE-A8BD-93121D92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350AC-1AE7-430F-8BFE-AF745E88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6B38AB9-F25F-4209-93ED-30142AAD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A09BC34-0E47-43D5-9BB7-21BAC7A3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581B9F5-97E3-4EDD-80F8-597C7E3D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F8C6A90-9BBE-448A-BE3F-BBF9A8C7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656E3A0-8973-4694-9BD7-00E446E8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D04CDE1-44AC-4F22-B99A-F232106F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4FD3BE9-4D53-4E28-998B-D3936191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0832458-F945-49D3-9AE3-EFBE5A23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3F85137-D061-48BD-8155-7F6D2AA6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9725853-2983-4AA9-9ADF-BC744029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A5A-062A-4B14-9E0E-9E8B3254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108C8-4C8A-49B2-8410-E75D1572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B02A6D4-4F46-4988-AB94-96D084F2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4B3F852-2C1F-4925-A2DA-81E07C69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6E25902-F230-4A8F-A242-09975AC2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520E128-D251-4C2A-9837-E45D444B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70EBA9C-C288-4149-9079-D57A1074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B6DF8A1-5B3C-452A-8895-7BC95312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47D9DFA-0C3E-4055-A266-175274CE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94CF109-0C37-4E6F-829C-2497D113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FCE5D35-4AF8-430B-A373-37D06BA4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B3E3A8B-FF01-4FDA-8AF3-D6F3CCBC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716D1-1850-4C87-847E-B23E5EAC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A85BA97-2323-4B5A-A30B-88CFA8CD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15B8320-2286-4B16-9B07-327DA285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1607B72-4F11-4B57-9F11-19912F87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47D973D-45DF-4462-96A9-8200B308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08407D5-9E3D-4B28-A500-4BBEDD50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71BF9AE-3BC0-467C-9380-D209CA0D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A0AF79C-93CD-4E6B-B829-27C7ED6B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7A446A1-1E36-4595-ADA2-25884F1E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8236348-6DDA-4F67-8EA1-F9CE3518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5D1DBB7-26CD-4C93-9ADC-BA896809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4EDCF-8E5D-4827-BC41-D17D393F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1786602-7A26-4005-B0BA-9CA1D64B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85CF1DD-65C7-4E5E-93E4-EF21C10A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2430A02-8EEB-417A-9D6D-34B11CBD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B8D6A2F-08E0-492D-A5C6-ED14497D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74ECC88-88DC-423B-A690-1E9596BA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9B1203F-DA89-4468-A499-F8D145EE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893F1E5-C255-482F-81BB-A842C4C4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B6E14FD-FF96-4B83-AC7E-18DA0BDF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9085F40-E80F-4D4A-967E-BD518F11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7FA6A82-98F5-49E1-9085-CC87BEDF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4F778-B6C9-4A8C-842C-AD5C6BA7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8946ACE-FDC2-48FF-8F95-FCCE76AA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8A5EB66-AD50-4A29-A414-4DB9B4A7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F9490AF-EA7B-4166-A762-85F99F59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6511576-8AA8-4520-AD99-EB5BE471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E052C6B-5497-4E76-81C4-030BA5A2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32AC039-9046-4C9C-A39D-98D7699E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AEE7172-C631-4EC0-B664-BA2A9139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3593646-357A-48E6-959B-FE10EAB2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2E5B7D9-B464-4183-A085-A754CBD8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71D1C95-670B-45DD-8833-66F0835B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4F3D9-4221-4A43-86D7-356E0236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5724ACD-6F7D-4044-A6BB-0E9ADC4D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66DA2B4-4B92-4880-890F-DCC4BB03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F52BA6C-EF70-4315-9EEF-4C46FE8A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D875F4B-4C9D-4CE4-8F48-1BF9DB37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A01103D-6C06-48C6-AA23-819DAD0D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E795FD7-74C5-43BF-8A6E-E97E1473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DEFBCB1-C161-4F79-AFEC-0F565ACB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5CABB96-4BC7-4D43-895B-C20D0295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5CDFC29-3E85-48B8-96DD-41C33863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E5AC547-5B58-4122-A14D-17274349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60007-FF1A-4404-BAFD-CFBC1856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7D7A055-1329-4BA0-9EED-C2C41905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FE459EC-A99A-40DF-B660-60E85846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D4CA4D8-B738-428D-9E68-F5001E27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205C83D-CEFB-4CAC-9CD4-15E7AE83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528953F-8CCA-42C4-A442-41910639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7DD26C3-1722-4714-A0F9-9B628733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B23EC88-A48B-4A96-85A9-CBC76B95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9452146-C313-4FC0-B3BF-9D1C665F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41DD9EE-E691-4843-A004-4945C98B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279FC51-E198-46C5-8840-1079029D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58E59-B23A-4CF9-A6E7-9514FB67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2EBC852-BD6A-4EAD-BB52-56C624EC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265C891-A952-41E4-B682-76DA65F3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083F8F5-C13F-4BA1-82A9-87172ADA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255EC86-401D-437D-A747-3C1B0005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B01754D-14FD-4B94-8817-3443B1FE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46D06D8-C9D0-420C-BCA5-50049308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2D13924-FE2B-48EE-AE1C-27135834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D2B8C04-6734-4576-BDDA-24DF0041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6644ABF-C67E-47F1-9108-FB351ED6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D2E43FB-20C4-481B-9D9C-03CAEE72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74ABE-7260-42D7-965A-7B6B56C6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0D7C27F-3EAC-4EC8-9A9D-B51024F4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B59C1F2-618B-475F-BAA0-39D7B20D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6733639-C01A-49B6-80E7-05BCC4B9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77360BC-8857-4CB0-AC3A-DFB72EFE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9BC8C15-0680-4503-A763-8753E5C3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C5414FC-0ADD-4926-B2B7-312103CA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8D46BA8-1BE3-44A6-9843-6413D0F5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92B5B9E-D3E6-4291-A281-D6FB1E36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9F5C3F6-2BD7-4FDF-9DCD-513894EA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014D857-624B-400C-98B5-929B5E25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1ADD0-DF8F-4F38-AECE-07C895D5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171BA15-1DAF-4539-B9F4-D13957F0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BC970C3-D09F-44B4-A99A-218F9FF7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AAA9616-9100-4072-9FF8-E0920BBF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4D16C47-BA71-4BA6-B689-40B6BC83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4FC43C7-C24C-4501-9BB2-F3FA8296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6AF3FA0-3D5A-4725-94DB-7F1EC624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AF5A8F8-0CE1-42E0-98E8-52C6EE39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DD78ACE-6B36-4668-A218-73B2BFB6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B7F9F8D-8BD5-4320-949F-7519332F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7A1B489-7EF0-49F4-B979-03EC19DE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ED293-B482-43FA-ABEC-2E81D3CA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2997EBE-278E-4348-A642-ADACB898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D675ED5-6F20-41E8-98DB-4DC70238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4A6FA59-B23A-4752-BBFB-D54ED040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74A0D01-1B22-4CF4-8B54-12952FF5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168C4B6-7CE4-4D1A-94B0-23782291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014E63D-794C-4817-975B-79B8B74F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2CF41FF-6A02-4CC1-97DA-89FF0417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0C01A4A-CFD3-4A5C-8113-593E3F6F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B926C0B-BF33-43FA-B08B-EB7C8017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BF1CA26-88DE-4D9A-81F1-E20DDA63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9F1-6DDF-450C-B7FC-098BE06D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3B502-6415-4D2C-AB44-07537232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93DC048-9C81-4C2C-A233-3ACD8BFD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79C7590-7DF9-426E-9E0E-30A2BB63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1A4CA83-5822-48BB-9150-C7745980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B672F47-8EC0-40FF-BE8D-00BA0E17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8F09627-BD2A-4770-BA8F-031D521C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0A0CDA6-E9C2-42E5-A447-F6BBFF3F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93065CD-F798-4F99-9E83-A0C2912D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71A6F2D-FE8C-4EF6-9544-EBC8EA7D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76C3A1E-F4C2-42C9-833A-80806439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54DEE90-247C-4DF6-8CDC-B4269669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2A592-37BA-4957-9D7F-2C9457C9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AB25370-4622-4AC7-9BB4-A2EEF15D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690F4C3-0B32-4E0E-A1C5-AE5E8CC2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B991987-0D6A-41A5-AB44-CA619383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7A7A85C-E6D9-4AD1-BEA8-45D864CF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C91C7EA-1C89-41EF-B08C-504FC734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F931DAF-B4CC-4C42-B5A4-89099680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1FF9B04-DBD3-46DE-8969-D597FB3B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407BE-7B74-4222-9394-BFA0518A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5CA2264-6C61-4803-9F79-35A23615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7390B-D9F9-4C95-9904-CDACD931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5C3BB54-E8BB-4080-8361-9235B5EF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6D81E2B-0F3D-421C-AF14-D949FA95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130DA26-D20D-4DA1-9DA1-1C1A2B4A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6634838-054A-4B55-82CA-2DE1E214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662D971-3864-457A-B305-9FFCD68F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5E20AE4-0F58-42CF-99AB-A76D3699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0C53446-17DB-4084-A861-E9CC9FF7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F54F73D-7B80-4D6E-ACD7-15DAE580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20171FA-2167-4A41-B582-C6C3AE75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4A2D636-7FE3-4010-9A84-1AC18EAE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7E582-6696-4F62-8092-702A2AEA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AF32E8E-DB34-4E04-AC15-C698A235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F7843-849E-42E7-84B0-BA97FC89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71425-C2CF-43AF-89A7-838AB52E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A0F78-7C0B-436A-8A8E-96B38DAD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88112-2409-4CE0-989F-198577F2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FA24D-DC20-4896-9220-75AB01F3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1AFA-7C25-4118-83D6-DF0933A2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7543C-AD07-4E08-AE7A-F35BFD20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954E5-0A0A-4835-8556-35E1671A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272B6-56B8-4E04-AE30-56AF3226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50265-2F4E-4684-8B58-D9007B0D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02069-D548-4FAE-AA39-69206C43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D8A42-3E0A-42BF-87D9-A5930C88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27C06-C6F9-4BE9-8FFB-094867F3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2B24F-81EA-4973-B343-AF5ECD11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A1676-B958-4D97-A9F3-21AD8351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B58B3-7AA7-4CF8-9BDC-C75D73B9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6842-88B0-4B7B-8ADC-3AC5E00D9B69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4F81-2905-40FE-8F4E-A3F677BCD8C4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BB9B-878F-4D76-BBC2-CDF8C36294FE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47E9-4200-4A6C-9204-1FA2B6A07E9F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63A8-C1D6-4A12-BAC6-B2B753A69786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6767-503F-44F1-95D4-E39CAB8C95F5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0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8C1C-4513-4684-B4D4-46D262131A76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70308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07DC-9A8D-4956-AA69-B432E8B5099B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A83A-A89D-458A-804F-C5E757EEF1E0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70196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89898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D41A-AFBB-4C22-BF19-C6585556E359}" type="slidenum">
              <a:rPr b="0" lang="th-TH" sz="10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48E4-1719-4354-9903-324AEFC14903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86D6-2621-4DC7-B992-103AAA0F8735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5B94-0A94-4EEF-92A1-5417211CB8C7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770A-2211-4220-B767-AB4E72D81768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B473-A929-4F53-B33C-DAF2B4080FE1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9B32-9F0D-4B1F-A768-780F1BBAA1B3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0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9DEB-8789-4B76-B139-A35064C1867D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242C-4D37-45D5-B34D-2658CA239BAF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6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787" name="Line 31"/>
          <p:cNvSpPr/>
          <p:nvPr/>
        </p:nvSpPr>
        <p:spPr>
          <a:xfrm>
            <a:off x="0" y="40114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Rectangle 8"/>
          <p:cNvSpPr/>
          <p:nvPr/>
        </p:nvSpPr>
        <p:spPr>
          <a:xfrm>
            <a:off x="4680" y="3259080"/>
            <a:ext cx="9144000" cy="681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2e9c"/>
                </a:solidFill>
                <a:latin typeface="Calibri"/>
              </a:rPr>
              <a:t>BETTER GOVERNANCE, HAPPIER CITIZE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9" name="Picture 4" descr=""/>
          <p:cNvPicPr/>
          <p:nvPr/>
        </p:nvPicPr>
        <p:blipFill>
          <a:blip r:embed="rId3"/>
          <a:stretch/>
        </p:blipFill>
        <p:spPr>
          <a:xfrm>
            <a:off x="3794040" y="2092320"/>
            <a:ext cx="1301760" cy="109692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2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F793-5D5E-4E18-9C7A-9FBEB8DC5634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54"/>
          </p:nvPr>
        </p:nvSpPr>
        <p:spPr>
          <a:xfrm>
            <a:off x="70401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3b3838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CD28-2405-4A51-9872-E3AF306753D2}" type="slidenum">
              <a:rPr b="0" lang="th-TH" sz="1200" spc="-1" strike="noStrike">
                <a:solidFill>
                  <a:srgbClr val="3b3838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3B74-815F-42A1-80BA-7D6A95CE7226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5B51-10CC-438F-B4A5-1D5BCACAC46E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8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A485-7A15-453E-B724-5696D496FFBB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sldNum" idx="57"/>
          </p:nvPr>
        </p:nvSpPr>
        <p:spPr>
          <a:xfrm>
            <a:off x="70099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9C5D-6F72-4B12-A883-0B80DE4D57C0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A8B1-A871-4A9F-87A7-56DB0E3FA130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60"/>
          </p:nvPr>
        </p:nvSpPr>
        <p:spPr>
          <a:xfrm>
            <a:off x="70099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4EE9-5072-44CF-943E-A81A38F4547C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0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E11E-F95E-481F-BAD6-BD8BB6772CE0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7C87-2669-4936-9D52-186F11F25C3A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6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0BD3-1317-45BF-B013-620E53A9E9FA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BABB-A102-4ACA-A6A6-7FA93A2CA960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2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F65E-340E-4565-B19B-75D091D5A5C0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 type="sldNum" idx="69"/>
          </p:nvPr>
        </p:nvSpPr>
        <p:spPr>
          <a:xfrm>
            <a:off x="70308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933F-813A-4005-B2E3-02915CF11649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8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1F24-30C8-4E15-BAEA-3FB2B8E37644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72"/>
          </p:nvPr>
        </p:nvSpPr>
        <p:spPr>
          <a:xfrm>
            <a:off x="70196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89898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A4C8-11C0-4DC9-BED7-81983663B705}" type="slidenum">
              <a:rPr b="0" lang="th-TH" sz="10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4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E3AE-4A5A-4D20-9F3E-AB89F06B1DFB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4C12-C305-4BA1-BF33-CE08CCC8A678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0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 type="dt" idx="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DFBF-0459-48DF-90C2-E9BA6426AE3D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 type="ftr" idx="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 type="sldNum" idx="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4965-C8A6-44BE-B2DC-7E5D5AB960DF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6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 type="dt" idx="7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F802-1D03-4EDE-BFD7-CF0C60645077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 type="ftr" idx="8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 type="sldNum" idx="8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736A-4A44-4263-BD4F-AEEEE6398E59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2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dt" idx="8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5430-9759-43F2-9758-B43716CD96C2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ftr" idx="8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 type="sldNum" idx="8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E85D-CF89-4610-BCF6-2150239D4088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4BAE-9D79-4B20-812F-25E11299569D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EBB1-FAB3-464F-9329-E41F45413CC0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3" descr=""/>
          <p:cNvPicPr/>
          <p:nvPr/>
        </p:nvPicPr>
        <p:blipFill>
          <a:blip r:embed="rId2"/>
          <a:stretch/>
        </p:blipFill>
        <p:spPr>
          <a:xfrm>
            <a:off x="8454960" y="81000"/>
            <a:ext cx="606600" cy="50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8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1339" name="Line 31"/>
          <p:cNvSpPr/>
          <p:nvPr/>
        </p:nvSpPr>
        <p:spPr>
          <a:xfrm>
            <a:off x="0" y="40114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Rectangle 8"/>
          <p:cNvSpPr/>
          <p:nvPr/>
        </p:nvSpPr>
        <p:spPr>
          <a:xfrm>
            <a:off x="4680" y="3259080"/>
            <a:ext cx="9144000" cy="681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2e9c"/>
                </a:solidFill>
                <a:latin typeface="Calibri"/>
              </a:rPr>
              <a:t>BETTER GOVERNANCE, HAPPIER CITIZE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1" name="Picture 4" descr=""/>
          <p:cNvPicPr/>
          <p:nvPr/>
        </p:nvPicPr>
        <p:blipFill>
          <a:blip r:embed="rId3"/>
          <a:stretch/>
        </p:blipFill>
        <p:spPr>
          <a:xfrm>
            <a:off x="3794040" y="2092320"/>
            <a:ext cx="1301760" cy="1096920"/>
          </a:xfrm>
          <a:prstGeom prst="rect">
            <a:avLst/>
          </a:prstGeom>
          <a:ln w="0">
            <a:noFill/>
          </a:ln>
        </p:spPr>
      </p:pic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4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 type="dt" idx="8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9581-F32C-4A3D-B900-BC1E548F26A2}" type="datetime">
              <a:rPr b="0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 type="ftr" idx="8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Malgun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Malgun Gothic"/>
              </a:rPr>
              <a:t>&amp;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 type="sldNum" idx="8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8BEF-6C04-4399-8C87-F155771CBF35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9"/>
          <p:cNvSpPr/>
          <p:nvPr/>
        </p:nvSpPr>
        <p:spPr>
          <a:xfrm>
            <a:off x="0" y="2552760"/>
            <a:ext cx="9139320" cy="1687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Line 31"/>
          <p:cNvSpPr/>
          <p:nvPr/>
        </p:nvSpPr>
        <p:spPr>
          <a:xfrm>
            <a:off x="0" y="4335480"/>
            <a:ext cx="914400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Line 31"/>
          <p:cNvSpPr/>
          <p:nvPr/>
        </p:nvSpPr>
        <p:spPr>
          <a:xfrm>
            <a:off x="0" y="2463840"/>
            <a:ext cx="914400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9" name="Picture 8" descr=""/>
          <p:cNvPicPr/>
          <p:nvPr/>
        </p:nvPicPr>
        <p:blipFill>
          <a:blip r:embed="rId2"/>
          <a:stretch/>
        </p:blipFill>
        <p:spPr>
          <a:xfrm>
            <a:off x="4089240" y="5911920"/>
            <a:ext cx="962280" cy="809640"/>
          </a:xfrm>
          <a:prstGeom prst="rect">
            <a:avLst/>
          </a:prstGeom>
          <a:ln w="0">
            <a:noFill/>
          </a:ln>
        </p:spPr>
      </p:pic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2" name="Picture 13" descr=""/>
          <p:cNvPicPr/>
          <p:nvPr/>
        </p:nvPicPr>
        <p:blipFill>
          <a:blip r:embed="rId2"/>
          <a:stretch/>
        </p:blipFill>
        <p:spPr>
          <a:xfrm>
            <a:off x="8454960" y="81000"/>
            <a:ext cx="606600" cy="509400"/>
          </a:xfrm>
          <a:prstGeom prst="rect">
            <a:avLst/>
          </a:prstGeom>
          <a:ln w="0">
            <a:noFill/>
          </a:ln>
        </p:spPr>
      </p:pic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 type="dt" idx="8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F68D-D7BD-4652-9241-551050410476}" type="datetime">
              <a:rPr b="0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 type="ftr" idx="8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Malgun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Malgun Gothic"/>
              </a:rPr>
              <a:t>&amp;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 type="sldNum" idx="9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98D0-A82E-4506-A617-0675D7EDA820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8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 type="dt" idx="9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FF8F-5DC3-4BFF-8892-77929FE22DC4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 type="ftr" idx="9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 type="sldNum" idx="93"/>
          </p:nvPr>
        </p:nvSpPr>
        <p:spPr>
          <a:xfrm>
            <a:off x="70401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3b3838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92C5-027D-43A6-A5F5-CE1F98B9E6BA}" type="slidenum">
              <a:rPr b="0" lang="th-TH" sz="1200" spc="-1" strike="noStrike">
                <a:solidFill>
                  <a:srgbClr val="3b3838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4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 type="dt" idx="9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423F-E39E-44D3-A587-D26FFA29C3D4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 type="ftr" idx="9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 type="sldNum" idx="96"/>
          </p:nvPr>
        </p:nvSpPr>
        <p:spPr>
          <a:xfrm>
            <a:off x="70099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1619-19B6-480F-B70E-54899BBA5001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0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 type="dt" idx="9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820D-470A-4903-84E8-30D916F802A2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 type="ftr" idx="9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 type="sldNum" idx="99"/>
          </p:nvPr>
        </p:nvSpPr>
        <p:spPr>
          <a:xfrm>
            <a:off x="70099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F76D-B062-4418-8117-47C52212C615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6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 type="dt" idx="10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65FB-C2F4-4982-9BC7-12E484185E11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 type="ftr" idx="10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 type="sldNum" idx="10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AB9E-6690-4E9C-88DB-A67ED085D00A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2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 type="dt" idx="10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DA24-31DA-4248-9BAF-37DDAB39A586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 type="ftr" idx="10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5"/>
          <p:cNvSpPr>
            <a:spLocks noGrp="1"/>
          </p:cNvSpPr>
          <p:nvPr>
            <p:ph type="sldNum" idx="10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5728-439C-42FC-932F-A3E2CD98A803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8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 type="dt" idx="10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1094-4AF0-4606-93C3-8090674E7EED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 type="ftr" idx="10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 type="sldNum" idx="108"/>
          </p:nvPr>
        </p:nvSpPr>
        <p:spPr>
          <a:xfrm>
            <a:off x="70308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791D-C5E9-4FB5-961B-731C4F4499AE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A120-E7FB-44EF-B40A-2E9387BA4585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89C2-203A-4F19-A416-CD893A1D8E94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4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 type="dt" idx="10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7BAF-C427-44B1-B2C4-62446549B383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 type="ftr" idx="11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 type="sldNum" idx="111"/>
          </p:nvPr>
        </p:nvSpPr>
        <p:spPr>
          <a:xfrm>
            <a:off x="70196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89898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9CEE-0C0F-47D6-AFAB-E0FEA0AD1E75}" type="slidenum">
              <a:rPr b="0" lang="th-TH" sz="10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0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 type="dt" idx="1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7FD0-7103-480E-9CE1-5527C287A60C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 type="ftr" idx="1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 type="sldNum" idx="1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B712-5FF8-4163-A6AB-5CF0301F0ECF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6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 type="dt" idx="1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78B6-0B68-459B-AD53-9EE745F63D12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 type="ftr" idx="11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 type="sldNum" idx="1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B93B-2A50-41C5-8A6E-7B42AC281671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2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 type="dt" idx="1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3DD7-5B18-4199-9813-F59D7122322A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 type="ftr" idx="11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 type="sldNum" idx="1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0DFA-17DD-4AFA-9582-4E2B76A1D762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8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 type="dt" idx="12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811A-BACF-4ECB-9B05-C10F8B2184F3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 type="ftr" idx="12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5"/>
          <p:cNvSpPr>
            <a:spLocks noGrp="1"/>
          </p:cNvSpPr>
          <p:nvPr>
            <p:ph type="sldNum" idx="12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E99D-9987-4965-BE2C-1AF2D00026F5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4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2025" name="Line 31"/>
          <p:cNvSpPr/>
          <p:nvPr/>
        </p:nvSpPr>
        <p:spPr>
          <a:xfrm>
            <a:off x="0" y="40114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Rectangle 8"/>
          <p:cNvSpPr/>
          <p:nvPr/>
        </p:nvSpPr>
        <p:spPr>
          <a:xfrm>
            <a:off x="4680" y="3259080"/>
            <a:ext cx="9144000" cy="681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2e9c"/>
                </a:solidFill>
                <a:latin typeface="Calibri"/>
              </a:rPr>
              <a:t>BETTER GOVERNANCE, HAPPIER CITIZE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7" name="Picture 4" descr=""/>
          <p:cNvPicPr/>
          <p:nvPr/>
        </p:nvPicPr>
        <p:blipFill>
          <a:blip r:embed="rId3"/>
          <a:stretch/>
        </p:blipFill>
        <p:spPr>
          <a:xfrm>
            <a:off x="3794040" y="2092320"/>
            <a:ext cx="1301760" cy="1096920"/>
          </a:xfrm>
          <a:prstGeom prst="rect">
            <a:avLst/>
          </a:prstGeom>
          <a:ln w="0">
            <a:noFill/>
          </a:ln>
        </p:spPr>
      </p:pic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0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 type="dt" idx="12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421F-E606-49D6-8BFC-B4E525715C9C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 type="ftr" idx="12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 type="sldNum" idx="126"/>
          </p:nvPr>
        </p:nvSpPr>
        <p:spPr>
          <a:xfrm>
            <a:off x="70401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3b3838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F2A2-767E-4F19-8EDE-5EBE8A2E4F16}" type="slidenum">
              <a:rPr b="0" lang="th-TH" sz="1200" spc="-1" strike="noStrike">
                <a:solidFill>
                  <a:srgbClr val="3b3838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6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 type="dt" idx="12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738F-A017-47A2-8490-4150463BC0F6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 type="ftr" idx="12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 type="sldNum" idx="129"/>
          </p:nvPr>
        </p:nvSpPr>
        <p:spPr>
          <a:xfrm>
            <a:off x="70099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8C65-CF39-42A8-B40A-1405FBEAE4E7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2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 type="dt" idx="13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3F2E-5BB2-4A6F-AAD2-76CB0887CB90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 type="ftr" idx="13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5"/>
          <p:cNvSpPr>
            <a:spLocks noGrp="1"/>
          </p:cNvSpPr>
          <p:nvPr>
            <p:ph type="sldNum" idx="132"/>
          </p:nvPr>
        </p:nvSpPr>
        <p:spPr>
          <a:xfrm>
            <a:off x="70099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9630-DCDB-42E9-9109-F0DFC6C58FCC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8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 type="dt" idx="13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928B-0B19-438E-9A46-647E48C5A83B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 type="ftr" idx="13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 type="sldNum" idx="13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5B67-5391-4B20-A8D1-2127EA8ED064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5B0D-1AB4-469C-B3B2-E3C48CB38B28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AF25-7A6F-42ED-AC49-FC0F8B9A9E52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4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3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2A9F-19EA-4EC5-AA3B-4C8116AA9B95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3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3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869D-1614-4566-8532-EFA4F33B4C5F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0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 type="dt" idx="13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3091-E61A-4373-8142-509828CC64C8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 type="ftr" idx="14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 type="sldNum" idx="141"/>
          </p:nvPr>
        </p:nvSpPr>
        <p:spPr>
          <a:xfrm>
            <a:off x="70308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EFCA-A5C2-4E70-9286-13478E91ED75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6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 type="dt" idx="14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91C4-E95B-445B-8EDA-BB37BC6DC38B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 type="ftr" idx="14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PlaceHolder 5"/>
          <p:cNvSpPr>
            <a:spLocks noGrp="1"/>
          </p:cNvSpPr>
          <p:nvPr>
            <p:ph type="sldNum" idx="144"/>
          </p:nvPr>
        </p:nvSpPr>
        <p:spPr>
          <a:xfrm>
            <a:off x="70196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89898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A3E3-3DDB-42BE-AF12-61AE89463518}" type="slidenum">
              <a:rPr b="0" lang="th-TH" sz="10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0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2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 type="dt" idx="14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74BE-1807-42B9-A4BD-1FA00BA024FF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 type="ftr" idx="14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5"/>
          <p:cNvSpPr>
            <a:spLocks noGrp="1"/>
          </p:cNvSpPr>
          <p:nvPr>
            <p:ph type="sldNum" idx="14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DECA-B809-4EB9-9B14-97B2FE996E2A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8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 type="dt" idx="14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CC83-F875-473A-971F-12FDC98176EC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 type="ftr" idx="14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5"/>
          <p:cNvSpPr>
            <a:spLocks noGrp="1"/>
          </p:cNvSpPr>
          <p:nvPr>
            <p:ph type="sldNum" idx="15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BF5D-0F04-40B8-AD1C-A2E108414666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4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 type="dt" idx="15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8935-64D0-4444-B530-68E3B39BD537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4"/>
          <p:cNvSpPr>
            <a:spLocks noGrp="1"/>
          </p:cNvSpPr>
          <p:nvPr>
            <p:ph type="ftr" idx="15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PlaceHolder 5"/>
          <p:cNvSpPr>
            <a:spLocks noGrp="1"/>
          </p:cNvSpPr>
          <p:nvPr>
            <p:ph type="sldNum" idx="15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F235-67A7-4CA6-9E8D-AEF6A53943B9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7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0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 type="dt" idx="15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AADA-FFDB-4E36-9C11-C5C6C6D19A76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 type="ftr" idx="15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 type="sldNum" idx="15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E991-8AB6-4A20-9E8A-8E93352E2C75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6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2577" name="Line 31"/>
          <p:cNvSpPr/>
          <p:nvPr/>
        </p:nvSpPr>
        <p:spPr>
          <a:xfrm>
            <a:off x="0" y="40114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Rectangle 8"/>
          <p:cNvSpPr/>
          <p:nvPr/>
        </p:nvSpPr>
        <p:spPr>
          <a:xfrm>
            <a:off x="4680" y="3259080"/>
            <a:ext cx="9144000" cy="681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2e9c"/>
                </a:solidFill>
                <a:latin typeface="Calibri"/>
              </a:rPr>
              <a:t>BETTER GOVERNANCE, HAPPIER CITIZE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9" name="Picture 4" descr=""/>
          <p:cNvPicPr/>
          <p:nvPr/>
        </p:nvPicPr>
        <p:blipFill>
          <a:blip r:embed="rId3"/>
          <a:stretch/>
        </p:blipFill>
        <p:spPr>
          <a:xfrm>
            <a:off x="3794040" y="2092320"/>
            <a:ext cx="1301760" cy="1096920"/>
          </a:xfrm>
          <a:prstGeom prst="rect">
            <a:avLst/>
          </a:prstGeom>
          <a:ln w="0">
            <a:noFill/>
          </a:ln>
        </p:spPr>
      </p:pic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2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 type="dt" idx="15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3E8C-C09F-46B2-AC84-8A4061E7F9EC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PlaceHolder 4"/>
          <p:cNvSpPr>
            <a:spLocks noGrp="1"/>
          </p:cNvSpPr>
          <p:nvPr>
            <p:ph type="ftr" idx="15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7" name="PlaceHolder 5"/>
          <p:cNvSpPr>
            <a:spLocks noGrp="1"/>
          </p:cNvSpPr>
          <p:nvPr>
            <p:ph type="sldNum" idx="159"/>
          </p:nvPr>
        </p:nvSpPr>
        <p:spPr>
          <a:xfrm>
            <a:off x="70401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3b3838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5419-976F-4994-A4E1-585A84C72A02}" type="slidenum">
              <a:rPr b="0" lang="th-TH" sz="1200" spc="-1" strike="noStrike">
                <a:solidFill>
                  <a:srgbClr val="3b3838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5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8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6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CF9B-5803-4170-9E4B-C6479C6A1F33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6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62"/>
          </p:nvPr>
        </p:nvSpPr>
        <p:spPr>
          <a:xfrm>
            <a:off x="70099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7100-AE56-4A4E-AB41-DD489EC0C11C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0A6D-D6B8-47C4-B228-E35B82F7BFFE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29BE-69AB-4844-9B72-A7884F6D83E7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2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3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4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 type="dt" idx="16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D1AC-37D5-4A2A-97F0-362FA17795CC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 type="ftr" idx="16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 type="sldNum" idx="165"/>
          </p:nvPr>
        </p:nvSpPr>
        <p:spPr>
          <a:xfrm>
            <a:off x="70099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DEF6-158D-4997-BC14-8F5A98E2BCC8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9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0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 type="dt" idx="16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3E06-F617-4904-98EC-75308C3342AA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 type="ftr" idx="16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5" name="PlaceHolder 5"/>
          <p:cNvSpPr>
            <a:spLocks noGrp="1"/>
          </p:cNvSpPr>
          <p:nvPr>
            <p:ph type="sldNum" idx="16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47BC-DCC2-4B68-A757-AED362940BCE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6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3"/>
          <p:cNvSpPr>
            <a:spLocks noGrp="1"/>
          </p:cNvSpPr>
          <p:nvPr>
            <p:ph type="dt" idx="16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FE46-86E0-46A3-9E8C-FD2218C86B46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PlaceHolder 4"/>
          <p:cNvSpPr>
            <a:spLocks noGrp="1"/>
          </p:cNvSpPr>
          <p:nvPr>
            <p:ph type="ftr" idx="17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1" name="PlaceHolder 5"/>
          <p:cNvSpPr>
            <a:spLocks noGrp="1"/>
          </p:cNvSpPr>
          <p:nvPr>
            <p:ph type="sldNum" idx="17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CFC3-1D48-465E-A17F-61C6C129A763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1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2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5" name="PlaceHolder 3"/>
          <p:cNvSpPr>
            <a:spLocks noGrp="1"/>
          </p:cNvSpPr>
          <p:nvPr>
            <p:ph type="dt" idx="17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FEDC-9DA8-401F-88F3-469408E2C3DD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PlaceHolder 4"/>
          <p:cNvSpPr>
            <a:spLocks noGrp="1"/>
          </p:cNvSpPr>
          <p:nvPr>
            <p:ph type="ftr" idx="17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PlaceHolder 5"/>
          <p:cNvSpPr>
            <a:spLocks noGrp="1"/>
          </p:cNvSpPr>
          <p:nvPr>
            <p:ph type="sldNum" idx="174"/>
          </p:nvPr>
        </p:nvSpPr>
        <p:spPr>
          <a:xfrm>
            <a:off x="70308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CB25-6BD2-4FB3-8BD2-685C3A009B61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5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6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7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8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 type="dt" idx="17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E4EE-4425-4C77-875B-F92F908AA987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 type="ftr" idx="17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 type="sldNum" idx="177"/>
          </p:nvPr>
        </p:nvSpPr>
        <p:spPr>
          <a:xfrm>
            <a:off x="70196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89898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B938-A14B-4856-890E-649B0A9C563D}" type="slidenum">
              <a:rPr b="0" lang="th-TH" sz="10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2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4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 type="dt" idx="17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0FD8-0B3D-46EE-9E2F-1E4AC8E27FEA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 type="ftr" idx="17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 type="sldNum" idx="18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4A68-B9C6-4185-8248-E8BD9F183E68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7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8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9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0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 type="dt" idx="18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D961-98C7-4B92-97D2-D68D8BDB053A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PlaceHolder 4"/>
          <p:cNvSpPr>
            <a:spLocks noGrp="1"/>
          </p:cNvSpPr>
          <p:nvPr>
            <p:ph type="ftr" idx="18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5"/>
          <p:cNvSpPr>
            <a:spLocks noGrp="1"/>
          </p:cNvSpPr>
          <p:nvPr>
            <p:ph type="sldNum" idx="18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AE74-B2B0-4904-9F5E-DC0FA093F859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4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5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6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 type="dt" idx="18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A117-148C-4AF8-BACF-9E88982A2A5C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PlaceHolder 4"/>
          <p:cNvSpPr>
            <a:spLocks noGrp="1"/>
          </p:cNvSpPr>
          <p:nvPr>
            <p:ph type="ftr" idx="18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1" name="PlaceHolder 5"/>
          <p:cNvSpPr>
            <a:spLocks noGrp="1"/>
          </p:cNvSpPr>
          <p:nvPr>
            <p:ph type="sldNum" idx="18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C05A-7878-4D3F-B27C-C73B811037F9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9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0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1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2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5" name="PlaceHolder 3"/>
          <p:cNvSpPr>
            <a:spLocks noGrp="1"/>
          </p:cNvSpPr>
          <p:nvPr>
            <p:ph type="dt" idx="18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92FE-A506-481D-93EC-BEBD5489E275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PlaceHolder 4"/>
          <p:cNvSpPr>
            <a:spLocks noGrp="1"/>
          </p:cNvSpPr>
          <p:nvPr>
            <p:ph type="ftr" idx="18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7" name="PlaceHolder 5"/>
          <p:cNvSpPr>
            <a:spLocks noGrp="1"/>
          </p:cNvSpPr>
          <p:nvPr>
            <p:ph type="sldNum" idx="18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65A6-1591-4EFD-90B0-61FC32076AE1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5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6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7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8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3129" name="Line 31"/>
          <p:cNvSpPr/>
          <p:nvPr/>
        </p:nvSpPr>
        <p:spPr>
          <a:xfrm>
            <a:off x="0" y="40114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0" name="Rectangle 8"/>
          <p:cNvSpPr/>
          <p:nvPr/>
        </p:nvSpPr>
        <p:spPr>
          <a:xfrm>
            <a:off x="4680" y="3259080"/>
            <a:ext cx="9144000" cy="681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2e9c"/>
                </a:solidFill>
                <a:latin typeface="Calibri"/>
              </a:rPr>
              <a:t>BETTER GOVERNANCE, HAPPIER CITIZE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1" name="Picture 4" descr=""/>
          <p:cNvPicPr/>
          <p:nvPr/>
        </p:nvPicPr>
        <p:blipFill>
          <a:blip r:embed="rId3"/>
          <a:stretch/>
        </p:blipFill>
        <p:spPr>
          <a:xfrm>
            <a:off x="3794040" y="2092320"/>
            <a:ext cx="1301760" cy="1096920"/>
          </a:xfrm>
          <a:prstGeom prst="rect">
            <a:avLst/>
          </a:prstGeom>
          <a:ln w="0">
            <a:noFill/>
          </a:ln>
        </p:spPr>
      </p:pic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1227-1F5E-4166-BAB7-713A73FBE8ED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70401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3b3838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0E69-8629-496C-8A21-46958A25D4E4}" type="slidenum">
              <a:rPr b="0" lang="th-TH" sz="1200" spc="-1" strike="noStrike">
                <a:solidFill>
                  <a:srgbClr val="3b3838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1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2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3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4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 type="dt" idx="19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3ABC-DA19-4057-A7FE-8622ED78D2FB}" type="datetime">
              <a:rPr b="0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 type="ftr" idx="19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Malgun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Malgun Gothic"/>
              </a:rPr>
              <a:t>&amp;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PlaceHolder 5"/>
          <p:cNvSpPr>
            <a:spLocks noGrp="1"/>
          </p:cNvSpPr>
          <p:nvPr>
            <p:ph type="sldNum" idx="19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F0FE-657C-49B3-B866-1E750F13A542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EF0F-385C-4457-B63E-1B8EC8B7D9C7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70099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FAF7-5A7B-4251-ABA9-1AF00C48741C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Line 31"/>
          <p:cNvSpPr/>
          <p:nvPr/>
        </p:nvSpPr>
        <p:spPr>
          <a:xfrm>
            <a:off x="0" y="68112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Line 31"/>
          <p:cNvSpPr/>
          <p:nvPr/>
        </p:nvSpPr>
        <p:spPr>
          <a:xfrm>
            <a:off x="0" y="19080"/>
            <a:ext cx="914868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itle 1"/>
          <p:cNvSpPr/>
          <p:nvPr/>
        </p:nvSpPr>
        <p:spPr>
          <a:xfrm>
            <a:off x="82440" y="190440"/>
            <a:ext cx="784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2" descr="C:\Users\ASUS\Desktop\1480833538801.png"/>
          <p:cNvPicPr/>
          <p:nvPr/>
        </p:nvPicPr>
        <p:blipFill>
          <a:blip r:embed="rId2"/>
          <a:stretch/>
        </p:blipFill>
        <p:spPr>
          <a:xfrm>
            <a:off x="8402760" y="50760"/>
            <a:ext cx="698400" cy="5889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A666-EFA8-4ECD-B6BB-824C8050A16F}" type="datetime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0099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752D-806E-423D-B50C-F4B106ECF2D5}" type="slidenum">
              <a:rPr b="0" lang="th-T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289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7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6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4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46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3" name="Picture 2" descr=""/>
          <p:cNvPicPr/>
          <p:nvPr/>
        </p:nvPicPr>
        <p:blipFill>
          <a:blip r:embed="rId1"/>
          <a:srcRect l="12885" t="14586" r="14500" b="6242"/>
          <a:stretch/>
        </p:blipFill>
        <p:spPr>
          <a:xfrm>
            <a:off x="6667560" y="798480"/>
            <a:ext cx="2055600" cy="1258920"/>
          </a:xfrm>
          <a:prstGeom prst="rect">
            <a:avLst/>
          </a:prstGeom>
          <a:ln w="0">
            <a:noFill/>
          </a:ln>
        </p:spPr>
      </p:pic>
      <p:sp>
        <p:nvSpPr>
          <p:cNvPr id="3224" name="Rectangle 2"/>
          <p:cNvSpPr/>
          <p:nvPr/>
        </p:nvSpPr>
        <p:spPr>
          <a:xfrm>
            <a:off x="108000" y="85680"/>
            <a:ext cx="831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000" spc="-1" strike="noStrike">
                <a:solidFill>
                  <a:srgbClr val="002060"/>
                </a:solidFill>
                <a:latin typeface="Tahoma"/>
                <a:cs typeface="Tahoma"/>
              </a:rPr>
              <a:t>แนวทางดำเนินการจัดทำแผนปฏิรูปองค์การ 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000" spc="-1" strike="noStrike">
                <a:solidFill>
                  <a:srgbClr val="002060"/>
                </a:solidFill>
                <a:latin typeface="Tahoma"/>
                <a:ea typeface="Tahoma"/>
              </a:rPr>
              <a:t>    </a:t>
            </a:r>
            <a:r>
              <a:rPr b="1" lang="th-TH" sz="2000" spc="-1" strike="noStrike">
                <a:solidFill>
                  <a:srgbClr val="002060"/>
                </a:solidFill>
                <a:latin typeface="Tahoma"/>
                <a:cs typeface="Tahoma"/>
              </a:rPr>
              <a:t>ส่วนที่ 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1 :</a:t>
            </a:r>
            <a:r>
              <a:rPr b="1" lang="th-TH" sz="20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2000" spc="-1" strike="noStrike">
                <a:solidFill>
                  <a:srgbClr val="002060"/>
                </a:solidFill>
                <a:latin typeface="Tahoma"/>
                <a:cs typeface="Tahoma"/>
              </a:rPr>
              <a:t>บทวิเคราะห์ภาพรวมของกระทรวง </a:t>
            </a:r>
            <a:r>
              <a:rPr b="1" lang="th-TH" sz="2000" spc="-1" strike="noStrike">
                <a:solidFill>
                  <a:srgbClr val="002060"/>
                </a:solidFill>
                <a:latin typeface="Tahoma"/>
                <a:ea typeface="Tahoma"/>
              </a:rPr>
              <a:t>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5" name="ตัวแทนหมายเลขภาพนิ่ง 1"/>
          <p:cNvSpPr/>
          <p:nvPr/>
        </p:nvSpPr>
        <p:spPr>
          <a:xfrm>
            <a:off x="7128000" y="64818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5683-D191-480D-B813-C3996B008A7B}" type="slidenum">
              <a:rPr b="0" lang="th-TH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6" name="TextBox 8"/>
          <p:cNvSpPr/>
          <p:nvPr/>
        </p:nvSpPr>
        <p:spPr>
          <a:xfrm>
            <a:off x="104760" y="885960"/>
            <a:ext cx="853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ahoma"/>
                <a:ea typeface="Tahoma"/>
              </a:rPr>
              <a:t>1.1 </a:t>
            </a:r>
            <a:r>
              <a:rPr b="1" lang="th-TH" sz="1400" spc="-1" strike="noStrike">
                <a:solidFill>
                  <a:srgbClr val="0033cc"/>
                </a:solidFill>
                <a:latin typeface="Tahoma"/>
                <a:cs typeface="Tahoma"/>
              </a:rPr>
              <a:t>ความเชื่อมโยงภารกิจของกระทรวงกับนโยบายที่สำคัญของประเท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ยุทธศาสตร์ชาติ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20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ผนฯ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นโยบายรัฐบา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hailand 4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7" name="Right Arrow 13"/>
          <p:cNvSpPr/>
          <p:nvPr/>
        </p:nvSpPr>
        <p:spPr>
          <a:xfrm>
            <a:off x="3200400" y="1501920"/>
            <a:ext cx="15228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8" name="Right Arrow 15"/>
          <p:cNvSpPr/>
          <p:nvPr/>
        </p:nvSpPr>
        <p:spPr>
          <a:xfrm>
            <a:off x="3983040" y="5208480"/>
            <a:ext cx="15228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9" name="Right Arrow 17"/>
          <p:cNvSpPr/>
          <p:nvPr/>
        </p:nvSpPr>
        <p:spPr>
          <a:xfrm>
            <a:off x="5057640" y="3137040"/>
            <a:ext cx="15264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0" name="Rounded Rectangle 23"/>
          <p:cNvSpPr/>
          <p:nvPr/>
        </p:nvSpPr>
        <p:spPr>
          <a:xfrm>
            <a:off x="6691320" y="800280"/>
            <a:ext cx="2085840" cy="46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1" name="TextBox 25"/>
          <p:cNvSpPr/>
          <p:nvPr/>
        </p:nvSpPr>
        <p:spPr>
          <a:xfrm>
            <a:off x="228600" y="2374920"/>
            <a:ext cx="86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ahoma"/>
                <a:ea typeface="Tahoma"/>
              </a:rPr>
              <a:t>1.2 </a:t>
            </a:r>
            <a:r>
              <a:rPr b="1" lang="th-TH" sz="1400" spc="-1" strike="noStrike">
                <a:solidFill>
                  <a:srgbClr val="0033cc"/>
                </a:solidFill>
                <a:latin typeface="Tahoma"/>
                <a:cs typeface="Tahoma"/>
              </a:rPr>
              <a:t>การวิเคราะห์ปัจจัยสภาพแวดล้อมภายนอก </a:t>
            </a:r>
            <a:r>
              <a:rPr b="1" lang="th-TH" sz="1400" spc="-1" strike="noStrike">
                <a:solidFill>
                  <a:srgbClr val="0033cc"/>
                </a:solidFill>
                <a:latin typeface="Tahoma"/>
                <a:ea typeface="Tahoma"/>
              </a:rPr>
              <a:t>(</a:t>
            </a:r>
            <a:r>
              <a:rPr b="1" lang="en-US" sz="1400" spc="-1" strike="noStrike">
                <a:solidFill>
                  <a:srgbClr val="0033cc"/>
                </a:solidFill>
                <a:latin typeface="Tahoma"/>
                <a:ea typeface="Tahoma"/>
              </a:rPr>
              <a:t>external environment) </a:t>
            </a:r>
            <a:r>
              <a:rPr b="1" lang="th-TH" sz="1400" spc="-1" strike="noStrike">
                <a:solidFill>
                  <a:srgbClr val="0033cc"/>
                </a:solidFill>
                <a:latin typeface="Tahoma"/>
                <a:cs typeface="Tahoma"/>
              </a:rPr>
              <a:t>ที่มี</a:t>
            </a:r>
            <a:br>
              <a:rPr sz="1400"/>
            </a:br>
            <a:r>
              <a:rPr b="1" lang="th-TH" sz="1400" spc="-1" strike="noStrike">
                <a:solidFill>
                  <a:srgbClr val="0033cc"/>
                </a:solidFill>
                <a:latin typeface="Tahoma"/>
                <a:cs typeface="Tahoma"/>
              </a:rPr>
              <a:t>ผลกระทบต่อการทำงานของกระทรว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วิเคราะห์บริบทการเปลี่ยนแปลงภายนอก –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PEST Analy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2" name="TextBox 26"/>
          <p:cNvSpPr/>
          <p:nvPr/>
        </p:nvSpPr>
        <p:spPr>
          <a:xfrm>
            <a:off x="228600" y="4871880"/>
            <a:ext cx="4267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ahoma"/>
                <a:ea typeface="Tahoma"/>
              </a:rPr>
              <a:t>1.4 </a:t>
            </a:r>
            <a:r>
              <a:rPr b="1" lang="th-TH" sz="1400" spc="-1" strike="noStrike">
                <a:solidFill>
                  <a:srgbClr val="0033cc"/>
                </a:solidFill>
                <a:latin typeface="Tahoma"/>
                <a:cs typeface="Tahoma"/>
              </a:rPr>
              <a:t>การวิเคราะห์บทบาทหน้าที่และภารกิจของกระทรวง ในอนาคต</a:t>
            </a:r>
            <a:r>
              <a:rPr b="1" lang="en-US" sz="1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.4.1 Value proposition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.4.2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Portfolio analy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.4.3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Business mod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.4.4 Government 4.0 :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ระทรวง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3" name="TextBox 18"/>
          <p:cNvSpPr/>
          <p:nvPr/>
        </p:nvSpPr>
        <p:spPr>
          <a:xfrm>
            <a:off x="201600" y="3886200"/>
            <a:ext cx="426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ahoma"/>
                <a:ea typeface="Tahoma"/>
              </a:rPr>
              <a:t>1.3</a:t>
            </a:r>
            <a:r>
              <a:rPr b="1" lang="th-TH" sz="1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33cc"/>
                </a:solidFill>
                <a:latin typeface="Tahoma"/>
                <a:cs typeface="Tahoma"/>
              </a:rPr>
              <a:t>การวิเคราะห์ขีดความสามารถ</a:t>
            </a:r>
            <a:r>
              <a:rPr b="1" lang="th-TH" sz="1400" spc="-1" strike="noStrike">
                <a:solidFill>
                  <a:srgbClr val="0033cc"/>
                </a:solidFill>
                <a:latin typeface="Tahoma"/>
                <a:ea typeface="Tahoma"/>
              </a:rPr>
              <a:t>/</a:t>
            </a:r>
            <a:r>
              <a:rPr b="1" lang="th-TH" sz="1400" spc="-1" strike="noStrike">
                <a:solidFill>
                  <a:srgbClr val="0033cc"/>
                </a:solidFill>
                <a:latin typeface="Tahoma"/>
                <a:cs typeface="Tahoma"/>
              </a:rPr>
              <a:t>ความเข้มแข็งของกระทรวง </a:t>
            </a:r>
            <a:r>
              <a:rPr b="1" lang="th-TH" sz="1400" spc="-1" strike="noStrike">
                <a:solidFill>
                  <a:srgbClr val="0033cc"/>
                </a:solidFill>
                <a:latin typeface="Tahoma"/>
                <a:ea typeface="Tahoma"/>
              </a:rPr>
              <a:t>(</a:t>
            </a:r>
            <a:r>
              <a:rPr b="1" lang="en-US" sz="1400" spc="-1" strike="noStrike">
                <a:solidFill>
                  <a:srgbClr val="0033cc"/>
                </a:solidFill>
                <a:latin typeface="Tahoma"/>
                <a:ea typeface="Tahoma"/>
              </a:rPr>
              <a:t>organization capacity) </a:t>
            </a:r>
            <a:r>
              <a:rPr b="1" lang="th-TH" sz="1400" spc="-1" strike="noStrike">
                <a:solidFill>
                  <a:srgbClr val="0033cc"/>
                </a:solidFill>
                <a:latin typeface="Tahoma"/>
                <a:cs typeface="Tahoma"/>
              </a:rPr>
              <a:t>ในด้านต่าง ๆ</a:t>
            </a:r>
            <a:r>
              <a:rPr b="1" lang="en-US" sz="1400" spc="-1" strike="noStrike">
                <a:solidFill>
                  <a:srgbClr val="0033cc"/>
                </a:solidFill>
                <a:latin typeface="Tahoma"/>
                <a:ea typeface="Tahoma"/>
              </a:rPr>
              <a:t>  </a:t>
            </a:r>
            <a:r>
              <a:rPr b="1" lang="th-TH" sz="1400" spc="-1" strike="noStrike">
                <a:solidFill>
                  <a:srgbClr val="0033cc"/>
                </a:solidFill>
                <a:latin typeface="Tahoma"/>
                <a:ea typeface="Tahoma"/>
              </a:rPr>
              <a:t>(</a:t>
            </a:r>
            <a:r>
              <a:rPr b="1" lang="th-TH" sz="1400" spc="-1" strike="noStrike">
                <a:solidFill>
                  <a:srgbClr val="0033cc"/>
                </a:solidFill>
                <a:latin typeface="Tahoma"/>
                <a:cs typeface="Tahoma"/>
              </a:rPr>
              <a:t>ภายในองค์การ</a:t>
            </a:r>
            <a:r>
              <a:rPr b="1" lang="th-TH" sz="14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4" name="Right Arrow 15"/>
          <p:cNvSpPr/>
          <p:nvPr/>
        </p:nvSpPr>
        <p:spPr>
          <a:xfrm>
            <a:off x="5057640" y="4206960"/>
            <a:ext cx="15264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5" name="TextBox 20"/>
          <p:cNvSpPr/>
          <p:nvPr/>
        </p:nvSpPr>
        <p:spPr>
          <a:xfrm>
            <a:off x="201600" y="622152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ahoma"/>
                <a:ea typeface="Tahoma"/>
              </a:rPr>
              <a:t>1.5</a:t>
            </a:r>
            <a:r>
              <a:rPr b="1" lang="th-TH" sz="1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33cc"/>
                </a:solidFill>
                <a:latin typeface="Tahoma"/>
                <a:cs typeface="Tahoma"/>
              </a:rPr>
              <a:t>ข้อเสนอการเปลี่ยนแปลงในภาพรวม</a:t>
            </a:r>
            <a:r>
              <a:rPr b="1" lang="en-US" sz="1400" spc="-1" strike="noStrike">
                <a:solidFill>
                  <a:srgbClr val="ff0000"/>
                </a:solidFill>
                <a:latin typeface="Tahoma"/>
                <a:ea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6" name="Picture 2" descr=""/>
          <p:cNvPicPr/>
          <p:nvPr/>
        </p:nvPicPr>
        <p:blipFill>
          <a:blip r:embed="rId2"/>
          <a:stretch/>
        </p:blipFill>
        <p:spPr>
          <a:xfrm>
            <a:off x="3616200" y="1241280"/>
            <a:ext cx="1509840" cy="11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37" name="Picture 4" descr=""/>
          <p:cNvPicPr/>
          <p:nvPr/>
        </p:nvPicPr>
        <p:blipFill>
          <a:blip r:embed="rId3"/>
          <a:stretch/>
        </p:blipFill>
        <p:spPr>
          <a:xfrm>
            <a:off x="4251240" y="4940280"/>
            <a:ext cx="1111320" cy="83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38" name="Picture 5" descr=""/>
          <p:cNvPicPr/>
          <p:nvPr/>
        </p:nvPicPr>
        <p:blipFill>
          <a:blip r:embed="rId4"/>
          <a:stretch/>
        </p:blipFill>
        <p:spPr>
          <a:xfrm>
            <a:off x="5442120" y="4929120"/>
            <a:ext cx="1112760" cy="83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39" name="Picture 6" descr=""/>
          <p:cNvPicPr/>
          <p:nvPr/>
        </p:nvPicPr>
        <p:blipFill>
          <a:blip r:embed="rId5"/>
          <a:stretch/>
        </p:blipFill>
        <p:spPr>
          <a:xfrm>
            <a:off x="6624720" y="4929120"/>
            <a:ext cx="1111320" cy="83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40" name="Right Arrow 15"/>
          <p:cNvSpPr/>
          <p:nvPr/>
        </p:nvSpPr>
        <p:spPr>
          <a:xfrm>
            <a:off x="3616200" y="6221520"/>
            <a:ext cx="15264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1" name="รูปภาพ 1" descr=""/>
          <p:cNvPicPr/>
          <p:nvPr/>
        </p:nvPicPr>
        <p:blipFill>
          <a:blip r:embed="rId6"/>
          <a:stretch/>
        </p:blipFill>
        <p:spPr>
          <a:xfrm>
            <a:off x="5299200" y="3878280"/>
            <a:ext cx="1224000" cy="91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42" name="รูปภาพ 3" descr=""/>
          <p:cNvPicPr/>
          <p:nvPr/>
        </p:nvPicPr>
        <p:blipFill>
          <a:blip r:embed="rId7"/>
          <a:stretch/>
        </p:blipFill>
        <p:spPr>
          <a:xfrm>
            <a:off x="3855960" y="5873760"/>
            <a:ext cx="1252440" cy="93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43" name="Picture 2" descr=""/>
          <p:cNvPicPr/>
          <p:nvPr/>
        </p:nvPicPr>
        <p:blipFill>
          <a:blip r:embed="rId8"/>
          <a:srcRect l="12453" t="0" r="12850" b="0"/>
          <a:stretch/>
        </p:blipFill>
        <p:spPr>
          <a:xfrm>
            <a:off x="5316480" y="2813040"/>
            <a:ext cx="1220760" cy="91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44" name="เมฆ 5"/>
          <p:cNvSpPr/>
          <p:nvPr/>
        </p:nvSpPr>
        <p:spPr>
          <a:xfrm>
            <a:off x="6264360" y="439560"/>
            <a:ext cx="2879640" cy="1974960"/>
          </a:xfrm>
          <a:custGeom>
            <a:avLst/>
            <a:gdLst>
              <a:gd name="textAreaLeft" fmla="*/ 396720 w 2879640"/>
              <a:gd name="textAreaRight" fmla="*/ 2278080 w 2879640"/>
              <a:gd name="textAreaTop" fmla="*/ 298080 h 1974960"/>
              <a:gd name="textAreaBottom" fmla="*/ 1585440 h 19749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noFill/>
          <a:ln w="3240">
            <a:solidFill>
              <a:srgbClr val="41719c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ลูกศรขวาท้ายขีด 41"/>
          <p:cNvSpPr/>
          <p:nvPr/>
        </p:nvSpPr>
        <p:spPr>
          <a:xfrm>
            <a:off x="2700360" y="1440000"/>
            <a:ext cx="2238480" cy="5286240"/>
          </a:xfrm>
          <a:custGeom>
            <a:avLst/>
            <a:gdLst>
              <a:gd name="textAreaLeft" fmla="*/ 349560 w 2238480"/>
              <a:gd name="textAreaRight" fmla="*/ 1679040 w 2238480"/>
              <a:gd name="textAreaTop" fmla="*/ 1321560 h 5286240"/>
              <a:gd name="textAreaBottom" fmla="*/ 3964680 h 5286240"/>
            </a:gdLst>
            <a:ahLst/>
            <a:rect l="textAreaLeft" t="textAreaTop" r="textAreaRight" b="textAreaBottom"/>
            <a:pathLst>
              <a:path w="2238972" h="5286375">
                <a:moveTo>
                  <a:pt x="0" y="1321594"/>
                </a:moveTo>
                <a:lnTo>
                  <a:pt x="69968" y="1321594"/>
                </a:lnTo>
                <a:lnTo>
                  <a:pt x="69968" y="3964781"/>
                </a:lnTo>
                <a:lnTo>
                  <a:pt x="0" y="3964781"/>
                </a:lnTo>
                <a:close/>
                <a:moveTo>
                  <a:pt x="139936" y="1321594"/>
                </a:moveTo>
                <a:lnTo>
                  <a:pt x="279872" y="1321594"/>
                </a:lnTo>
                <a:lnTo>
                  <a:pt x="279872" y="3964781"/>
                </a:lnTo>
                <a:lnTo>
                  <a:pt x="139936" y="3964781"/>
                </a:lnTo>
                <a:close/>
                <a:moveTo>
                  <a:pt x="349839" y="1321594"/>
                </a:moveTo>
                <a:lnTo>
                  <a:pt x="1119486" y="1321594"/>
                </a:lnTo>
                <a:lnTo>
                  <a:pt x="1119486" y="0"/>
                </a:lnTo>
                <a:lnTo>
                  <a:pt x="2238972" y="2643188"/>
                </a:lnTo>
                <a:lnTo>
                  <a:pt x="1119486" y="5286375"/>
                </a:lnTo>
                <a:lnTo>
                  <a:pt x="1119486" y="3964781"/>
                </a:lnTo>
                <a:lnTo>
                  <a:pt x="349839" y="3964781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2" name="ตัวแทนหมายเลขภาพนิ่ง 1"/>
          <p:cNvSpPr/>
          <p:nvPr/>
        </p:nvSpPr>
        <p:spPr>
          <a:xfrm>
            <a:off x="70200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6B51-9CA7-44D0-8EE7-A76B1BE80C79}" type="slidenum">
              <a:rPr b="0" lang="th-TH" sz="10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3" name="Rectangle 37"/>
          <p:cNvSpPr/>
          <p:nvPr/>
        </p:nvSpPr>
        <p:spPr>
          <a:xfrm>
            <a:off x="108000" y="93600"/>
            <a:ext cx="982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990720" indent="-990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ส่วนที่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1 :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บทวิเคราะห์ภาพรวมของกระทรวง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: 1.4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การวิเคราะห์บทบาทหน้าที่และภารกิจของ</a:t>
            </a:r>
            <a:br>
              <a:rPr sz="1400"/>
            </a:b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กระทรวงในอนาคต</a:t>
            </a:r>
            <a:br>
              <a:rPr sz="1400"/>
            </a:b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แบบฟอร์ม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1.4.4 Government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4.0 :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กระทรวง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.....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4.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4" name="ลูกศรขวา 3"/>
          <p:cNvSpPr/>
          <p:nvPr/>
        </p:nvSpPr>
        <p:spPr>
          <a:xfrm>
            <a:off x="250920" y="841320"/>
            <a:ext cx="8715240" cy="5716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d9d9d9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5" name="สี่เหลี่ยมมุมมน 5"/>
          <p:cNvGrpSpPr/>
          <p:nvPr/>
        </p:nvGrpSpPr>
        <p:grpSpPr>
          <a:xfrm>
            <a:off x="334800" y="792000"/>
            <a:ext cx="3822840" cy="682920"/>
            <a:chOff x="334800" y="792000"/>
            <a:chExt cx="3822840" cy="682920"/>
          </a:xfrm>
        </p:grpSpPr>
        <p:pic>
          <p:nvPicPr>
            <p:cNvPr id="3416" name="สี่เหลี่ยมมุมมน 5" descr=""/>
            <p:cNvPicPr/>
            <p:nvPr/>
          </p:nvPicPr>
          <p:blipFill>
            <a:blip r:embed="rId1"/>
            <a:stretch/>
          </p:blipFill>
          <p:spPr>
            <a:xfrm>
              <a:off x="334800" y="792000"/>
              <a:ext cx="38228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7" name=""/>
            <p:cNvSpPr/>
            <p:nvPr/>
          </p:nvSpPr>
          <p:spPr>
            <a:xfrm>
              <a:off x="487440" y="933480"/>
              <a:ext cx="35290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ประเด็น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Gov 4.0 : </a:t>
              </a:r>
              <a:r>
                <a:rPr b="1" lang="th-TH" sz="18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กระทรวง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4.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18" name="สี่เหลี่ยมมุมมน 6"/>
          <p:cNvGrpSpPr/>
          <p:nvPr/>
        </p:nvGrpSpPr>
        <p:grpSpPr>
          <a:xfrm>
            <a:off x="4767120" y="792000"/>
            <a:ext cx="3822840" cy="682920"/>
            <a:chOff x="4767120" y="792000"/>
            <a:chExt cx="3822840" cy="682920"/>
          </a:xfrm>
        </p:grpSpPr>
        <p:pic>
          <p:nvPicPr>
            <p:cNvPr id="3419" name="สี่เหลี่ยมมุมมน 6" descr=""/>
            <p:cNvPicPr/>
            <p:nvPr/>
          </p:nvPicPr>
          <p:blipFill>
            <a:blip r:embed="rId2"/>
            <a:stretch/>
          </p:blipFill>
          <p:spPr>
            <a:xfrm>
              <a:off x="4767120" y="792000"/>
              <a:ext cx="38228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0" name=""/>
            <p:cNvSpPr/>
            <p:nvPr/>
          </p:nvSpPr>
          <p:spPr>
            <a:xfrm>
              <a:off x="4916520" y="933480"/>
              <a:ext cx="35290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ritical success facto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1" name="สี่เหลี่ยมมุมมน 9"/>
          <p:cNvSpPr/>
          <p:nvPr/>
        </p:nvSpPr>
        <p:spPr>
          <a:xfrm>
            <a:off x="611280" y="1751040"/>
            <a:ext cx="3357360" cy="160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2" name="แผนผังลำดับงาน: ตัวเชื่อมต่อ 7"/>
          <p:cNvSpPr/>
          <p:nvPr/>
        </p:nvSpPr>
        <p:spPr>
          <a:xfrm>
            <a:off x="754200" y="2001960"/>
            <a:ext cx="285480" cy="285480"/>
          </a:xfrm>
          <a:prstGeom prst="flowChartConnector">
            <a:avLst/>
          </a:prstGeom>
          <a:solidFill>
            <a:srgbClr val="ff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3" name="TextBox 8"/>
          <p:cNvSpPr/>
          <p:nvPr/>
        </p:nvSpPr>
        <p:spPr>
          <a:xfrm>
            <a:off x="1111320" y="2006640"/>
            <a:ext cx="2739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Open &amp; Connected Government :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เปิดกว้างและเชื่อมโยงกั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4" name="สี่เหลี่ยมมุมมน 9"/>
          <p:cNvSpPr/>
          <p:nvPr/>
        </p:nvSpPr>
        <p:spPr>
          <a:xfrm>
            <a:off x="4968720" y="1859040"/>
            <a:ext cx="3571920" cy="149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5" name="แผนผังลำดับงาน: ตัวเชื่อมต่อ 30"/>
          <p:cNvSpPr/>
          <p:nvPr/>
        </p:nvSpPr>
        <p:spPr>
          <a:xfrm>
            <a:off x="5111640" y="2001960"/>
            <a:ext cx="285840" cy="285480"/>
          </a:xfrm>
          <a:prstGeom prst="flowChartConnector">
            <a:avLst/>
          </a:pr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6" name="TextBox 11"/>
          <p:cNvSpPr/>
          <p:nvPr/>
        </p:nvSpPr>
        <p:spPr>
          <a:xfrm>
            <a:off x="5468760" y="1901880"/>
            <a:ext cx="285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ollaboration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สานพลังทุกภาคส่วน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7" name="TextBox 12"/>
          <p:cNvSpPr/>
          <p:nvPr/>
        </p:nvSpPr>
        <p:spPr>
          <a:xfrm>
            <a:off x="5473800" y="2338560"/>
            <a:ext cx="28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nnovation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สร้างนวัตกรรม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8" name="TextBox 13"/>
          <p:cNvSpPr/>
          <p:nvPr/>
        </p:nvSpPr>
        <p:spPr>
          <a:xfrm>
            <a:off x="5468760" y="2781360"/>
            <a:ext cx="285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igitization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ปรับสู่ความเป็นดิจิทัล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9" name="TextBox 14"/>
          <p:cNvSpPr/>
          <p:nvPr/>
        </p:nvSpPr>
        <p:spPr>
          <a:xfrm>
            <a:off x="250920" y="1376280"/>
            <a:ext cx="410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a6a6a6"/>
                </a:solidFill>
                <a:latin typeface="Tahoma"/>
                <a:cs typeface="Tahoma"/>
              </a:rPr>
              <a:t>บทบาทของกระทรวงในการนำไปสู่ </a:t>
            </a:r>
            <a:r>
              <a:rPr b="0" lang="en-US" sz="1000" spc="-1" strike="noStrike">
                <a:solidFill>
                  <a:srgbClr val="a6a6a6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a6a6a6"/>
                </a:solidFill>
                <a:latin typeface="Tahoma"/>
                <a:ea typeface="Tahoma"/>
              </a:rPr>
              <a:t>Gov 4.0 </a:t>
            </a:r>
            <a:r>
              <a:rPr b="0" lang="th-TH" sz="1000" spc="-1" strike="noStrike">
                <a:solidFill>
                  <a:srgbClr val="a6a6a6"/>
                </a:solidFill>
                <a:latin typeface="Tahoma"/>
                <a:cs typeface="Tahoma"/>
              </a:rPr>
              <a:t>จะต้องเป็นอย่างไรหรือทำอะไรเพื่อขับเคลื่อน </a:t>
            </a:r>
            <a:r>
              <a:rPr b="0" lang="en-US" sz="1000" spc="-1" strike="noStrike">
                <a:solidFill>
                  <a:srgbClr val="a6a6a6"/>
                </a:solidFill>
                <a:latin typeface="Tahoma"/>
                <a:ea typeface="Tahoma"/>
              </a:rPr>
              <a:t>Gov 4.0</a:t>
            </a:r>
            <a:r>
              <a:rPr b="0" lang="th-TH" sz="1000" spc="-1" strike="noStrike">
                <a:solidFill>
                  <a:srgbClr val="a6a6a6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0" name="TextBox 15"/>
          <p:cNvSpPr/>
          <p:nvPr/>
        </p:nvSpPr>
        <p:spPr>
          <a:xfrm>
            <a:off x="4894200" y="1415880"/>
            <a:ext cx="407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a6a6a6"/>
                </a:solidFill>
                <a:latin typeface="Tahoma"/>
                <a:cs typeface="Tahoma"/>
              </a:rPr>
              <a:t>ปัจจัยแห่งความสำเร็จที่ทำให้การปรับเปลี่ยนไปสู่  </a:t>
            </a:r>
            <a:r>
              <a:rPr b="0" lang="en-US" sz="1000" spc="-1" strike="noStrike">
                <a:solidFill>
                  <a:srgbClr val="a6a6a6"/>
                </a:solidFill>
                <a:latin typeface="Tahoma"/>
                <a:ea typeface="Tahoma"/>
              </a:rPr>
              <a:t>Gov 4.0 </a:t>
            </a:r>
            <a:r>
              <a:rPr b="0" lang="th-TH" sz="1000" spc="-1" strike="noStrike">
                <a:solidFill>
                  <a:srgbClr val="a6a6a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a6a6a6"/>
                </a:solidFill>
                <a:latin typeface="Tahoma"/>
                <a:cs typeface="Tahoma"/>
              </a:rPr>
              <a:t>บรรลุตามเป้าหมายที่ต้องการ</a:t>
            </a:r>
            <a:r>
              <a:rPr b="0" lang="en-US" sz="1000" spc="-1" strike="noStrike">
                <a:solidFill>
                  <a:srgbClr val="a6a6a6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1" name="สี่เหลี่ยมมุมมน 9"/>
          <p:cNvSpPr/>
          <p:nvPr/>
        </p:nvSpPr>
        <p:spPr>
          <a:xfrm>
            <a:off x="611280" y="3443400"/>
            <a:ext cx="3357360" cy="149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2" name="แผนผังลำดับงาน: ตัวเชื่อมต่อ 25"/>
          <p:cNvSpPr/>
          <p:nvPr/>
        </p:nvSpPr>
        <p:spPr>
          <a:xfrm>
            <a:off x="754200" y="3586320"/>
            <a:ext cx="285480" cy="285480"/>
          </a:xfrm>
          <a:prstGeom prst="flowChartConnector">
            <a:avLst/>
          </a:prstGeom>
          <a:solidFill>
            <a:srgbClr val="ff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3" name="TextBox 26"/>
          <p:cNvSpPr/>
          <p:nvPr/>
        </p:nvSpPr>
        <p:spPr>
          <a:xfrm>
            <a:off x="1111320" y="3591000"/>
            <a:ext cx="2739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itizen-Centric Government :</a:t>
            </a:r>
            <a:br>
              <a:rPr sz="1200"/>
            </a:b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ยึดประชาชนเป็นศูนย์กลา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สี่เหลี่ยมมุมมน 9"/>
          <p:cNvSpPr/>
          <p:nvPr/>
        </p:nvSpPr>
        <p:spPr>
          <a:xfrm>
            <a:off x="4968720" y="3443400"/>
            <a:ext cx="3571920" cy="149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5" name="แผนผังลำดับงาน: ตัวเชื่อมต่อ 30"/>
          <p:cNvSpPr/>
          <p:nvPr/>
        </p:nvSpPr>
        <p:spPr>
          <a:xfrm>
            <a:off x="5111640" y="3586320"/>
            <a:ext cx="285840" cy="285480"/>
          </a:xfrm>
          <a:prstGeom prst="flowChartConnector">
            <a:avLst/>
          </a:pr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6" name="TextBox 29"/>
          <p:cNvSpPr/>
          <p:nvPr/>
        </p:nvSpPr>
        <p:spPr>
          <a:xfrm>
            <a:off x="5468760" y="3486240"/>
            <a:ext cx="285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7" name="TextBox 30"/>
          <p:cNvSpPr/>
          <p:nvPr/>
        </p:nvSpPr>
        <p:spPr>
          <a:xfrm>
            <a:off x="5473800" y="3922560"/>
            <a:ext cx="28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8" name="TextBox 31"/>
          <p:cNvSpPr/>
          <p:nvPr/>
        </p:nvSpPr>
        <p:spPr>
          <a:xfrm>
            <a:off x="5468760" y="4365720"/>
            <a:ext cx="285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igit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สี่เหลี่ยมมุมมน 9"/>
          <p:cNvSpPr/>
          <p:nvPr/>
        </p:nvSpPr>
        <p:spPr>
          <a:xfrm>
            <a:off x="611280" y="5040360"/>
            <a:ext cx="3357360" cy="1352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0" name="แผนผังลำดับงาน: ตัวเชื่อมต่อ 33"/>
          <p:cNvSpPr/>
          <p:nvPr/>
        </p:nvSpPr>
        <p:spPr>
          <a:xfrm>
            <a:off x="754200" y="5183280"/>
            <a:ext cx="285480" cy="285480"/>
          </a:xfrm>
          <a:prstGeom prst="flowChartConnector">
            <a:avLst/>
          </a:prstGeom>
          <a:solidFill>
            <a:srgbClr val="ff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1" name="TextBox 34"/>
          <p:cNvSpPr/>
          <p:nvPr/>
        </p:nvSpPr>
        <p:spPr>
          <a:xfrm>
            <a:off x="1087560" y="5127480"/>
            <a:ext cx="2739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mart &amp; High Performance Government :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มีขีดสมรรถนะสูงและทันสมั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2" name="สี่เหลี่ยมมุมมน 9"/>
          <p:cNvSpPr/>
          <p:nvPr/>
        </p:nvSpPr>
        <p:spPr>
          <a:xfrm>
            <a:off x="4968720" y="5040360"/>
            <a:ext cx="3571920" cy="1496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3" name="แผนผังลำดับงาน: ตัวเชื่อมต่อ 30"/>
          <p:cNvSpPr/>
          <p:nvPr/>
        </p:nvSpPr>
        <p:spPr>
          <a:xfrm>
            <a:off x="5111640" y="5183280"/>
            <a:ext cx="285840" cy="285480"/>
          </a:xfrm>
          <a:prstGeom prst="flowChartConnector">
            <a:avLst/>
          </a:pr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4" name="TextBox 37"/>
          <p:cNvSpPr/>
          <p:nvPr/>
        </p:nvSpPr>
        <p:spPr>
          <a:xfrm>
            <a:off x="5468760" y="5083200"/>
            <a:ext cx="285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5" name="TextBox 38"/>
          <p:cNvSpPr/>
          <p:nvPr/>
        </p:nvSpPr>
        <p:spPr>
          <a:xfrm>
            <a:off x="5473800" y="5518080"/>
            <a:ext cx="28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6" name="TextBox 39"/>
          <p:cNvSpPr/>
          <p:nvPr/>
        </p:nvSpPr>
        <p:spPr>
          <a:xfrm>
            <a:off x="5468760" y="5961240"/>
            <a:ext cx="285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igit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7" name="Picture 2" descr=""/>
          <p:cNvPicPr/>
          <p:nvPr/>
        </p:nvPicPr>
        <p:blipFill>
          <a:blip r:embed="rId3"/>
          <a:srcRect l="33719" t="42283" r="31785" b="11835"/>
          <a:stretch/>
        </p:blipFill>
        <p:spPr>
          <a:xfrm>
            <a:off x="7413480" y="87480"/>
            <a:ext cx="917640" cy="817560"/>
          </a:xfrm>
          <a:prstGeom prst="rect">
            <a:avLst/>
          </a:prstGeom>
          <a:ln w="0">
            <a:noFill/>
          </a:ln>
        </p:spPr>
      </p:pic>
      <p:sp>
        <p:nvSpPr>
          <p:cNvPr id="3448" name="TextBox 16"/>
          <p:cNvSpPr/>
          <p:nvPr/>
        </p:nvSpPr>
        <p:spPr>
          <a:xfrm>
            <a:off x="465120" y="6537240"/>
            <a:ext cx="821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หมายเหตุ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ะบุ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ritical Success Factor (CSF)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ในแต่ละด้าน ไม่จำเป็นต้องมีครบทุกปัจจัย  แต่ในภาพรวม ต้องมีครบทั้ง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ปัจจัย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9" name=""/>
          <p:cNvGraphicFramePr/>
          <p:nvPr/>
        </p:nvGraphicFramePr>
        <p:xfrm>
          <a:off x="108000" y="1332000"/>
          <a:ext cx="8915400" cy="5113080"/>
        </p:xfrm>
        <a:graphic>
          <a:graphicData uri="http://schemas.openxmlformats.org/drawingml/2006/table">
            <a:tbl>
              <a:tblPr/>
              <a:tblGrid>
                <a:gridCol w="2909880"/>
                <a:gridCol w="436680"/>
                <a:gridCol w="436320"/>
                <a:gridCol w="434880"/>
                <a:gridCol w="436680"/>
                <a:gridCol w="436680"/>
                <a:gridCol w="436680"/>
                <a:gridCol w="436320"/>
                <a:gridCol w="436680"/>
                <a:gridCol w="436680"/>
                <a:gridCol w="436320"/>
                <a:gridCol w="436680"/>
                <a:gridCol w="436680"/>
                <a:gridCol w="768240"/>
              </a:tblGrid>
              <a:tr h="2934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ประเด็นการปรับปรุ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สิ่งที่ต้องดำเนินการ  </a:t>
                      </a:r>
                      <a:r>
                        <a:rPr b="1" lang="th-TH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2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ปีงบประมาณ พ</a:t>
                      </a:r>
                      <a:r>
                        <a:rPr b="1" lang="th-TH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.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562 – </a:t>
                      </a:r>
                      <a:r>
                        <a:rPr b="1" lang="th-TH" sz="12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1" lang="th-TH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.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56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หมายเหต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33cc"/>
                          </a:solidFill>
                          <a:latin typeface="Tahoma"/>
                          <a:cs typeface="Tahoma"/>
                        </a:rPr>
                        <a:t>ด้านโครงสร้า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)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)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33cc"/>
                          </a:solidFill>
                          <a:latin typeface="Tahoma"/>
                          <a:cs typeface="Tahoma"/>
                        </a:rPr>
                        <a:t>ด้านกระบวนงา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)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)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)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9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33cc"/>
                          </a:solidFill>
                          <a:latin typeface="Tahoma"/>
                          <a:cs typeface="Tahoma"/>
                        </a:rPr>
                        <a:t>ด้านกฎหมา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)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33cc"/>
                          </a:solidFill>
                          <a:latin typeface="Tahoma"/>
                          <a:cs typeface="Tahoma"/>
                        </a:rPr>
                        <a:t>ด้านบุคลาก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)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)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3450" name="Rectangle 37"/>
          <p:cNvSpPr/>
          <p:nvPr/>
        </p:nvSpPr>
        <p:spPr>
          <a:xfrm>
            <a:off x="184320" y="93600"/>
            <a:ext cx="970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990720" indent="-990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1800" spc="-1" strike="noStrike">
                <a:solidFill>
                  <a:srgbClr val="002060"/>
                </a:solidFill>
                <a:latin typeface="Tahoma"/>
                <a:cs typeface="Tahoma"/>
              </a:rPr>
              <a:t>ส่วนที่ 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ea typeface="Tahoma"/>
              </a:rPr>
              <a:t>1 : 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cs typeface="Tahoma"/>
              </a:rPr>
              <a:t>บทวิเคราะห์ภาพรวมของกระทรวง </a:t>
            </a:r>
            <a:br>
              <a:rPr sz="1800"/>
            </a:br>
            <a:r>
              <a:rPr b="1" lang="th-TH" sz="1800" spc="-1" strike="noStrike">
                <a:solidFill>
                  <a:srgbClr val="002060"/>
                </a:solidFill>
                <a:latin typeface="Tahoma"/>
                <a:cs typeface="Tahoma"/>
              </a:rPr>
              <a:t>แบบฟอร์ม </a:t>
            </a:r>
            <a:r>
              <a:rPr b="1" lang="en-US" sz="1800" spc="-1" strike="noStrike">
                <a:solidFill>
                  <a:srgbClr val="002060"/>
                </a:solidFill>
                <a:latin typeface="Tahoma"/>
                <a:ea typeface="Tahoma"/>
              </a:rPr>
              <a:t>1.5 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cs typeface="Tahoma"/>
              </a:rPr>
              <a:t>ข้อเสนอการเปลี่ยนแปลงในภาพรวม กระทรวง 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ea typeface="Tahoma"/>
              </a:rPr>
              <a:t>......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1" name="TextBox 4"/>
          <p:cNvSpPr/>
          <p:nvPr/>
        </p:nvSpPr>
        <p:spPr>
          <a:xfrm>
            <a:off x="184320" y="743040"/>
            <a:ext cx="8839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ให้ส่วนราชการสรุปข้อเสนอการเปลี่ยนแปลงของทุกกรมในกระทรวง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th-TH" sz="1600" spc="-1" strike="noStrike">
                <a:solidFill>
                  <a:srgbClr val="0033cc"/>
                </a:solidFill>
                <a:latin typeface="Tahoma"/>
                <a:cs typeface="Tahoma"/>
              </a:rPr>
              <a:t>กรม </a:t>
            </a:r>
            <a:r>
              <a:rPr b="1" lang="th-TH" sz="1600" spc="-1" strike="noStrike">
                <a:solidFill>
                  <a:srgbClr val="0033cc"/>
                </a:solidFill>
                <a:latin typeface="Tahoma"/>
                <a:ea typeface="Tahoma"/>
              </a:rPr>
              <a:t>...........................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ตัวเชื่อมต่อตรง 9"/>
          <p:cNvSpPr/>
          <p:nvPr/>
        </p:nvSpPr>
        <p:spPr>
          <a:xfrm>
            <a:off x="3132000" y="3573360"/>
            <a:ext cx="15112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3" name="ตัวเชื่อมต่อตรง 10"/>
          <p:cNvSpPr/>
          <p:nvPr/>
        </p:nvSpPr>
        <p:spPr>
          <a:xfrm>
            <a:off x="4859280" y="2565360"/>
            <a:ext cx="33130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4" name="ตัวเชื่อมต่อตรง 12"/>
          <p:cNvSpPr/>
          <p:nvPr/>
        </p:nvSpPr>
        <p:spPr>
          <a:xfrm>
            <a:off x="3132000" y="5013360"/>
            <a:ext cx="489600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5" name="ตัวเชื่อมต่อตรง 11"/>
          <p:cNvSpPr/>
          <p:nvPr/>
        </p:nvSpPr>
        <p:spPr>
          <a:xfrm>
            <a:off x="4932360" y="2997360"/>
            <a:ext cx="15112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6" name="ตัวเชื่อมต่อตรง 13"/>
          <p:cNvSpPr/>
          <p:nvPr/>
        </p:nvSpPr>
        <p:spPr>
          <a:xfrm>
            <a:off x="3132000" y="5877000"/>
            <a:ext cx="489600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7" name="ตัวเชื่อมต่อตรง 14"/>
          <p:cNvSpPr/>
          <p:nvPr/>
        </p:nvSpPr>
        <p:spPr>
          <a:xfrm>
            <a:off x="3132000" y="4005360"/>
            <a:ext cx="331164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8" name="ตัวแทนหมายเลขภาพนิ่ง 1"/>
          <p:cNvSpPr/>
          <p:nvPr/>
        </p:nvSpPr>
        <p:spPr>
          <a:xfrm>
            <a:off x="7128000" y="64818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B596-AE44-4118-AE91-452276801098}" type="slidenum">
              <a:rPr b="0" lang="th-TH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9" name="Picture 2" descr=""/>
          <p:cNvPicPr/>
          <p:nvPr/>
        </p:nvPicPr>
        <p:blipFill>
          <a:blip r:embed="rId1"/>
          <a:srcRect l="12885" t="14586" r="14500" b="6242"/>
          <a:stretch/>
        </p:blipFill>
        <p:spPr>
          <a:xfrm>
            <a:off x="6702480" y="838080"/>
            <a:ext cx="2055600" cy="1260720"/>
          </a:xfrm>
          <a:prstGeom prst="rect">
            <a:avLst/>
          </a:prstGeom>
          <a:ln w="0">
            <a:noFill/>
          </a:ln>
        </p:spPr>
      </p:pic>
      <p:sp>
        <p:nvSpPr>
          <p:cNvPr id="3460" name="Rectangle 2"/>
          <p:cNvSpPr/>
          <p:nvPr/>
        </p:nvSpPr>
        <p:spPr>
          <a:xfrm>
            <a:off x="46080" y="9216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000" spc="-1" strike="noStrike">
                <a:solidFill>
                  <a:srgbClr val="002060"/>
                </a:solidFill>
                <a:latin typeface="Tahoma"/>
                <a:cs typeface="Tahoma"/>
              </a:rPr>
              <a:t>แนวทางดำเนินการจัดทำแผนปฏิรูปองค์การ </a:t>
            </a:r>
            <a:r>
              <a:rPr b="1" lang="th-TH" sz="2000" spc="-1" strike="noStrike">
                <a:solidFill>
                  <a:srgbClr val="002060"/>
                </a:solidFill>
                <a:latin typeface="Tahoma"/>
                <a:ea typeface="Tahoma"/>
              </a:rPr>
              <a:t>: </a:t>
            </a:r>
            <a:br>
              <a:rPr sz="2000"/>
            </a:br>
            <a:r>
              <a:rPr b="1" lang="th-TH" sz="2000" spc="-1" strike="noStrike">
                <a:solidFill>
                  <a:srgbClr val="002060"/>
                </a:solidFill>
                <a:latin typeface="Tahoma"/>
                <a:ea typeface="Tahoma"/>
              </a:rPr>
              <a:t>    </a:t>
            </a:r>
            <a:r>
              <a:rPr b="1" lang="th-TH" sz="2000" spc="-1" strike="noStrike">
                <a:solidFill>
                  <a:srgbClr val="002060"/>
                </a:solidFill>
                <a:latin typeface="Tahoma"/>
                <a:cs typeface="Tahoma"/>
              </a:rPr>
              <a:t>ส่วนที่ 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2 :</a:t>
            </a:r>
            <a:r>
              <a:rPr b="1" lang="th-TH" sz="20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2000" spc="-1" strike="noStrike">
                <a:solidFill>
                  <a:srgbClr val="002060"/>
                </a:solidFill>
                <a:latin typeface="Tahoma"/>
                <a:cs typeface="Tahoma"/>
              </a:rPr>
              <a:t>บทวิเคราะห์บทบาทภารกิจของกรม</a:t>
            </a:r>
            <a:r>
              <a:rPr b="1" lang="th-TH" sz="2000" spc="-1" strike="noStrike">
                <a:solidFill>
                  <a:srgbClr val="002060"/>
                </a:solidFill>
                <a:latin typeface="Tahoma"/>
                <a:ea typeface="Tahoma"/>
              </a:rPr>
              <a:t>.........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1" name="ตัวแทนหมายเลขภาพนิ่ง 1"/>
          <p:cNvSpPr/>
          <p:nvPr/>
        </p:nvSpPr>
        <p:spPr>
          <a:xfrm>
            <a:off x="7128000" y="64818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5F75-22B7-4D76-8252-097BC0926C2D}" type="slidenum">
              <a:rPr b="0" lang="th-TH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2" name="TextBox 8"/>
          <p:cNvSpPr/>
          <p:nvPr/>
        </p:nvSpPr>
        <p:spPr>
          <a:xfrm>
            <a:off x="152280" y="743040"/>
            <a:ext cx="611208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ahoma"/>
                <a:ea typeface="Tahoma"/>
              </a:rPr>
              <a:t>2.1 </a:t>
            </a:r>
            <a:r>
              <a:rPr b="1" lang="th-TH" sz="1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33cc"/>
                </a:solidFill>
                <a:latin typeface="Tahoma"/>
                <a:cs typeface="Tahoma"/>
              </a:rPr>
              <a:t>การวิเคราะห์ภารกิจของกรมในปัจจุบัน </a:t>
            </a:r>
            <a:r>
              <a:rPr b="1" lang="en-US" sz="1400" spc="-1" strike="noStrike">
                <a:solidFill>
                  <a:srgbClr val="0033cc"/>
                </a:solidFill>
                <a:latin typeface="Tahoma"/>
                <a:ea typeface="Tahoma"/>
              </a:rPr>
              <a:t>(As-I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98560" indent="-54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1.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วิเคราะห์ภารกิจหลัก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vs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ภารกิจรอง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โดยวิเคราะห์จากแนวทางการจำแนกภารกิจของหน่วยงานภาครั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98560" indent="-5428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วิเคราะห์ภารกิจหลัก </a:t>
            </a:r>
            <a:r>
              <a:rPr b="1" lang="th-TH" sz="1200" spc="-1" strike="noStrike">
                <a:solidFill>
                  <a:srgbClr val="ff0000"/>
                </a:solidFill>
                <a:latin typeface="Tahoma"/>
                <a:ea typeface="Tahoma"/>
              </a:rPr>
              <a:t>(</a:t>
            </a:r>
            <a:r>
              <a:rPr b="1" lang="th-TH" sz="1200" spc="-1" strike="noStrike">
                <a:solidFill>
                  <a:srgbClr val="ff0000"/>
                </a:solidFill>
                <a:latin typeface="Tahoma"/>
                <a:cs typeface="Tahoma"/>
              </a:rPr>
              <a:t>ไม่เกิน 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  <a:ea typeface="Tahoma"/>
              </a:rPr>
              <a:t>5</a:t>
            </a:r>
            <a:r>
              <a:rPr b="1" lang="th-TH" sz="12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th-TH" sz="1200" spc="-1" strike="noStrike">
                <a:solidFill>
                  <a:srgbClr val="ff0000"/>
                </a:solidFill>
                <a:latin typeface="Tahoma"/>
                <a:cs typeface="Tahoma"/>
              </a:rPr>
              <a:t>ภารกิจหลัก</a:t>
            </a:r>
            <a:r>
              <a:rPr b="1" lang="th-TH" sz="1200" spc="-1" strike="noStrike">
                <a:solidFill>
                  <a:srgbClr val="ff0000"/>
                </a:solidFill>
                <a:latin typeface="Tahoma"/>
                <a:ea typeface="Tahoma"/>
              </a:rPr>
              <a:t>)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เรียงตามลำดับความสำคัญจากมากไปน้อย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98560" indent="-5428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วิเคราะห์ภารกิจรองของกรม แบ่งเป็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98560" indent="-54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งานให้การสนับสนุนทางวิชาการ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Technical Support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98560" indent="-54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งานสนับสนุนทางบริหารจัดการ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(Administrative Suppor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98560" indent="-54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98560" indent="-54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3" name="TextBox 9"/>
          <p:cNvSpPr/>
          <p:nvPr/>
        </p:nvSpPr>
        <p:spPr>
          <a:xfrm>
            <a:off x="152280" y="2863800"/>
            <a:ext cx="765972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ahoma"/>
                <a:ea typeface="Tahoma"/>
              </a:rPr>
              <a:t>2.2 </a:t>
            </a:r>
            <a:r>
              <a:rPr b="1" lang="th-TH" sz="1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33cc"/>
                </a:solidFill>
                <a:latin typeface="Tahoma"/>
                <a:cs typeface="Tahoma"/>
              </a:rPr>
              <a:t>ข้อเสนอการปรับเปลี่ยนบทบาทภารกิจของกรม </a:t>
            </a:r>
            <a:r>
              <a:rPr b="1" lang="en-US" sz="1400" spc="-1" strike="noStrike">
                <a:solidFill>
                  <a:srgbClr val="0033cc"/>
                </a:solidFill>
                <a:latin typeface="Tahoma"/>
                <a:ea typeface="Tahoma"/>
              </a:rPr>
              <a:t>(To-B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2.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สนอการปรับบทบาทภารกิจของกรม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ภารกิจหลัก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ore function)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และภารกิจรอง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on-core fun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สนอการปรับบทบาทภารกิจของกรม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1" lang="th-TH" sz="1200" spc="-1" strike="noStrike" u="sng">
                <a:solidFill>
                  <a:srgbClr val="0033cc"/>
                </a:solidFill>
                <a:uFillTx/>
                <a:latin typeface="Tahoma"/>
                <a:cs typeface="Tahoma"/>
              </a:rPr>
              <a:t>ภารกิจหลัก</a:t>
            </a:r>
            <a:r>
              <a:rPr b="1" lang="th-TH" sz="12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th-TH" sz="1200" spc="-1" strike="noStrike">
                <a:solidFill>
                  <a:srgbClr val="0033cc"/>
                </a:solidFill>
                <a:latin typeface="Tahoma"/>
                <a:ea typeface="Tahoma"/>
              </a:rPr>
              <a:t>(</a:t>
            </a:r>
            <a:r>
              <a:rPr b="1" lang="en-US" sz="1200" spc="-1" strike="noStrike">
                <a:solidFill>
                  <a:srgbClr val="0033cc"/>
                </a:solidFill>
                <a:latin typeface="Tahoma"/>
                <a:ea typeface="Tahoma"/>
              </a:rPr>
              <a:t>Core fun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98560" indent="1731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วิเคราะห์บทบาทภารกิจในปัจจุบัน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(As-Is)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โดยวิเคราะห์จากคำนิยามการจำแนกบทบาทภาครั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98560" indent="1731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วิเคราะห์บทบาทภารกิจในอนาคตที่ควรจะเป็น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(To-b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98560" indent="1731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สนอแนวทางการพัฒนาองค์การที่จะไปสู่บทบาทนั้น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(How t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98560" indent="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98560" indent="1731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สนอการปรับบทบาทภารกิจของกรม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1" lang="th-TH" sz="1200" spc="-1" strike="noStrike" u="sng">
                <a:solidFill>
                  <a:srgbClr val="0033cc"/>
                </a:solidFill>
                <a:uFillTx/>
                <a:latin typeface="Tahoma"/>
                <a:cs typeface="Tahoma"/>
              </a:rPr>
              <a:t>ภารกิจรอง</a:t>
            </a:r>
            <a:r>
              <a:rPr b="1" lang="th-TH" sz="12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th-TH" sz="1200" spc="-1" strike="noStrike">
                <a:solidFill>
                  <a:srgbClr val="0033cc"/>
                </a:solidFill>
                <a:latin typeface="Tahoma"/>
                <a:ea typeface="Tahoma"/>
              </a:rPr>
              <a:t>(</a:t>
            </a:r>
            <a:r>
              <a:rPr b="1" lang="en-US" sz="1200" spc="-1" strike="noStrike">
                <a:solidFill>
                  <a:srgbClr val="0033cc"/>
                </a:solidFill>
                <a:latin typeface="Tahoma"/>
                <a:ea typeface="Tahoma"/>
              </a:rPr>
              <a:t>Non-core fun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98560" indent="1731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Technical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98560" indent="1731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dministrative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4" name="Right Arrow 14"/>
          <p:cNvSpPr/>
          <p:nvPr/>
        </p:nvSpPr>
        <p:spPr>
          <a:xfrm>
            <a:off x="4716360" y="2397240"/>
            <a:ext cx="15264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5" name="Right Arrow 15"/>
          <p:cNvSpPr/>
          <p:nvPr/>
        </p:nvSpPr>
        <p:spPr>
          <a:xfrm>
            <a:off x="7264440" y="3408480"/>
            <a:ext cx="15228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6" name="Right Arrow 15"/>
          <p:cNvSpPr/>
          <p:nvPr/>
        </p:nvSpPr>
        <p:spPr>
          <a:xfrm>
            <a:off x="6516720" y="4390920"/>
            <a:ext cx="15228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7" name="Rounded Rectangle 17"/>
          <p:cNvSpPr/>
          <p:nvPr/>
        </p:nvSpPr>
        <p:spPr>
          <a:xfrm>
            <a:off x="6659640" y="1325520"/>
            <a:ext cx="2114640" cy="579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8" name="TextBox 23"/>
          <p:cNvSpPr/>
          <p:nvPr/>
        </p:nvSpPr>
        <p:spPr>
          <a:xfrm>
            <a:off x="152280" y="5132520"/>
            <a:ext cx="8915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2.2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สนอการปรับเปลี่ยนโครงสร้างและอัตรากำลังที่จะรองรับบทบาทภารกิจใหม่ในอนาค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98560" indent="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98560" indent="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2.3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สนอการปรับเปลี่ยนในระยะ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ปี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ปีงบประมาณ พ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562 –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พ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5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9" name="Right Arrow 24"/>
          <p:cNvSpPr/>
          <p:nvPr/>
        </p:nvSpPr>
        <p:spPr>
          <a:xfrm>
            <a:off x="3808440" y="6164280"/>
            <a:ext cx="15228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0" name="Right Arrow 15"/>
          <p:cNvSpPr/>
          <p:nvPr/>
        </p:nvSpPr>
        <p:spPr>
          <a:xfrm>
            <a:off x="6516720" y="5205240"/>
            <a:ext cx="15228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1" name="Picture 3" descr=""/>
          <p:cNvPicPr/>
          <p:nvPr/>
        </p:nvPicPr>
        <p:blipFill>
          <a:blip r:embed="rId2"/>
          <a:srcRect l="12891" t="0" r="12733" b="0"/>
          <a:stretch/>
        </p:blipFill>
        <p:spPr>
          <a:xfrm>
            <a:off x="5070600" y="1922400"/>
            <a:ext cx="119052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72" name="รูปภาพ 3" descr=""/>
          <p:cNvPicPr/>
          <p:nvPr/>
        </p:nvPicPr>
        <p:blipFill>
          <a:blip r:embed="rId3"/>
          <a:stretch/>
        </p:blipFill>
        <p:spPr>
          <a:xfrm>
            <a:off x="7694640" y="2987640"/>
            <a:ext cx="1281240" cy="96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73" name="รูปภาพ 4" descr=""/>
          <p:cNvPicPr/>
          <p:nvPr/>
        </p:nvPicPr>
        <p:blipFill>
          <a:blip r:embed="rId4"/>
          <a:stretch/>
        </p:blipFill>
        <p:spPr>
          <a:xfrm>
            <a:off x="7094520" y="4240080"/>
            <a:ext cx="1217520" cy="91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74" name="รูปภาพ 7" descr=""/>
          <p:cNvPicPr/>
          <p:nvPr/>
        </p:nvPicPr>
        <p:blipFill>
          <a:blip r:embed="rId5"/>
          <a:stretch/>
        </p:blipFill>
        <p:spPr>
          <a:xfrm>
            <a:off x="4183200" y="5819760"/>
            <a:ext cx="1224000" cy="91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75" name="Picture 2" descr=""/>
          <p:cNvPicPr/>
          <p:nvPr/>
        </p:nvPicPr>
        <p:blipFill>
          <a:blip r:embed="rId6"/>
          <a:srcRect l="12453" t="0" r="12850" b="0"/>
          <a:stretch/>
        </p:blipFill>
        <p:spPr>
          <a:xfrm>
            <a:off x="7093080" y="5229360"/>
            <a:ext cx="1218960" cy="91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76" name="เมฆ 19"/>
          <p:cNvSpPr/>
          <p:nvPr/>
        </p:nvSpPr>
        <p:spPr>
          <a:xfrm>
            <a:off x="6264360" y="439560"/>
            <a:ext cx="2879640" cy="1974960"/>
          </a:xfrm>
          <a:custGeom>
            <a:avLst/>
            <a:gdLst>
              <a:gd name="textAreaLeft" fmla="*/ 396720 w 2879640"/>
              <a:gd name="textAreaRight" fmla="*/ 2278080 w 2879640"/>
              <a:gd name="textAreaTop" fmla="*/ 298080 h 1974960"/>
              <a:gd name="textAreaBottom" fmla="*/ 1585440 h 19749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noFill/>
          <a:ln w="3240">
            <a:solidFill>
              <a:srgbClr val="41719c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Rectangle 2"/>
          <p:cNvSpPr/>
          <p:nvPr/>
        </p:nvSpPr>
        <p:spPr>
          <a:xfrm>
            <a:off x="34920" y="95400"/>
            <a:ext cx="8804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895320" indent="-895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1500" spc="-1" strike="noStrike">
                <a:solidFill>
                  <a:srgbClr val="002060"/>
                </a:solidFill>
                <a:latin typeface="Tahoma"/>
                <a:cs typeface="Tahoma"/>
              </a:rPr>
              <a:t>ส่วนที่ </a:t>
            </a:r>
            <a:r>
              <a:rPr b="1" lang="en-US" sz="1500" spc="-1" strike="noStrike">
                <a:solidFill>
                  <a:srgbClr val="002060"/>
                </a:solidFill>
                <a:latin typeface="Tahoma"/>
                <a:ea typeface="Tahoma"/>
              </a:rPr>
              <a:t>2 :</a:t>
            </a:r>
            <a:r>
              <a:rPr b="1" lang="th-TH" sz="15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500" spc="-1" strike="noStrike">
                <a:solidFill>
                  <a:srgbClr val="002060"/>
                </a:solidFill>
                <a:latin typeface="Tahoma"/>
                <a:cs typeface="Tahoma"/>
              </a:rPr>
              <a:t>บทวิเคราะห์บทบาทภารกิจของกรม </a:t>
            </a:r>
            <a:r>
              <a:rPr b="1" lang="en-US" sz="1500" spc="-1" strike="noStrike">
                <a:solidFill>
                  <a:srgbClr val="002060"/>
                </a:solidFill>
                <a:latin typeface="Tahoma"/>
                <a:ea typeface="Tahoma"/>
              </a:rPr>
              <a:t>: </a:t>
            </a:r>
            <a:r>
              <a:rPr b="1" lang="th-TH" sz="1500" spc="-1" strike="noStrike">
                <a:solidFill>
                  <a:srgbClr val="002060"/>
                </a:solidFill>
                <a:latin typeface="Tahoma"/>
                <a:ea typeface="Tahoma"/>
              </a:rPr>
              <a:t>2.1  </a:t>
            </a:r>
            <a:r>
              <a:rPr b="1" lang="th-TH" sz="1500" spc="-1" strike="noStrike">
                <a:solidFill>
                  <a:srgbClr val="002060"/>
                </a:solidFill>
                <a:latin typeface="Tahoma"/>
                <a:cs typeface="Tahoma"/>
              </a:rPr>
              <a:t>การวิเคราะห์ภารกิจของกรมในปัจจุบัน </a:t>
            </a:r>
            <a:r>
              <a:rPr b="1" lang="th-TH" sz="1500" spc="-1" strike="noStrike">
                <a:solidFill>
                  <a:srgbClr val="002060"/>
                </a:solidFill>
                <a:latin typeface="Tahoma"/>
                <a:ea typeface="Tahoma"/>
              </a:rPr>
              <a:t>(</a:t>
            </a:r>
            <a:r>
              <a:rPr b="1" lang="en-US" sz="1500" spc="-1" strike="noStrike">
                <a:solidFill>
                  <a:srgbClr val="002060"/>
                </a:solidFill>
                <a:latin typeface="Tahoma"/>
                <a:ea typeface="Tahoma"/>
              </a:rPr>
              <a:t>As-Is)</a:t>
            </a:r>
            <a:r>
              <a:rPr b="1" lang="th-TH" sz="16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br>
              <a:rPr sz="1600"/>
            </a:br>
            <a:r>
              <a:rPr b="1" lang="th-TH" sz="1600" spc="-1" strike="noStrike">
                <a:solidFill>
                  <a:srgbClr val="002060"/>
                </a:solidFill>
                <a:latin typeface="Tahoma"/>
                <a:cs typeface="Tahoma"/>
              </a:rPr>
              <a:t>แบบฟอร์ม </a:t>
            </a:r>
            <a:r>
              <a:rPr b="1" lang="en-US" sz="1600" spc="-1" strike="noStrike">
                <a:solidFill>
                  <a:srgbClr val="002060"/>
                </a:solidFill>
                <a:latin typeface="Tahoma"/>
                <a:ea typeface="Tahoma"/>
              </a:rPr>
              <a:t>2.1.1 </a:t>
            </a:r>
            <a:r>
              <a:rPr b="1" lang="th-TH" sz="1600" spc="-1" strike="noStrike">
                <a:solidFill>
                  <a:srgbClr val="002060"/>
                </a:solidFill>
                <a:latin typeface="Tahoma"/>
                <a:cs typeface="Tahoma"/>
              </a:rPr>
              <a:t>วิเคราะห์ภารกิจหลักและภารกิจรองของกรม</a:t>
            </a:r>
            <a:r>
              <a:rPr b="1" lang="th-TH" sz="1600" spc="-1" strike="noStrike">
                <a:solidFill>
                  <a:srgbClr val="002060"/>
                </a:solidFill>
                <a:latin typeface="Tahoma"/>
                <a:ea typeface="Tahoma"/>
              </a:rPr>
              <a:t>....................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78" name=""/>
          <p:cNvGraphicFramePr/>
          <p:nvPr/>
        </p:nvGraphicFramePr>
        <p:xfrm>
          <a:off x="228600" y="851040"/>
          <a:ext cx="8686800" cy="5059080"/>
        </p:xfrm>
        <a:graphic>
          <a:graphicData uri="http://schemas.openxmlformats.org/drawingml/2006/table">
            <a:tbl>
              <a:tblPr/>
              <a:tblGrid>
                <a:gridCol w="6864480"/>
                <a:gridCol w="608040"/>
                <a:gridCol w="606240"/>
                <a:gridCol w="60804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ภารกิ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ประเภท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N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(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N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(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1. </a:t>
                      </a:r>
                      <a:r>
                        <a:rPr b="1" lang="th-TH" sz="1000" spc="-1" strike="noStrike">
                          <a:solidFill>
                            <a:srgbClr val="002060"/>
                          </a:solidFill>
                          <a:latin typeface="Tahoma"/>
                          <a:cs typeface="Tahoma"/>
                        </a:rPr>
                        <a:t>ภารกิจ</a:t>
                      </a:r>
                      <a:r>
                        <a:rPr b="1" lang="th-TH" sz="10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1.1 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cs typeface="Tahoma"/>
                        </a:rPr>
                        <a:t>กิจกรรม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cs typeface="Tahoma"/>
                        </a:rPr>
                        <a:t>งาน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1.1.1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 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.2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.3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 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cs typeface="Tahoma"/>
                        </a:rPr>
                        <a:t>งาน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.1 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.2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3960" indent="-453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177840">
                        <a:lnSpc>
                          <a:spcPct val="100000"/>
                        </a:lnSpc>
                        <a:buClr>
                          <a:srgbClr val="262626"/>
                        </a:buClr>
                        <a:buFont typeface="Calibri Ligh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177840">
                        <a:lnSpc>
                          <a:spcPct val="100000"/>
                        </a:lnSpc>
                        <a:buClr>
                          <a:srgbClr val="262626"/>
                        </a:buClr>
                        <a:buFont typeface="Calibri Ligh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2.</a:t>
                      </a:r>
                      <a:r>
                        <a:rPr b="1" lang="th-TH" sz="10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th-TH" sz="1000" spc="-1" strike="noStrike">
                          <a:solidFill>
                            <a:srgbClr val="002060"/>
                          </a:solidFill>
                          <a:latin typeface="Tahoma"/>
                          <a:cs typeface="Tahoma"/>
                        </a:rPr>
                        <a:t>ภารกิจ</a:t>
                      </a:r>
                      <a:r>
                        <a:rPr b="1" lang="th-TH" sz="10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2.1 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cs typeface="Tahoma"/>
                        </a:rPr>
                        <a:t>กิจกรรม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cs typeface="Tahoma"/>
                        </a:rPr>
                        <a:t>งาน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2.1.1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 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.2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.3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 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cs typeface="Tahoma"/>
                        </a:rPr>
                        <a:t>งาน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.1 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.2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6560" indent="-4665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1728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 Ligh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1728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 Ligh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3.</a:t>
                      </a:r>
                      <a:r>
                        <a:rPr b="1" lang="th-TH" sz="10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th-TH" sz="1000" spc="-1" strike="noStrike">
                          <a:solidFill>
                            <a:srgbClr val="002060"/>
                          </a:solidFill>
                          <a:latin typeface="Tahoma"/>
                          <a:cs typeface="Tahoma"/>
                        </a:rPr>
                        <a:t>ภารกิจ</a:t>
                      </a:r>
                      <a:r>
                        <a:rPr b="1" lang="th-TH" sz="10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3.1 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cs typeface="Tahoma"/>
                        </a:rPr>
                        <a:t>กิจกรรม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cs typeface="Tahoma"/>
                        </a:rPr>
                        <a:t>งาน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3.1.1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 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1.2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1.3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1728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 Ligh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6560" indent="-4665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1728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 Ligh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ภารกิจ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1728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 Ligh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6560" indent="-4665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1728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 Ligh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.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ภารกิจ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1728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 Ligh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6560" indent="-4665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04640" indent="-4046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</a:tbl>
          </a:graphicData>
        </a:graphic>
      </p:graphicFrame>
      <p:sp>
        <p:nvSpPr>
          <p:cNvPr id="3479" name="TextBox 20"/>
          <p:cNvSpPr/>
          <p:nvPr/>
        </p:nvSpPr>
        <p:spPr>
          <a:xfrm>
            <a:off x="152280" y="6127920"/>
            <a:ext cx="6096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หมายเหตุ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: *    C =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ภารกิจหลัก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ore function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C (TS) =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ภารกิจรอง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on-core Technical Support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C (AS) =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ภารกิจรอง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on-core Administrative Support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0" name="ตัวแทนหมายเลขภาพนิ่ง 1"/>
          <p:cNvSpPr/>
          <p:nvPr/>
        </p:nvSpPr>
        <p:spPr>
          <a:xfrm>
            <a:off x="7051680" y="64818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BC97-92CB-4907-917B-084027D043C9}" type="slidenum">
              <a:rPr b="0" lang="th-TH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Rectangle 2"/>
          <p:cNvSpPr/>
          <p:nvPr/>
        </p:nvSpPr>
        <p:spPr>
          <a:xfrm>
            <a:off x="93600" y="90360"/>
            <a:ext cx="8510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809640" indent="-809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ส่วนที่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 :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บทวิเคราะห์บทบาทภารกิจของกรม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: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2.2 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ข้อเสนอการปรับเปลี่ยนบทบาทภารกิจของกรม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(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To-Be)</a:t>
            </a:r>
            <a:br>
              <a:rPr sz="1400"/>
            </a:b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แบบฟอร์ม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2.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.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1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ข้อเสนอการปรับบทบาทภารกิจของกรม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.....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: </a:t>
            </a:r>
            <a:r>
              <a:rPr b="1" lang="th-TH" sz="1400" spc="-1" strike="noStrike" u="sng">
                <a:solidFill>
                  <a:srgbClr val="002060"/>
                </a:solidFill>
                <a:uFillTx/>
                <a:latin typeface="Tahoma"/>
                <a:cs typeface="Tahoma"/>
              </a:rPr>
              <a:t>ภารกิจหลัก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(Core functio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82" name=""/>
          <p:cNvGraphicFramePr/>
          <p:nvPr/>
        </p:nvGraphicFramePr>
        <p:xfrm>
          <a:off x="139680" y="1195560"/>
          <a:ext cx="8877240" cy="4178160"/>
        </p:xfrm>
        <a:graphic>
          <a:graphicData uri="http://schemas.openxmlformats.org/drawingml/2006/table">
            <a:tbl>
              <a:tblPr/>
              <a:tblGrid>
                <a:gridCol w="3975120"/>
                <a:gridCol w="990720"/>
                <a:gridCol w="990360"/>
                <a:gridCol w="292104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ภารกิจหลัก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(Core  functi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2e75b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บทบาทภาครั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2e75b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แนวทางการพัฒนาองค์การ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(How t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2e75b6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(As-I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2e75b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(To-B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2e75b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900" spc="-1" strike="noStrike">
                          <a:solidFill>
                            <a:srgbClr val="002060"/>
                          </a:solidFill>
                          <a:latin typeface="Tahoma"/>
                          <a:cs typeface="Tahoma"/>
                        </a:rPr>
                        <a:t>ภารกิจ </a:t>
                      </a: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1 :</a:t>
                      </a:r>
                      <a:r>
                        <a:rPr b="1" lang="th-TH" sz="9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th-TH" sz="900" spc="-1" strike="noStrike">
                          <a:solidFill>
                            <a:srgbClr val="002060"/>
                          </a:solidFill>
                          <a:latin typeface="Tahoma"/>
                          <a:cs typeface="Tahoma"/>
                        </a:rPr>
                        <a:t>งาน</a:t>
                      </a:r>
                      <a:r>
                        <a:rPr b="1" lang="th-TH" sz="9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......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27120" indent="-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9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ิจกรรม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:</a:t>
                      </a:r>
                      <a:r>
                        <a:rPr b="0" lang="th-TH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9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</a:t>
                      </a: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27120" indent="-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9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ิจกรรม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 :</a:t>
                      </a:r>
                      <a:r>
                        <a:rPr b="0" lang="th-TH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9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</a:t>
                      </a: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27120" indent="-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9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ิจกรรม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:</a:t>
                      </a:r>
                      <a:r>
                        <a:rPr b="0" lang="th-TH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9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</a:t>
                      </a: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gul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gul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mart Regul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gul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900" spc="-1" strike="noStrike">
                          <a:solidFill>
                            <a:srgbClr val="002060"/>
                          </a:solidFill>
                          <a:latin typeface="Tahoma"/>
                          <a:cs typeface="Tahoma"/>
                        </a:rPr>
                        <a:t>ภารกิจ </a:t>
                      </a: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th-TH" sz="9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:</a:t>
                      </a:r>
                      <a:r>
                        <a:rPr b="1" lang="th-TH" sz="9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th-TH" sz="900" spc="-1" strike="noStrike">
                          <a:solidFill>
                            <a:srgbClr val="002060"/>
                          </a:solidFill>
                          <a:latin typeface="Tahoma"/>
                          <a:cs typeface="Tahoma"/>
                        </a:rPr>
                        <a:t>งาน</a:t>
                      </a:r>
                      <a:r>
                        <a:rPr b="1" lang="th-TH" sz="9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......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indent="-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cs typeface="Tahoma"/>
                        </a:rPr>
                        <a:t>กิจกรรม </a:t>
                      </a:r>
                      <a:r>
                        <a:rPr b="0" lang="en-US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:</a:t>
                      </a: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9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</a:t>
                      </a: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cs typeface="Tahoma"/>
                        </a:rPr>
                        <a:t>กิจกรรม </a:t>
                      </a:r>
                      <a:r>
                        <a:rPr b="0" lang="en-US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2 :</a:t>
                      </a: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9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</a:t>
                      </a: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gul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gul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gul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gul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900" spc="-1" strike="noStrike">
                          <a:solidFill>
                            <a:srgbClr val="002060"/>
                          </a:solidFill>
                          <a:latin typeface="Tahoma"/>
                          <a:cs typeface="Tahoma"/>
                        </a:rPr>
                        <a:t>ภารกิจ </a:t>
                      </a: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3 :</a:t>
                      </a:r>
                      <a:r>
                        <a:rPr b="1" lang="th-TH" sz="9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th-TH" sz="900" spc="-1" strike="noStrike">
                          <a:solidFill>
                            <a:srgbClr val="002060"/>
                          </a:solidFill>
                          <a:latin typeface="Tahoma"/>
                          <a:cs typeface="Tahoma"/>
                        </a:rPr>
                        <a:t>งาน</a:t>
                      </a:r>
                      <a:r>
                        <a:rPr b="1" lang="th-TH" sz="9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......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indent="-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27120" indent="-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cs typeface="Tahoma"/>
                        </a:rPr>
                        <a:t>กิจกรรม </a:t>
                      </a:r>
                      <a:r>
                        <a:rPr b="0" lang="en-US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1 :</a:t>
                      </a: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9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</a:t>
                      </a: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27120" indent="-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cs typeface="Tahoma"/>
                        </a:rPr>
                        <a:t>กิจกรรม </a:t>
                      </a:r>
                      <a:r>
                        <a:rPr b="0" lang="en-US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2 :</a:t>
                      </a: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9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</a:t>
                      </a: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27120" indent="-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gul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gul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gul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gul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712800" indent="-712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900" spc="-1" strike="noStrike">
                          <a:solidFill>
                            <a:srgbClr val="002060"/>
                          </a:solidFill>
                          <a:latin typeface="Tahoma"/>
                          <a:cs typeface="Tahoma"/>
                        </a:rPr>
                        <a:t>ภารกิจ </a:t>
                      </a: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4 :</a:t>
                      </a:r>
                      <a:r>
                        <a:rPr b="1" lang="th-TH" sz="9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th-TH" sz="900" spc="-1" strike="noStrike">
                          <a:solidFill>
                            <a:srgbClr val="002060"/>
                          </a:solidFill>
                          <a:latin typeface="Tahoma"/>
                          <a:cs typeface="Tahoma"/>
                        </a:rPr>
                        <a:t>งาน</a:t>
                      </a:r>
                      <a:r>
                        <a:rPr b="1" lang="th-TH" sz="9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......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indent="-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27120" indent="-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cs typeface="Tahoma"/>
                        </a:rPr>
                        <a:t>กิจกรรม </a:t>
                      </a:r>
                      <a:r>
                        <a:rPr b="0" lang="en-US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1 :</a:t>
                      </a: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9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</a:t>
                      </a: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27120" indent="-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cs typeface="Tahoma"/>
                        </a:rPr>
                        <a:t>กิจกรรม </a:t>
                      </a:r>
                      <a:r>
                        <a:rPr b="0" lang="en-US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2 :</a:t>
                      </a: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9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</a:t>
                      </a: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27120" indent="-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gul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gul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gul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gul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5760" indent="-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900" spc="-1" strike="noStrike">
                          <a:solidFill>
                            <a:srgbClr val="002060"/>
                          </a:solidFill>
                          <a:latin typeface="Tahoma"/>
                          <a:cs typeface="Tahoma"/>
                        </a:rPr>
                        <a:t>ภารกิจ </a:t>
                      </a: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5 : </a:t>
                      </a:r>
                      <a:r>
                        <a:rPr b="1" lang="th-TH" sz="900" spc="-1" strike="noStrike">
                          <a:solidFill>
                            <a:srgbClr val="002060"/>
                          </a:solidFill>
                          <a:latin typeface="Tahoma"/>
                          <a:cs typeface="Tahoma"/>
                        </a:rPr>
                        <a:t>งาน</a:t>
                      </a:r>
                      <a:r>
                        <a:rPr b="1" lang="th-TH" sz="9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......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27120" indent="-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cs typeface="Tahoma"/>
                        </a:rPr>
                        <a:t>กิจกรรม </a:t>
                      </a:r>
                      <a:r>
                        <a:rPr b="0" lang="en-US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1 :</a:t>
                      </a: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9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</a:t>
                      </a: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27120" indent="-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cs typeface="Tahoma"/>
                        </a:rPr>
                        <a:t>กิจกรรม </a:t>
                      </a:r>
                      <a:r>
                        <a:rPr b="0" lang="en-US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2 :</a:t>
                      </a: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9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</a:t>
                      </a:r>
                      <a:r>
                        <a:rPr b="0" lang="th-TH" sz="900" spc="-1" strike="noStrike">
                          <a:solidFill>
                            <a:srgbClr val="262626"/>
                          </a:solidFill>
                          <a:latin typeface="Tahoma"/>
                          <a:ea typeface="Tahoma"/>
                        </a:rPr>
                        <a:t>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27120" indent="-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27120" indent="-62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27120" indent="-62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ew Oper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9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ุบเลิ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483" name="ลูกศรขวาท้ายขีด 4"/>
          <p:cNvSpPr/>
          <p:nvPr/>
        </p:nvSpPr>
        <p:spPr>
          <a:xfrm>
            <a:off x="4968720" y="4946760"/>
            <a:ext cx="250920" cy="180720"/>
          </a:xfrm>
          <a:custGeom>
            <a:avLst/>
            <a:gdLst>
              <a:gd name="textAreaLeft" fmla="*/ 27720 w 250920"/>
              <a:gd name="textAreaRight" fmla="*/ 206280 w 250920"/>
              <a:gd name="textAreaTop" fmla="*/ 45000 h 180720"/>
              <a:gd name="textAreaBottom" fmla="*/ 135720 h 180720"/>
            </a:gdLst>
            <a:ahLst/>
            <a:rect l="textAreaLeft" t="textAreaTop" r="textAreaRight" b="textAreaBottom"/>
            <a:pathLst>
              <a:path w="252000" h="180000">
                <a:moveTo>
                  <a:pt x="0" y="45000"/>
                </a:moveTo>
                <a:lnTo>
                  <a:pt x="5625" y="45000"/>
                </a:lnTo>
                <a:lnTo>
                  <a:pt x="5625" y="135000"/>
                </a:lnTo>
                <a:lnTo>
                  <a:pt x="0" y="135000"/>
                </a:lnTo>
                <a:close/>
                <a:moveTo>
                  <a:pt x="11250" y="45000"/>
                </a:moveTo>
                <a:lnTo>
                  <a:pt x="22500" y="45000"/>
                </a:lnTo>
                <a:lnTo>
                  <a:pt x="22500" y="135000"/>
                </a:lnTo>
                <a:lnTo>
                  <a:pt x="11250" y="135000"/>
                </a:lnTo>
                <a:close/>
                <a:moveTo>
                  <a:pt x="28125" y="45000"/>
                </a:moveTo>
                <a:lnTo>
                  <a:pt x="162000" y="45000"/>
                </a:lnTo>
                <a:lnTo>
                  <a:pt x="162000" y="0"/>
                </a:lnTo>
                <a:lnTo>
                  <a:pt x="252000" y="90000"/>
                </a:lnTo>
                <a:lnTo>
                  <a:pt x="162000" y="180000"/>
                </a:lnTo>
                <a:lnTo>
                  <a:pt x="162000" y="135000"/>
                </a:lnTo>
                <a:lnTo>
                  <a:pt x="28125" y="1350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4" name="สี่เหลี่ยมผืนผ้ามุมมน 5"/>
          <p:cNvSpPr/>
          <p:nvPr/>
        </p:nvSpPr>
        <p:spPr>
          <a:xfrm>
            <a:off x="4276800" y="4822920"/>
            <a:ext cx="1765080" cy="404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5" name="ลูกศรขวาท้ายขีด 4"/>
          <p:cNvSpPr/>
          <p:nvPr/>
        </p:nvSpPr>
        <p:spPr>
          <a:xfrm>
            <a:off x="4903920" y="1973160"/>
            <a:ext cx="252360" cy="181080"/>
          </a:xfrm>
          <a:custGeom>
            <a:avLst/>
            <a:gdLst>
              <a:gd name="textAreaLeft" fmla="*/ 28080 w 252360"/>
              <a:gd name="textAreaRight" fmla="*/ 207360 w 252360"/>
              <a:gd name="textAreaTop" fmla="*/ 45360 h 181080"/>
              <a:gd name="textAreaBottom" fmla="*/ 136080 h 181080"/>
            </a:gdLst>
            <a:ahLst/>
            <a:rect l="textAreaLeft" t="textAreaTop" r="textAreaRight" b="textAreaBottom"/>
            <a:pathLst>
              <a:path w="252000" h="180000">
                <a:moveTo>
                  <a:pt x="0" y="45000"/>
                </a:moveTo>
                <a:lnTo>
                  <a:pt x="5625" y="45000"/>
                </a:lnTo>
                <a:lnTo>
                  <a:pt x="5625" y="135000"/>
                </a:lnTo>
                <a:lnTo>
                  <a:pt x="0" y="135000"/>
                </a:lnTo>
                <a:close/>
                <a:moveTo>
                  <a:pt x="11250" y="45000"/>
                </a:moveTo>
                <a:lnTo>
                  <a:pt x="22500" y="45000"/>
                </a:lnTo>
                <a:lnTo>
                  <a:pt x="22500" y="135000"/>
                </a:lnTo>
                <a:lnTo>
                  <a:pt x="11250" y="135000"/>
                </a:lnTo>
                <a:close/>
                <a:moveTo>
                  <a:pt x="28125" y="45000"/>
                </a:moveTo>
                <a:lnTo>
                  <a:pt x="162000" y="45000"/>
                </a:lnTo>
                <a:lnTo>
                  <a:pt x="162000" y="0"/>
                </a:lnTo>
                <a:lnTo>
                  <a:pt x="252000" y="90000"/>
                </a:lnTo>
                <a:lnTo>
                  <a:pt x="162000" y="180000"/>
                </a:lnTo>
                <a:lnTo>
                  <a:pt x="162000" y="135000"/>
                </a:lnTo>
                <a:lnTo>
                  <a:pt x="28125" y="1350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6" name="สี่เหลี่ยมผืนผ้ามุมมน 5"/>
          <p:cNvSpPr/>
          <p:nvPr/>
        </p:nvSpPr>
        <p:spPr>
          <a:xfrm>
            <a:off x="4267080" y="1968480"/>
            <a:ext cx="1764000" cy="179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7" name="ตัวแทนหมายเลขภาพนิ่ง 1"/>
          <p:cNvSpPr/>
          <p:nvPr/>
        </p:nvSpPr>
        <p:spPr>
          <a:xfrm>
            <a:off x="7051680" y="64818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3C8B-770D-493F-B9D0-4E386B2D6472}" type="slidenum">
              <a:rPr b="0" lang="th-TH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8" name="ลูกศรขวาท้ายขีด 4"/>
          <p:cNvSpPr/>
          <p:nvPr/>
        </p:nvSpPr>
        <p:spPr>
          <a:xfrm>
            <a:off x="1371600" y="6103800"/>
            <a:ext cx="252360" cy="179640"/>
          </a:xfrm>
          <a:custGeom>
            <a:avLst/>
            <a:gdLst>
              <a:gd name="textAreaLeft" fmla="*/ 28080 w 252360"/>
              <a:gd name="textAreaRight" fmla="*/ 207360 w 252360"/>
              <a:gd name="textAreaTop" fmla="*/ 45000 h 179640"/>
              <a:gd name="textAreaBottom" fmla="*/ 135000 h 179640"/>
            </a:gdLst>
            <a:ahLst/>
            <a:rect l="textAreaLeft" t="textAreaTop" r="textAreaRight" b="textAreaBottom"/>
            <a:pathLst>
              <a:path w="252000" h="180000">
                <a:moveTo>
                  <a:pt x="0" y="45000"/>
                </a:moveTo>
                <a:lnTo>
                  <a:pt x="5625" y="45000"/>
                </a:lnTo>
                <a:lnTo>
                  <a:pt x="5625" y="135000"/>
                </a:lnTo>
                <a:lnTo>
                  <a:pt x="0" y="135000"/>
                </a:lnTo>
                <a:close/>
                <a:moveTo>
                  <a:pt x="11250" y="45000"/>
                </a:moveTo>
                <a:lnTo>
                  <a:pt x="22500" y="45000"/>
                </a:lnTo>
                <a:lnTo>
                  <a:pt x="22500" y="135000"/>
                </a:lnTo>
                <a:lnTo>
                  <a:pt x="11250" y="135000"/>
                </a:lnTo>
                <a:close/>
                <a:moveTo>
                  <a:pt x="28125" y="45000"/>
                </a:moveTo>
                <a:lnTo>
                  <a:pt x="162000" y="45000"/>
                </a:lnTo>
                <a:lnTo>
                  <a:pt x="162000" y="0"/>
                </a:lnTo>
                <a:lnTo>
                  <a:pt x="252000" y="90000"/>
                </a:lnTo>
                <a:lnTo>
                  <a:pt x="162000" y="180000"/>
                </a:lnTo>
                <a:lnTo>
                  <a:pt x="162000" y="135000"/>
                </a:lnTo>
                <a:lnTo>
                  <a:pt x="28125" y="1350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9" name="สี่เหลี่ยมผืนผ้ามุมมน 5"/>
          <p:cNvSpPr/>
          <p:nvPr/>
        </p:nvSpPr>
        <p:spPr>
          <a:xfrm>
            <a:off x="914400" y="6097680"/>
            <a:ext cx="1116000" cy="185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TextBox 11"/>
          <p:cNvSpPr/>
          <p:nvPr/>
        </p:nvSpPr>
        <p:spPr>
          <a:xfrm>
            <a:off x="93600" y="6054840"/>
            <a:ext cx="99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หมายเหตุ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TextBox 12"/>
          <p:cNvSpPr/>
          <p:nvPr/>
        </p:nvSpPr>
        <p:spPr>
          <a:xfrm>
            <a:off x="2016000" y="6062760"/>
            <a:ext cx="4532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ใส่กรอบสีแดงกรณีที่มีการเปลี่ยนแปลงบทบาทภาครัฐจาก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As-Is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ไป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To-B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2" name="สี่เหลี่ยมผืนผ้า 1"/>
          <p:cNvSpPr/>
          <p:nvPr/>
        </p:nvSpPr>
        <p:spPr>
          <a:xfrm>
            <a:off x="6548400" y="2049480"/>
            <a:ext cx="2271600" cy="2773440"/>
          </a:xfrm>
          <a:prstGeom prst="rect">
            <a:avLst/>
          </a:prstGeom>
          <a:solidFill>
            <a:srgbClr val="ffcc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แนวทางการพัฒนา </a:t>
            </a:r>
            <a:br>
              <a:rPr sz="1200"/>
            </a:b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ให้ส่วนราชการคำนึงถึงเรื่องต่อไปนี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นำ</a:t>
            </a:r>
            <a:r>
              <a:rPr b="0" lang="th-TH" sz="12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ทคโนโลยีและนวัตกรรม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สมัยใหม่เข้ามาใช้เพื่อปรับปรุงกระบวนการทำงา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รับ</a:t>
            </a:r>
            <a:r>
              <a:rPr b="0" lang="th-TH" sz="12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ก้ไขกฎหมาย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รองรับรูปแบบการทำงานในอนาคต ที่เกิดจาก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isruptive Technology 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และเพื่ออำนวยความสะดวกให้แก่ผู้รับบริกา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</a:t>
            </a:r>
            <a:r>
              <a:rPr b="0" lang="th-TH" sz="12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พัฒนาบุคลากร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(Human Development)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ให้รองรับการทำงานรูปแบบในอนาคต</a:t>
            </a:r>
            <a:br>
              <a:rPr sz="1200"/>
            </a:b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ที่จะเกิดขึ้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3" name=""/>
          <p:cNvGraphicFramePr/>
          <p:nvPr/>
        </p:nvGraphicFramePr>
        <p:xfrm>
          <a:off x="228600" y="990720"/>
          <a:ext cx="8686800" cy="4054320"/>
        </p:xfrm>
        <a:graphic>
          <a:graphicData uri="http://schemas.openxmlformats.org/drawingml/2006/table">
            <a:tbl>
              <a:tblPr/>
              <a:tblGrid>
                <a:gridCol w="3157560"/>
                <a:gridCol w="2422440"/>
                <a:gridCol w="3106800"/>
              </a:tblGrid>
              <a:tr h="74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ภารกิจรอง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(Non-core func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เป้าหมา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การปรับเปลี่ย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ข้อเสน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การปรับเปลี่ยน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(How t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ahoma"/>
                          <a:ea typeface="Tahoma"/>
                        </a:rPr>
                        <a:t>Technical Suppor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กฎหมา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แผนงานของกร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เทคโนโลยีสารสนเทศของกร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ahoma"/>
                          <a:ea typeface="Tahoma"/>
                        </a:rPr>
                        <a:t>Administrative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ธุรการ สารบรรณ ทั่วไ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คลัง พัสดุ จัดซื้อจัดจ้า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บุคลาก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3494" name="ตัวแทนหมายเลขภาพนิ่ง 1"/>
          <p:cNvSpPr/>
          <p:nvPr/>
        </p:nvSpPr>
        <p:spPr>
          <a:xfrm>
            <a:off x="7051680" y="64818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8F7F-4DDC-470F-A4A3-4AF106022D03}" type="slidenum">
              <a:rPr b="0" lang="th-TH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5" name="Rectangle 2"/>
          <p:cNvSpPr/>
          <p:nvPr/>
        </p:nvSpPr>
        <p:spPr>
          <a:xfrm>
            <a:off x="54000" y="79200"/>
            <a:ext cx="856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809640" indent="-809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96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ส่วนที่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 :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บทวิเคราะห์บทบาทภารกิจของกรม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: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2.2 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ข้อเสนอการปรับเปลี่ยนบทบาทภารกิจของกรม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(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To-Be)</a:t>
            </a:r>
            <a:br>
              <a:rPr sz="1400"/>
            </a:br>
            <a:r>
              <a:rPr b="1" lang="th-TH" sz="1300" spc="-1" strike="noStrike">
                <a:solidFill>
                  <a:srgbClr val="002060"/>
                </a:solidFill>
                <a:latin typeface="Tahoma"/>
                <a:cs typeface="Tahoma"/>
              </a:rPr>
              <a:t>แบบฟอร์ม </a:t>
            </a:r>
            <a:r>
              <a:rPr b="1" lang="th-TH" sz="1300" spc="-1" strike="noStrike">
                <a:solidFill>
                  <a:srgbClr val="002060"/>
                </a:solidFill>
                <a:latin typeface="Tahoma"/>
                <a:ea typeface="Tahoma"/>
              </a:rPr>
              <a:t>2.2</a:t>
            </a:r>
            <a:r>
              <a:rPr b="1" lang="en-US" sz="1300" spc="-1" strike="noStrike">
                <a:solidFill>
                  <a:srgbClr val="002060"/>
                </a:solidFill>
                <a:latin typeface="Tahoma"/>
                <a:ea typeface="Tahoma"/>
              </a:rPr>
              <a:t>.1</a:t>
            </a:r>
            <a:r>
              <a:rPr b="1" lang="th-TH" sz="1300" spc="-1" strike="noStrike">
                <a:solidFill>
                  <a:srgbClr val="002060"/>
                </a:solidFill>
                <a:latin typeface="Tahoma"/>
                <a:ea typeface="Tahoma"/>
              </a:rPr>
              <a:t>  </a:t>
            </a:r>
            <a:r>
              <a:rPr b="1" lang="th-TH" sz="1300" spc="-1" strike="noStrike">
                <a:solidFill>
                  <a:srgbClr val="002060"/>
                </a:solidFill>
                <a:latin typeface="Tahoma"/>
                <a:cs typeface="Tahoma"/>
              </a:rPr>
              <a:t>ข้อเสนอการปรับบทบาทภารกิจของกรม </a:t>
            </a:r>
            <a:r>
              <a:rPr b="1" lang="th-TH" sz="1300" spc="-1" strike="noStrike">
                <a:solidFill>
                  <a:srgbClr val="002060"/>
                </a:solidFill>
                <a:latin typeface="Tahoma"/>
                <a:ea typeface="Tahoma"/>
              </a:rPr>
              <a:t>........... </a:t>
            </a:r>
            <a:r>
              <a:rPr b="1" lang="en-US" sz="1300" spc="-1" strike="noStrike">
                <a:solidFill>
                  <a:srgbClr val="002060"/>
                </a:solidFill>
                <a:latin typeface="Tahoma"/>
                <a:ea typeface="Tahoma"/>
              </a:rPr>
              <a:t>: </a:t>
            </a:r>
            <a:r>
              <a:rPr b="1" lang="th-TH" sz="1300" spc="-1" strike="noStrike" u="sng">
                <a:solidFill>
                  <a:srgbClr val="002060"/>
                </a:solidFill>
                <a:uFillTx/>
                <a:latin typeface="Tahoma"/>
                <a:cs typeface="Tahoma"/>
              </a:rPr>
              <a:t>ภารกิจรอง</a:t>
            </a:r>
            <a:r>
              <a:rPr b="1" lang="th-TH" sz="13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en-US" sz="1300" spc="-1" strike="noStrike">
                <a:solidFill>
                  <a:srgbClr val="002060"/>
                </a:solidFill>
                <a:latin typeface="Tahoma"/>
                <a:ea typeface="Tahoma"/>
              </a:rPr>
              <a:t>(Non-Core functio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TextBox 384042"/>
          <p:cNvSpPr/>
          <p:nvPr/>
        </p:nvSpPr>
        <p:spPr>
          <a:xfrm>
            <a:off x="4429080" y="1136520"/>
            <a:ext cx="450072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7" name="Pentagon 146"/>
          <p:cNvSpPr/>
          <p:nvPr/>
        </p:nvSpPr>
        <p:spPr>
          <a:xfrm>
            <a:off x="206280" y="1139760"/>
            <a:ext cx="4429080" cy="4537080"/>
          </a:xfrm>
          <a:custGeom>
            <a:avLst/>
            <a:gdLst>
              <a:gd name="textAreaLeft" fmla="*/ 0 w 4429080"/>
              <a:gd name="textAreaRight" fmla="*/ 4429440 w 442908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2" y="0"/>
                </a:lnTo>
                <a:lnTo>
                  <a:pt x="21600" y="10800"/>
                </a:lnTo>
                <a:lnTo>
                  <a:pt x="186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77760" bIns="77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8" name="ตัวเชื่อมต่อตรง 62"/>
          <p:cNvSpPr/>
          <p:nvPr/>
        </p:nvSpPr>
        <p:spPr>
          <a:xfrm flipV="1">
            <a:off x="765000" y="3359160"/>
            <a:ext cx="278928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99" name="สี่เหลี่ยมผืนผ้า 5"/>
          <p:cNvGrpSpPr/>
          <p:nvPr/>
        </p:nvGrpSpPr>
        <p:grpSpPr>
          <a:xfrm>
            <a:off x="1457280" y="1566720"/>
            <a:ext cx="1120680" cy="622440"/>
            <a:chOff x="1457280" y="1566720"/>
            <a:chExt cx="1120680" cy="622440"/>
          </a:xfrm>
        </p:grpSpPr>
        <p:pic>
          <p:nvPicPr>
            <p:cNvPr id="3500" name="สี่เหลี่ยมผืนผ้า 5" descr=""/>
            <p:cNvPicPr/>
            <p:nvPr/>
          </p:nvPicPr>
          <p:blipFill>
            <a:blip r:embed="rId1"/>
            <a:stretch/>
          </p:blipFill>
          <p:spPr>
            <a:xfrm>
              <a:off x="1457280" y="1566720"/>
              <a:ext cx="112068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1" name=""/>
            <p:cNvSpPr/>
            <p:nvPr/>
          </p:nvSpPr>
          <p:spPr>
            <a:xfrm>
              <a:off x="1484280" y="1593720"/>
              <a:ext cx="10717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anchor="ctr">
              <a:noAutofit/>
            </a:bodyPr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กรม </a:t>
              </a:r>
              <a:r>
                <a:rPr b="1" lang="th-TH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................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02" name="สี่เหลี่ยมผืนผ้า 20"/>
          <p:cNvSpPr/>
          <p:nvPr/>
        </p:nvSpPr>
        <p:spPr>
          <a:xfrm>
            <a:off x="2786040" y="2460600"/>
            <a:ext cx="928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3" name="สี่เหลี่ยมผืนผ้า 24"/>
          <p:cNvSpPr/>
          <p:nvPr/>
        </p:nvSpPr>
        <p:spPr>
          <a:xfrm>
            <a:off x="407880" y="3473280"/>
            <a:ext cx="78588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4" name="สี่เหลี่ยมผืนผ้า 28"/>
          <p:cNvSpPr/>
          <p:nvPr/>
        </p:nvSpPr>
        <p:spPr>
          <a:xfrm>
            <a:off x="3195720" y="3513240"/>
            <a:ext cx="78588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5" name="สี่เหลี่ยมผืนผ้า 32"/>
          <p:cNvSpPr/>
          <p:nvPr/>
        </p:nvSpPr>
        <p:spPr>
          <a:xfrm>
            <a:off x="1258920" y="3490920"/>
            <a:ext cx="785880" cy="76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6" name="สี่เหลี่ยมผืนผ้า 36"/>
          <p:cNvSpPr/>
          <p:nvPr/>
        </p:nvSpPr>
        <p:spPr>
          <a:xfrm>
            <a:off x="2303640" y="3513240"/>
            <a:ext cx="78552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7" name="ตัวเชื่อมต่อตรง 62"/>
          <p:cNvSpPr/>
          <p:nvPr/>
        </p:nvSpPr>
        <p:spPr>
          <a:xfrm>
            <a:off x="5221440" y="3400560"/>
            <a:ext cx="2965320" cy="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8" name="ตัวเชื่อมต่อตรง 67"/>
          <p:cNvSpPr/>
          <p:nvPr/>
        </p:nvSpPr>
        <p:spPr>
          <a:xfrm flipH="1" flipV="1">
            <a:off x="6036840" y="2593440"/>
            <a:ext cx="1454040" cy="18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9" name="สี่เหลี่ยมผืนผ้า 24"/>
          <p:cNvSpPr/>
          <p:nvPr/>
        </p:nvSpPr>
        <p:spPr>
          <a:xfrm>
            <a:off x="4859280" y="3503520"/>
            <a:ext cx="785880" cy="75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0" name="สี่เหลี่ยมผืนผ้า 28"/>
          <p:cNvSpPr/>
          <p:nvPr/>
        </p:nvSpPr>
        <p:spPr>
          <a:xfrm>
            <a:off x="7826400" y="3513240"/>
            <a:ext cx="777960" cy="74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1" name="สี่เหลี่ยมผืนผ้า 32"/>
          <p:cNvSpPr/>
          <p:nvPr/>
        </p:nvSpPr>
        <p:spPr>
          <a:xfrm>
            <a:off x="5823000" y="3503520"/>
            <a:ext cx="777960" cy="75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2" name="Group 111" descr=""/>
          <p:cNvPicPr/>
          <p:nvPr/>
        </p:nvPicPr>
        <p:blipFill>
          <a:blip r:embed="rId2"/>
          <a:stretch/>
        </p:blipFill>
        <p:spPr>
          <a:xfrm>
            <a:off x="158760" y="1127160"/>
            <a:ext cx="8790120" cy="390600"/>
          </a:xfrm>
          <a:prstGeom prst="rect">
            <a:avLst/>
          </a:prstGeom>
          <a:ln w="0">
            <a:noFill/>
          </a:ln>
        </p:spPr>
      </p:pic>
      <p:sp>
        <p:nvSpPr>
          <p:cNvPr id="3513" name="Straight Connector 65"/>
          <p:cNvSpPr/>
          <p:nvPr/>
        </p:nvSpPr>
        <p:spPr>
          <a:xfrm>
            <a:off x="2160720" y="2195640"/>
            <a:ext cx="2880" cy="252072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4" name="Straight Connector 142"/>
          <p:cNvSpPr/>
          <p:nvPr/>
        </p:nvSpPr>
        <p:spPr>
          <a:xfrm flipH="1">
            <a:off x="764640" y="3359160"/>
            <a:ext cx="1800" cy="11412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5" name="สี่เหลี่ยมผืนผ้า 16"/>
          <p:cNvSpPr/>
          <p:nvPr/>
        </p:nvSpPr>
        <p:spPr>
          <a:xfrm>
            <a:off x="5108400" y="2422440"/>
            <a:ext cx="100044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6" name="สี่เหลี่ยมผืนผ้า 20"/>
          <p:cNvSpPr/>
          <p:nvPr/>
        </p:nvSpPr>
        <p:spPr>
          <a:xfrm>
            <a:off x="7394400" y="2419200"/>
            <a:ext cx="928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7" name="สี่เหลี่ยมผืนผ้า 28"/>
          <p:cNvSpPr/>
          <p:nvPr/>
        </p:nvSpPr>
        <p:spPr>
          <a:xfrm>
            <a:off x="1770120" y="4749840"/>
            <a:ext cx="78588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8" name="สี่เหลี่ยมผืนผ้า 36"/>
          <p:cNvSpPr/>
          <p:nvPr/>
        </p:nvSpPr>
        <p:spPr>
          <a:xfrm>
            <a:off x="6865920" y="3503520"/>
            <a:ext cx="78588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9" name="Straight Connector 142"/>
          <p:cNvSpPr/>
          <p:nvPr/>
        </p:nvSpPr>
        <p:spPr>
          <a:xfrm flipH="1">
            <a:off x="2158560" y="3359160"/>
            <a:ext cx="1800" cy="11412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0" name="Straight Connector 142"/>
          <p:cNvSpPr/>
          <p:nvPr/>
        </p:nvSpPr>
        <p:spPr>
          <a:xfrm flipH="1">
            <a:off x="3543480" y="3368520"/>
            <a:ext cx="1440" cy="11448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1" name="Straight Connector 142"/>
          <p:cNvSpPr/>
          <p:nvPr/>
        </p:nvSpPr>
        <p:spPr>
          <a:xfrm flipH="1">
            <a:off x="5219280" y="3398760"/>
            <a:ext cx="1800" cy="11448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Straight Connector 142"/>
          <p:cNvSpPr/>
          <p:nvPr/>
        </p:nvSpPr>
        <p:spPr>
          <a:xfrm flipH="1">
            <a:off x="6226200" y="3398760"/>
            <a:ext cx="1440" cy="11448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3" name="Straight Connector 142"/>
          <p:cNvSpPr/>
          <p:nvPr/>
        </p:nvSpPr>
        <p:spPr>
          <a:xfrm flipH="1">
            <a:off x="8172000" y="3398760"/>
            <a:ext cx="1800" cy="11448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4" name="Straight Connector 142"/>
          <p:cNvSpPr/>
          <p:nvPr/>
        </p:nvSpPr>
        <p:spPr>
          <a:xfrm flipH="1">
            <a:off x="7251840" y="3398760"/>
            <a:ext cx="1440" cy="11448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5" name="ตัวเชื่อมต่อตรง 67"/>
          <p:cNvSpPr/>
          <p:nvPr/>
        </p:nvSpPr>
        <p:spPr>
          <a:xfrm flipH="1" flipV="1">
            <a:off x="1500120" y="2633400"/>
            <a:ext cx="1285920" cy="612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6" name="สี่เหลี่ยมผืนผ้า 16"/>
          <p:cNvSpPr/>
          <p:nvPr/>
        </p:nvSpPr>
        <p:spPr>
          <a:xfrm>
            <a:off x="500040" y="2895480"/>
            <a:ext cx="1011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7" name="สี่เหลี่ยมผืนผ้า 16"/>
          <p:cNvSpPr/>
          <p:nvPr/>
        </p:nvSpPr>
        <p:spPr>
          <a:xfrm>
            <a:off x="5108400" y="2851200"/>
            <a:ext cx="101124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8" name="Slide Number Placeholder 1"/>
          <p:cNvSpPr/>
          <p:nvPr/>
        </p:nvSpPr>
        <p:spPr>
          <a:xfrm>
            <a:off x="7080120" y="64483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EF08-A459-4D88-B5EB-53EB40B8F6A0}" type="slidenum">
              <a:rPr b="0" lang="th-TH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9" name="สี่เหลี่ยมผืนผ้า 28"/>
          <p:cNvSpPr/>
          <p:nvPr/>
        </p:nvSpPr>
        <p:spPr>
          <a:xfrm>
            <a:off x="393840" y="4527720"/>
            <a:ext cx="785520" cy="1936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2e75b6"/>
                </a:solidFill>
                <a:latin typeface="Tahoma"/>
                <a:cs typeface="Tahoma"/>
              </a:rPr>
              <a:t>ส่วนภูมิภา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0" name="สี่เหลี่ยมผืนผ้า 28"/>
          <p:cNvSpPr/>
          <p:nvPr/>
        </p:nvSpPr>
        <p:spPr>
          <a:xfrm>
            <a:off x="4572000" y="2206800"/>
            <a:ext cx="785880" cy="1936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2e75b6"/>
                </a:solidFill>
                <a:latin typeface="Tahoma"/>
                <a:cs typeface="Tahoma"/>
              </a:rPr>
              <a:t>ส่วนกลาง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Straight Connector 142"/>
          <p:cNvSpPr/>
          <p:nvPr/>
        </p:nvSpPr>
        <p:spPr>
          <a:xfrm>
            <a:off x="1652760" y="3359160"/>
            <a:ext cx="0" cy="13176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Straight Connector 142"/>
          <p:cNvSpPr/>
          <p:nvPr/>
        </p:nvSpPr>
        <p:spPr>
          <a:xfrm>
            <a:off x="2700360" y="3371760"/>
            <a:ext cx="0" cy="13176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3" name="สี่เหลี่ยมผืนผ้า 20"/>
          <p:cNvSpPr/>
          <p:nvPr/>
        </p:nvSpPr>
        <p:spPr>
          <a:xfrm>
            <a:off x="2798640" y="2890800"/>
            <a:ext cx="928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ตัวเชื่อมต่อตรง 67"/>
          <p:cNvSpPr/>
          <p:nvPr/>
        </p:nvSpPr>
        <p:spPr>
          <a:xfrm flipH="1">
            <a:off x="1511280" y="3071880"/>
            <a:ext cx="1287360" cy="32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5" name="สี่เหลี่ยมผืนผ้า 20"/>
          <p:cNvSpPr/>
          <p:nvPr/>
        </p:nvSpPr>
        <p:spPr>
          <a:xfrm>
            <a:off x="7405560" y="2854440"/>
            <a:ext cx="928800" cy="40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6" name="ตัวเชื่อมต่อตรง 67"/>
          <p:cNvSpPr/>
          <p:nvPr/>
        </p:nvSpPr>
        <p:spPr>
          <a:xfrm flipH="1">
            <a:off x="6119640" y="3059280"/>
            <a:ext cx="128592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7" name="Rectangle 18"/>
          <p:cNvSpPr/>
          <p:nvPr/>
        </p:nvSpPr>
        <p:spPr>
          <a:xfrm>
            <a:off x="34920" y="98280"/>
            <a:ext cx="856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809640" indent="-809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ส่วนที่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 :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บทวิเคราะห์บทบาทภารกิจของกรม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: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2.2 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ข้อเสนอการปรับเปลี่ยนบทบาทภารกิจของกรม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(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To-Be)</a:t>
            </a:r>
            <a:br>
              <a:rPr sz="1400"/>
            </a:br>
            <a:r>
              <a:rPr b="1" lang="th-TH" sz="1200" spc="-1" strike="noStrike">
                <a:solidFill>
                  <a:srgbClr val="002060"/>
                </a:solidFill>
                <a:latin typeface="Tahoma"/>
                <a:cs typeface="Tahoma"/>
              </a:rPr>
              <a:t>แบบฟอร์ม </a:t>
            </a:r>
            <a:r>
              <a:rPr b="1" lang="en-US" sz="1200" spc="-1" strike="noStrike">
                <a:solidFill>
                  <a:srgbClr val="002060"/>
                </a:solidFill>
                <a:latin typeface="Tahoma"/>
                <a:ea typeface="Tahoma"/>
              </a:rPr>
              <a:t>2.2.2 </a:t>
            </a:r>
            <a:r>
              <a:rPr b="1" lang="th-TH" sz="12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200" spc="-1" strike="noStrike">
                <a:solidFill>
                  <a:srgbClr val="002060"/>
                </a:solidFill>
                <a:latin typeface="Tahoma"/>
                <a:cs typeface="Tahoma"/>
              </a:rPr>
              <a:t>ข้อเสนอการปรับเปลี่ยนโครงสร้างและอัตรากำลังที่จะรองรับบทบาทภารกิจใหม่ในอนาค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38" name=""/>
          <p:cNvGraphicFramePr/>
          <p:nvPr/>
        </p:nvGraphicFramePr>
        <p:xfrm>
          <a:off x="2706840" y="1495440"/>
          <a:ext cx="1523880" cy="852480"/>
        </p:xfrm>
        <a:graphic>
          <a:graphicData uri="http://schemas.openxmlformats.org/drawingml/2006/table">
            <a:tbl>
              <a:tblPr/>
              <a:tblGrid>
                <a:gridCol w="992160"/>
                <a:gridCol w="53172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อัตรากำลั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้าราชการ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xxx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นักงานราชการ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xxx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ลูกจ้างประจ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xxx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39" name=""/>
          <p:cNvGraphicFramePr/>
          <p:nvPr/>
        </p:nvGraphicFramePr>
        <p:xfrm>
          <a:off x="7334280" y="1422360"/>
          <a:ext cx="1523880" cy="852480"/>
        </p:xfrm>
        <a:graphic>
          <a:graphicData uri="http://schemas.openxmlformats.org/drawingml/2006/table">
            <a:tbl>
              <a:tblPr/>
              <a:tblGrid>
                <a:gridCol w="992160"/>
                <a:gridCol w="53172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อัตรากำลั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้าราชการ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xxx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นักงานราชการ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xxx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ลูกจ้างประจ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xxx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540" name="สี่เหลี่ยมผืนผ้า 5"/>
          <p:cNvGrpSpPr/>
          <p:nvPr/>
        </p:nvGrpSpPr>
        <p:grpSpPr>
          <a:xfrm>
            <a:off x="6192720" y="1566720"/>
            <a:ext cx="1122480" cy="622440"/>
            <a:chOff x="6192720" y="1566720"/>
            <a:chExt cx="1122480" cy="622440"/>
          </a:xfrm>
        </p:grpSpPr>
        <p:pic>
          <p:nvPicPr>
            <p:cNvPr id="3541" name="สี่เหลี่ยมผืนผ้า 5" descr=""/>
            <p:cNvPicPr/>
            <p:nvPr/>
          </p:nvPicPr>
          <p:blipFill>
            <a:blip r:embed="rId3"/>
            <a:stretch/>
          </p:blipFill>
          <p:spPr>
            <a:xfrm>
              <a:off x="6192720" y="1566720"/>
              <a:ext cx="112248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2" name=""/>
            <p:cNvSpPr/>
            <p:nvPr/>
          </p:nvSpPr>
          <p:spPr>
            <a:xfrm>
              <a:off x="6222960" y="1592280"/>
              <a:ext cx="10717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anchor="ctr">
              <a:noAutofit/>
            </a:bodyPr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กรม </a:t>
              </a:r>
              <a:r>
                <a:rPr b="1" lang="th-TH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................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43" name="AutoShape 4"/>
          <p:cNvSpPr/>
          <p:nvPr/>
        </p:nvSpPr>
        <p:spPr>
          <a:xfrm>
            <a:off x="250920" y="6093000"/>
            <a:ext cx="1944720" cy="21564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คงเดิ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4" name="AutoShape 4"/>
          <p:cNvSpPr/>
          <p:nvPr/>
        </p:nvSpPr>
        <p:spPr>
          <a:xfrm>
            <a:off x="250920" y="6397560"/>
            <a:ext cx="1944720" cy="216000"/>
          </a:xfrm>
          <a:prstGeom prst="roundRect">
            <a:avLst>
              <a:gd name="adj" fmla="val 0"/>
            </a:avLst>
          </a:prstGeom>
          <a:solidFill>
            <a:srgbClr val="b6e088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จัดตั้งใหม่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5" name="AutoShape 4"/>
          <p:cNvSpPr/>
          <p:nvPr/>
        </p:nvSpPr>
        <p:spPr>
          <a:xfrm>
            <a:off x="2627280" y="6099120"/>
            <a:ext cx="1944720" cy="216000"/>
          </a:xfrm>
          <a:prstGeom prst="roundRect">
            <a:avLst>
              <a:gd name="adj" fmla="val 0"/>
            </a:avLst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ปรับปรุงหน้าที่และอำนาจ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6" name="AutoShape 4"/>
          <p:cNvSpPr/>
          <p:nvPr/>
        </p:nvSpPr>
        <p:spPr>
          <a:xfrm>
            <a:off x="2627280" y="6404040"/>
            <a:ext cx="1944720" cy="338040"/>
          </a:xfrm>
          <a:prstGeom prst="roundRect">
            <a:avLst>
              <a:gd name="adj" fmla="val 0"/>
            </a:avLst>
          </a:prstGeom>
          <a:solidFill>
            <a:srgbClr val="f4b18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ปรับปรุงหน้าที่และอำนาจ </a:t>
            </a:r>
            <a:br>
              <a:rPr sz="1000"/>
            </a:b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และเปลี่ยนชื่อ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7" name="AutoShape 4"/>
          <p:cNvSpPr/>
          <p:nvPr/>
        </p:nvSpPr>
        <p:spPr>
          <a:xfrm>
            <a:off x="4946760" y="6108840"/>
            <a:ext cx="1942920" cy="215640"/>
          </a:xfrm>
          <a:prstGeom prst="roundRect">
            <a:avLst>
              <a:gd name="adj" fmla="val 0"/>
            </a:avLst>
          </a:prstGeom>
          <a:solidFill>
            <a:srgbClr val="9dc3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ปลี่ยนชื่อ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8" name="สี่เหลี่ยมผืนผ้า 16"/>
          <p:cNvSpPr/>
          <p:nvPr/>
        </p:nvSpPr>
        <p:spPr>
          <a:xfrm>
            <a:off x="484200" y="2440080"/>
            <a:ext cx="10000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9" name="Straight Connector 65"/>
          <p:cNvSpPr/>
          <p:nvPr/>
        </p:nvSpPr>
        <p:spPr>
          <a:xfrm>
            <a:off x="6726240" y="2195640"/>
            <a:ext cx="3240" cy="252072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0" name="สี่เหลี่ยมผืนผ้า 28"/>
          <p:cNvSpPr/>
          <p:nvPr/>
        </p:nvSpPr>
        <p:spPr>
          <a:xfrm>
            <a:off x="6335640" y="4749840"/>
            <a:ext cx="78588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1" name="สี่เหลี่ยมผืนผ้า 28"/>
          <p:cNvSpPr/>
          <p:nvPr/>
        </p:nvSpPr>
        <p:spPr>
          <a:xfrm>
            <a:off x="4959360" y="4527720"/>
            <a:ext cx="785880" cy="1936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2e75b6"/>
                </a:solidFill>
                <a:latin typeface="Tahoma"/>
                <a:cs typeface="Tahoma"/>
              </a:rPr>
              <a:t>ส่วนภูมิภา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Rectangle 2"/>
          <p:cNvSpPr/>
          <p:nvPr/>
        </p:nvSpPr>
        <p:spPr>
          <a:xfrm>
            <a:off x="47520" y="117360"/>
            <a:ext cx="8610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990720" indent="-990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ส่วนที่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 :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บทวิเคราะห์บทบาทภารกิจของกรม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: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2.2 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ข้อเสนอการปรับเปลี่ยนบทบาทภารกิจของกรม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(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To-Be)</a:t>
            </a:r>
            <a:br>
              <a:rPr sz="1400"/>
            </a:b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แบบฟอร์ม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2.2.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3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ข้อเสนอการปรับเปลี่ยนในระยะ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3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ปี ของกรม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3" name="Rectangle 17"/>
          <p:cNvSpPr/>
          <p:nvPr/>
        </p:nvSpPr>
        <p:spPr>
          <a:xfrm>
            <a:off x="658800" y="1255680"/>
            <a:ext cx="4267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ff0000"/>
                </a:solidFill>
                <a:latin typeface="Tahoma"/>
                <a:cs typeface="Tahoma"/>
              </a:rPr>
              <a:t>ภารกิจ 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  <a:ea typeface="Tahoma"/>
              </a:rPr>
              <a:t>1 :</a:t>
            </a:r>
            <a:r>
              <a:rPr b="1" lang="th-TH" sz="12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ff0000"/>
                </a:solidFill>
                <a:latin typeface="Tahoma"/>
                <a:cs typeface="Tahoma"/>
              </a:rPr>
              <a:t>งาน</a:t>
            </a:r>
            <a:r>
              <a:rPr b="1" lang="th-TH" sz="1200" spc="-1" strike="noStrike">
                <a:solidFill>
                  <a:srgbClr val="ff0000"/>
                </a:solidFill>
                <a:latin typeface="Tahoma"/>
                <a:ea typeface="Tahoma"/>
              </a:rPr>
              <a:t>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ff0000"/>
                </a:solidFill>
                <a:latin typeface="Tahoma"/>
                <a:cs typeface="Tahoma"/>
              </a:rPr>
              <a:t>ภารกิจ 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  <a:ea typeface="Tahoma"/>
              </a:rPr>
              <a:t>2 :</a:t>
            </a:r>
            <a:r>
              <a:rPr b="1" lang="th-TH" sz="12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ff0000"/>
                </a:solidFill>
                <a:latin typeface="Tahoma"/>
                <a:cs typeface="Tahoma"/>
              </a:rPr>
              <a:t>งาน</a:t>
            </a:r>
            <a:r>
              <a:rPr b="1" lang="th-TH" sz="1200" spc="-1" strike="noStrike">
                <a:solidFill>
                  <a:srgbClr val="ff0000"/>
                </a:solidFill>
                <a:latin typeface="Tahoma"/>
                <a:ea typeface="Tahoma"/>
              </a:rPr>
              <a:t>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4" name="TextBox 25"/>
          <p:cNvSpPr/>
          <p:nvPr/>
        </p:nvSpPr>
        <p:spPr>
          <a:xfrm>
            <a:off x="257040" y="282096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สนอการปรับเปลี่ย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5" name="Rectangle 29"/>
          <p:cNvSpPr/>
          <p:nvPr/>
        </p:nvSpPr>
        <p:spPr>
          <a:xfrm>
            <a:off x="3986280" y="1225440"/>
            <a:ext cx="5410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6" name="Rounded Rectangle 31"/>
          <p:cNvSpPr/>
          <p:nvPr/>
        </p:nvSpPr>
        <p:spPr>
          <a:xfrm>
            <a:off x="228600" y="806400"/>
            <a:ext cx="8763120" cy="1965240"/>
          </a:xfrm>
          <a:prstGeom prst="roundRect">
            <a:avLst>
              <a:gd name="adj" fmla="val 8069"/>
            </a:avLst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7" name="ลูกศรขวาท้ายขีด 4"/>
          <p:cNvSpPr/>
          <p:nvPr/>
        </p:nvSpPr>
        <p:spPr>
          <a:xfrm>
            <a:off x="3224160" y="2281320"/>
            <a:ext cx="432000" cy="284040"/>
          </a:xfrm>
          <a:custGeom>
            <a:avLst/>
            <a:gdLst>
              <a:gd name="textAreaLeft" fmla="*/ 44280 w 432000"/>
              <a:gd name="textAreaRight" fmla="*/ 360720 w 43200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431074" h="284480">
                <a:moveTo>
                  <a:pt x="0" y="71120"/>
                </a:moveTo>
                <a:lnTo>
                  <a:pt x="8890" y="71120"/>
                </a:lnTo>
                <a:lnTo>
                  <a:pt x="8890" y="213360"/>
                </a:lnTo>
                <a:lnTo>
                  <a:pt x="0" y="213360"/>
                </a:lnTo>
                <a:close/>
                <a:moveTo>
                  <a:pt x="17780" y="71120"/>
                </a:moveTo>
                <a:lnTo>
                  <a:pt x="35560" y="71120"/>
                </a:lnTo>
                <a:lnTo>
                  <a:pt x="35560" y="213360"/>
                </a:lnTo>
                <a:lnTo>
                  <a:pt x="17780" y="213360"/>
                </a:lnTo>
                <a:close/>
                <a:moveTo>
                  <a:pt x="44450" y="71120"/>
                </a:moveTo>
                <a:lnTo>
                  <a:pt x="288834" y="71120"/>
                </a:lnTo>
                <a:lnTo>
                  <a:pt x="288834" y="0"/>
                </a:lnTo>
                <a:lnTo>
                  <a:pt x="431074" y="142240"/>
                </a:lnTo>
                <a:lnTo>
                  <a:pt x="288834" y="284480"/>
                </a:lnTo>
                <a:lnTo>
                  <a:pt x="288834" y="213360"/>
                </a:lnTo>
                <a:lnTo>
                  <a:pt x="44450" y="2133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8" name="ลูกศรขวาท้ายขีด 4"/>
          <p:cNvSpPr/>
          <p:nvPr/>
        </p:nvSpPr>
        <p:spPr>
          <a:xfrm>
            <a:off x="3232080" y="1476360"/>
            <a:ext cx="432000" cy="284040"/>
          </a:xfrm>
          <a:custGeom>
            <a:avLst/>
            <a:gdLst>
              <a:gd name="textAreaLeft" fmla="*/ 44280 w 432000"/>
              <a:gd name="textAreaRight" fmla="*/ 360720 w 43200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431074" h="284480">
                <a:moveTo>
                  <a:pt x="0" y="71120"/>
                </a:moveTo>
                <a:lnTo>
                  <a:pt x="8890" y="71120"/>
                </a:lnTo>
                <a:lnTo>
                  <a:pt x="8890" y="213360"/>
                </a:lnTo>
                <a:lnTo>
                  <a:pt x="0" y="213360"/>
                </a:lnTo>
                <a:close/>
                <a:moveTo>
                  <a:pt x="17780" y="71120"/>
                </a:moveTo>
                <a:lnTo>
                  <a:pt x="35560" y="71120"/>
                </a:lnTo>
                <a:lnTo>
                  <a:pt x="35560" y="213360"/>
                </a:lnTo>
                <a:lnTo>
                  <a:pt x="17780" y="213360"/>
                </a:lnTo>
                <a:close/>
                <a:moveTo>
                  <a:pt x="44450" y="71120"/>
                </a:moveTo>
                <a:lnTo>
                  <a:pt x="288834" y="71120"/>
                </a:lnTo>
                <a:lnTo>
                  <a:pt x="288834" y="0"/>
                </a:lnTo>
                <a:lnTo>
                  <a:pt x="431074" y="142240"/>
                </a:lnTo>
                <a:lnTo>
                  <a:pt x="288834" y="284480"/>
                </a:lnTo>
                <a:lnTo>
                  <a:pt x="288834" y="213360"/>
                </a:lnTo>
                <a:lnTo>
                  <a:pt x="44450" y="2133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9" name="Rectangle 15"/>
          <p:cNvSpPr/>
          <p:nvPr/>
        </p:nvSpPr>
        <p:spPr>
          <a:xfrm>
            <a:off x="3986280" y="1978200"/>
            <a:ext cx="5410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0" name="ตัวแทนหมายเลขภาพนิ่ง 1"/>
          <p:cNvSpPr/>
          <p:nvPr/>
        </p:nvSpPr>
        <p:spPr>
          <a:xfrm>
            <a:off x="7128000" y="64818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2B41-02C9-4BBE-86B3-63097191D150}" type="slidenum">
              <a:rPr b="0" lang="th-TH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1" name="สี่เหลี่ยมผืนผ้า 1"/>
          <p:cNvSpPr/>
          <p:nvPr/>
        </p:nvSpPr>
        <p:spPr>
          <a:xfrm>
            <a:off x="658800" y="907920"/>
            <a:ext cx="1897200" cy="30708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cc"/>
                </a:solidFill>
                <a:latin typeface="Tahoma"/>
                <a:cs typeface="Tahoma"/>
              </a:rPr>
              <a:t>ประเด็นการปรับปรุ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2" name="TextBox 23"/>
          <p:cNvSpPr/>
          <p:nvPr/>
        </p:nvSpPr>
        <p:spPr>
          <a:xfrm>
            <a:off x="4562640" y="887400"/>
            <a:ext cx="2592360" cy="30708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cc"/>
                </a:solidFill>
                <a:latin typeface="Tahoma"/>
                <a:cs typeface="Tahoma"/>
              </a:rPr>
              <a:t>แนวทางการพัฒน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63" name=""/>
          <p:cNvGraphicFramePr/>
          <p:nvPr/>
        </p:nvGraphicFramePr>
        <p:xfrm>
          <a:off x="152280" y="3111480"/>
          <a:ext cx="8915400" cy="2855880"/>
        </p:xfrm>
        <a:graphic>
          <a:graphicData uri="http://schemas.openxmlformats.org/drawingml/2006/table">
            <a:tbl>
              <a:tblPr/>
              <a:tblGrid>
                <a:gridCol w="2909880"/>
                <a:gridCol w="436680"/>
                <a:gridCol w="436680"/>
                <a:gridCol w="436320"/>
                <a:gridCol w="435240"/>
                <a:gridCol w="436320"/>
                <a:gridCol w="436680"/>
                <a:gridCol w="436680"/>
                <a:gridCol w="436320"/>
                <a:gridCol w="436680"/>
                <a:gridCol w="436680"/>
                <a:gridCol w="436320"/>
                <a:gridCol w="436680"/>
                <a:gridCol w="768240"/>
              </a:tblGrid>
              <a:tr h="28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ประเด็นการปรับปรุ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สิ่งที่ต้องดำเนินการ  </a:t>
                      </a:r>
                      <a:r>
                        <a:rPr b="1" lang="th-TH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0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ปีงบประมาณ พ</a:t>
                      </a:r>
                      <a:r>
                        <a:rPr b="1" lang="th-TH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0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.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562 – </a:t>
                      </a:r>
                      <a:r>
                        <a:rPr b="1" lang="th-TH" sz="10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1" lang="th-TH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0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.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56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หมายเหต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33cc"/>
                          </a:solidFill>
                          <a:latin typeface="Tahoma"/>
                          <a:cs typeface="Tahoma"/>
                        </a:rPr>
                        <a:t>ด้านโครงสร้า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)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)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33cc"/>
                          </a:solidFill>
                          <a:latin typeface="Tahoma"/>
                          <a:cs typeface="Tahoma"/>
                        </a:rPr>
                        <a:t>ด้านกระบวนงา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)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)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3564" name="กล่องข้อความ 3"/>
          <p:cNvSpPr/>
          <p:nvPr/>
        </p:nvSpPr>
        <p:spPr>
          <a:xfrm>
            <a:off x="47520" y="5925960"/>
            <a:ext cx="89442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หมายเหตุ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: 1.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ให้ส่วนราชการ</a:t>
            </a:r>
            <a:r>
              <a:rPr b="1" lang="th-TH" sz="11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ระบุประเด็นการปรับปรุงภายใต้หัวข้อ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4</a:t>
            </a:r>
            <a:r>
              <a:rPr b="1" lang="th-TH" sz="11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1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ด้าน คือ ด้านโครงสร้าง</a:t>
            </a:r>
            <a:r>
              <a:rPr b="1" lang="th-TH" sz="11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</a:t>
            </a:r>
            <a:r>
              <a:rPr b="1" lang="th-TH" sz="11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ระบวนงาน</a:t>
            </a:r>
            <a:r>
              <a:rPr b="1" lang="th-TH" sz="11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</a:t>
            </a:r>
            <a:r>
              <a:rPr b="1" lang="th-TH" sz="11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ฎหมาย</a:t>
            </a:r>
            <a:r>
              <a:rPr b="1" lang="th-TH" sz="11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</a:t>
            </a:r>
            <a:r>
              <a:rPr b="1" lang="th-TH" sz="11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บุคลากร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ไม่จำเป็นต้องมีครบทุกด้าน ขึ้นกับบริบทของแต่ละส่วนราชการ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หากมีด้านอื่น ๆ นอกเหนือข้างต้น ให้ระบุชื่อด้านและประเด็นการปรับปรุงให้ชัดเจน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893880" indent="-89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2.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ข้อมูลที่จะนำไปวิเคราะห์ในภาพกระทรวง ในหัวข้อ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1.4.2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และ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1.5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3.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สำหรับประเด็นการปรับปรุงที่จะดำเนินการในปีงบประมาณ พ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2562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ให้ส่วนราชการจัดทำ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Action Plan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เป็นเอกสารแนบ ส่งสำนักงาน ก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พ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ร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br>
              <a:rPr sz="1100"/>
            </a:b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ในรอบการประเมินที่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เพิ่มเติม เพื่อใช้ในการติดตามประเมินผลต่อไป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Rectangle 2"/>
          <p:cNvSpPr/>
          <p:nvPr/>
        </p:nvSpPr>
        <p:spPr>
          <a:xfrm>
            <a:off x="46080" y="9216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000" spc="-1" strike="noStrike">
                <a:solidFill>
                  <a:srgbClr val="002060"/>
                </a:solidFill>
                <a:latin typeface="Tahoma"/>
                <a:cs typeface="Tahoma"/>
              </a:rPr>
              <a:t>แนวทางดำเนินการจัดทำแผนปฏิรูปองค์การ 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:</a:t>
            </a:r>
            <a:r>
              <a:rPr b="1" lang="th-TH" sz="20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br>
              <a:rPr sz="2000"/>
            </a:br>
            <a:r>
              <a:rPr b="1" lang="th-TH" sz="2000" spc="-1" strike="noStrike">
                <a:solidFill>
                  <a:srgbClr val="002060"/>
                </a:solidFill>
                <a:latin typeface="Tahoma"/>
                <a:ea typeface="Tahoma"/>
              </a:rPr>
              <a:t>    </a:t>
            </a:r>
            <a:r>
              <a:rPr b="1" lang="th-TH" sz="2000" spc="-1" strike="noStrike">
                <a:solidFill>
                  <a:srgbClr val="002060"/>
                </a:solidFill>
                <a:latin typeface="Tahoma"/>
                <a:cs typeface="Tahoma"/>
              </a:rPr>
              <a:t>ส่วนที่ 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3 :</a:t>
            </a:r>
            <a:r>
              <a:rPr b="1" lang="th-TH" sz="20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2000" spc="-1" strike="noStrike">
                <a:solidFill>
                  <a:srgbClr val="002060"/>
                </a:solidFill>
                <a:latin typeface="Tahoma"/>
                <a:cs typeface="Tahoma"/>
              </a:rPr>
              <a:t>ภาคผนวก 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: </a:t>
            </a:r>
            <a:r>
              <a:rPr b="1" lang="th-TH" sz="2000" spc="-1" strike="noStrike">
                <a:solidFill>
                  <a:srgbClr val="002060"/>
                </a:solidFill>
                <a:latin typeface="Tahoma"/>
                <a:cs typeface="Tahoma"/>
              </a:rPr>
              <a:t>ข้อมูลพื้นฐานกรม</a:t>
            </a:r>
            <a:r>
              <a:rPr b="1" lang="th-TH" sz="2000" spc="-1" strike="noStrike">
                <a:solidFill>
                  <a:srgbClr val="002060"/>
                </a:solidFill>
                <a:latin typeface="Tahoma"/>
                <a:ea typeface="Tahoma"/>
              </a:rPr>
              <a:t>.........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TextBox 4"/>
          <p:cNvSpPr/>
          <p:nvPr/>
        </p:nvSpPr>
        <p:spPr>
          <a:xfrm>
            <a:off x="324000" y="1052640"/>
            <a:ext cx="7488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วิสัยทัศน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พันธกิ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ด็นยุทธศาสตร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หน้าที่และอำนาจ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ตามกฎกระทรวงแบ่งส่วนราชการของกรมฯ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เป้าประสงค์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กลยุทธ์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งบประมา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กฎหมายที่สำคั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โครงสร้างและอัตรากำลั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7" name="Picture 2" descr=""/>
          <p:cNvPicPr/>
          <p:nvPr/>
        </p:nvPicPr>
        <p:blipFill>
          <a:blip r:embed="rId1"/>
          <a:srcRect l="0" t="11505" r="0" b="5480"/>
          <a:stretch/>
        </p:blipFill>
        <p:spPr>
          <a:xfrm>
            <a:off x="5946840" y="1163520"/>
            <a:ext cx="2851200" cy="1776600"/>
          </a:xfrm>
          <a:prstGeom prst="rect">
            <a:avLst/>
          </a:prstGeom>
          <a:ln w="0">
            <a:noFill/>
          </a:ln>
        </p:spPr>
      </p:pic>
      <p:pic>
        <p:nvPicPr>
          <p:cNvPr id="3568" name="Picture 3" descr=""/>
          <p:cNvPicPr/>
          <p:nvPr/>
        </p:nvPicPr>
        <p:blipFill>
          <a:blip r:embed="rId2"/>
          <a:stretch/>
        </p:blipFill>
        <p:spPr>
          <a:xfrm>
            <a:off x="1504800" y="4764240"/>
            <a:ext cx="2059200" cy="154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69" name="Picture 4" descr=""/>
          <p:cNvPicPr/>
          <p:nvPr/>
        </p:nvPicPr>
        <p:blipFill>
          <a:blip r:embed="rId3"/>
          <a:stretch/>
        </p:blipFill>
        <p:spPr>
          <a:xfrm>
            <a:off x="3844800" y="4764240"/>
            <a:ext cx="2059200" cy="154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70" name="Right Arrow 14"/>
          <p:cNvSpPr/>
          <p:nvPr/>
        </p:nvSpPr>
        <p:spPr>
          <a:xfrm>
            <a:off x="684360" y="5308560"/>
            <a:ext cx="431640" cy="3920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5b9bd5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1" name="ตัวแทนหมายเลขภาพนิ่ง 1"/>
          <p:cNvSpPr/>
          <p:nvPr/>
        </p:nvSpPr>
        <p:spPr>
          <a:xfrm>
            <a:off x="7128000" y="64818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7053-FEAB-4239-9B57-047716BC1CE6}" type="slidenum">
              <a:rPr b="0" lang="th-TH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2" name="Picture 2" descr=""/>
          <p:cNvPicPr/>
          <p:nvPr/>
        </p:nvPicPr>
        <p:blipFill>
          <a:blip r:embed="rId4"/>
          <a:srcRect l="12449" t="0" r="12842" b="0"/>
          <a:stretch/>
        </p:blipFill>
        <p:spPr>
          <a:xfrm>
            <a:off x="6156360" y="4764240"/>
            <a:ext cx="2052720" cy="154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73" name="เมฆ 11"/>
          <p:cNvSpPr/>
          <p:nvPr/>
        </p:nvSpPr>
        <p:spPr>
          <a:xfrm>
            <a:off x="5651640" y="923760"/>
            <a:ext cx="3276360" cy="2479680"/>
          </a:xfrm>
          <a:custGeom>
            <a:avLst/>
            <a:gdLst>
              <a:gd name="textAreaLeft" fmla="*/ 451440 w 3276360"/>
              <a:gd name="textAreaRight" fmla="*/ 2592000 w 3276360"/>
              <a:gd name="textAreaTop" fmla="*/ 374400 h 2479680"/>
              <a:gd name="textAreaBottom" fmla="*/ 1990440 h 247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noFill/>
          <a:ln w="3240">
            <a:solidFill>
              <a:srgbClr val="41719c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2"/>
          <p:cNvSpPr/>
          <p:nvPr/>
        </p:nvSpPr>
        <p:spPr>
          <a:xfrm>
            <a:off x="228600" y="93600"/>
            <a:ext cx="8915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1162080" indent="-1162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000" spc="-1" strike="noStrike">
                <a:solidFill>
                  <a:srgbClr val="002060"/>
                </a:solidFill>
                <a:latin typeface="Tahoma"/>
                <a:cs typeface="Tahoma"/>
              </a:rPr>
              <a:t>ส่วนที่ 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3 :</a:t>
            </a:r>
            <a:r>
              <a:rPr b="1" lang="th-TH" sz="20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2000" spc="-1" strike="noStrike">
                <a:solidFill>
                  <a:srgbClr val="002060"/>
                </a:solidFill>
                <a:latin typeface="Tahoma"/>
                <a:cs typeface="Tahoma"/>
              </a:rPr>
              <a:t>ภาคผนวก </a:t>
            </a:r>
            <a:br>
              <a:rPr sz="2000"/>
            </a:br>
            <a:r>
              <a:rPr b="1" lang="th-TH" sz="2000" spc="-1" strike="noStrike">
                <a:solidFill>
                  <a:srgbClr val="002060"/>
                </a:solidFill>
                <a:latin typeface="Tahoma"/>
                <a:cs typeface="Tahoma"/>
              </a:rPr>
              <a:t>แบบฟอร์ม 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3.1 : </a:t>
            </a:r>
            <a:r>
              <a:rPr b="1" lang="th-TH" sz="2000" spc="-1" strike="noStrike">
                <a:solidFill>
                  <a:srgbClr val="002060"/>
                </a:solidFill>
                <a:latin typeface="Tahoma"/>
                <a:cs typeface="Tahoma"/>
              </a:rPr>
              <a:t>ข้อมูลพื้นฐานกร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5" name="ตัวแทนหมายเลขภาพนิ่ง 1"/>
          <p:cNvSpPr/>
          <p:nvPr/>
        </p:nvSpPr>
        <p:spPr>
          <a:xfrm>
            <a:off x="7128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DCDC-9AD8-422C-9100-84A5D90EF7F9}" type="slidenum">
              <a:rPr b="0" lang="th-TH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6" name="สี่เหลี่ยมผืนผ้ามุมมน 1"/>
          <p:cNvSpPr/>
          <p:nvPr/>
        </p:nvSpPr>
        <p:spPr>
          <a:xfrm>
            <a:off x="228600" y="838080"/>
            <a:ext cx="3657600" cy="366840"/>
          </a:xfrm>
          <a:prstGeom prst="roundRect">
            <a:avLst>
              <a:gd name="adj" fmla="val 16667"/>
            </a:avLst>
          </a:prstGeom>
          <a:solidFill>
            <a:srgbClr val="2f559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กรม</a:t>
            </a:r>
            <a:r>
              <a:rPr b="1" lang="th-TH" sz="1600" spc="-1" strike="noStrike">
                <a:solidFill>
                  <a:srgbClr val="ffffff"/>
                </a:solidFill>
                <a:latin typeface="Tahoma"/>
                <a:ea typeface="Tahoma"/>
              </a:rPr>
              <a:t>..............................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7" name="TextBox 4"/>
          <p:cNvSpPr/>
          <p:nvPr/>
        </p:nvSpPr>
        <p:spPr>
          <a:xfrm>
            <a:off x="146160" y="1238400"/>
            <a:ext cx="739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วิสัยทัศน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...........................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8" name="TextBox 11"/>
          <p:cNvSpPr/>
          <p:nvPr/>
        </p:nvSpPr>
        <p:spPr>
          <a:xfrm>
            <a:off x="146160" y="1860480"/>
            <a:ext cx="79311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พันธกิ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9" name="TextBox 12"/>
          <p:cNvSpPr/>
          <p:nvPr/>
        </p:nvSpPr>
        <p:spPr>
          <a:xfrm>
            <a:off x="146160" y="4649760"/>
            <a:ext cx="88390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หน้าที่และอำนา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0" name="TextBox 14"/>
          <p:cNvSpPr/>
          <p:nvPr/>
        </p:nvSpPr>
        <p:spPr>
          <a:xfrm>
            <a:off x="146160" y="3378240"/>
            <a:ext cx="8839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ด็นยุทธศาสตร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1" name="Picture 1" descr=""/>
          <p:cNvPicPr/>
          <p:nvPr/>
        </p:nvPicPr>
        <p:blipFill>
          <a:blip r:embed="rId1"/>
          <a:srcRect l="12891" t="12497" r="14491" b="3136"/>
          <a:stretch/>
        </p:blipFill>
        <p:spPr>
          <a:xfrm>
            <a:off x="6872400" y="1176480"/>
            <a:ext cx="1928880" cy="1260360"/>
          </a:xfrm>
          <a:prstGeom prst="rect">
            <a:avLst/>
          </a:prstGeom>
          <a:ln w="0">
            <a:noFill/>
          </a:ln>
        </p:spPr>
      </p:pic>
      <p:sp>
        <p:nvSpPr>
          <p:cNvPr id="3582" name="Rounded Rectangle 16"/>
          <p:cNvSpPr/>
          <p:nvPr/>
        </p:nvSpPr>
        <p:spPr>
          <a:xfrm>
            <a:off x="6816600" y="2222640"/>
            <a:ext cx="2014560" cy="201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3" name="เมฆ 13"/>
          <p:cNvSpPr/>
          <p:nvPr/>
        </p:nvSpPr>
        <p:spPr>
          <a:xfrm>
            <a:off x="6443640" y="806400"/>
            <a:ext cx="2484360" cy="1974960"/>
          </a:xfrm>
          <a:custGeom>
            <a:avLst/>
            <a:gdLst>
              <a:gd name="textAreaLeft" fmla="*/ 342360 w 2484360"/>
              <a:gd name="textAreaRight" fmla="*/ 1965240 w 2484360"/>
              <a:gd name="textAreaTop" fmla="*/ 298080 h 1974960"/>
              <a:gd name="textAreaBottom" fmla="*/ 1585440 h 19749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noFill/>
          <a:ln w="3240">
            <a:solidFill>
              <a:srgbClr val="41719c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TextBox 1"/>
          <p:cNvSpPr/>
          <p:nvPr/>
        </p:nvSpPr>
        <p:spPr>
          <a:xfrm>
            <a:off x="85680" y="55440"/>
            <a:ext cx="1008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9640" indent="-80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ส่วนที่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1 :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บทวิเคราะห์ภาพรวมของกระทรวง </a:t>
            </a:r>
            <a:br>
              <a:rPr sz="1400"/>
            </a:br>
            <a:r>
              <a:rPr b="1" lang="th-TH" sz="1400" spc="-1" strike="noStrike">
                <a:solidFill>
                  <a:srgbClr val="001746"/>
                </a:solidFill>
                <a:latin typeface="Tahoma"/>
                <a:cs typeface="Tahoma"/>
              </a:rPr>
              <a:t>แบบฟอร์ม </a:t>
            </a:r>
            <a:r>
              <a:rPr b="1" lang="en-US" sz="1400" spc="-1" strike="noStrike">
                <a:solidFill>
                  <a:srgbClr val="001746"/>
                </a:solidFill>
                <a:latin typeface="Tahoma"/>
                <a:ea typeface="Tahoma"/>
              </a:rPr>
              <a:t>1.1 </a:t>
            </a:r>
            <a:r>
              <a:rPr b="1" lang="th-TH" sz="1400" spc="-1" strike="noStrike">
                <a:solidFill>
                  <a:srgbClr val="001746"/>
                </a:solidFill>
                <a:latin typeface="Tahoma"/>
                <a:cs typeface="Tahoma"/>
              </a:rPr>
              <a:t>ความเชื่อมโยงภารกิจของกระทรวง</a:t>
            </a:r>
            <a:r>
              <a:rPr b="1" lang="th-TH" sz="1400" spc="-1" strike="noStrike">
                <a:solidFill>
                  <a:srgbClr val="001746"/>
                </a:solidFill>
                <a:latin typeface="Tahoma"/>
                <a:ea typeface="Tahoma"/>
              </a:rPr>
              <a:t>......</a:t>
            </a:r>
            <a:r>
              <a:rPr b="1" lang="th-TH" sz="1400" spc="-1" strike="noStrike">
                <a:solidFill>
                  <a:srgbClr val="001746"/>
                </a:solidFill>
                <a:latin typeface="Tahoma"/>
                <a:cs typeface="Tahoma"/>
              </a:rPr>
              <a:t>กับนโยบายที่สำคัญของประเท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6" name="Freeform 168"/>
          <p:cNvGrpSpPr/>
          <p:nvPr/>
        </p:nvGrpSpPr>
        <p:grpSpPr>
          <a:xfrm>
            <a:off x="42840" y="3956040"/>
            <a:ext cx="1828800" cy="2639880"/>
            <a:chOff x="42840" y="3956040"/>
            <a:chExt cx="1828800" cy="2639880"/>
          </a:xfrm>
        </p:grpSpPr>
        <p:pic>
          <p:nvPicPr>
            <p:cNvPr id="3247" name="Freeform 168" descr=""/>
            <p:cNvPicPr/>
            <p:nvPr/>
          </p:nvPicPr>
          <p:blipFill>
            <a:blip r:embed="rId1"/>
            <a:stretch/>
          </p:blipFill>
          <p:spPr>
            <a:xfrm>
              <a:off x="42840" y="3956040"/>
              <a:ext cx="182880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8" name=""/>
            <p:cNvSpPr/>
            <p:nvPr/>
          </p:nvSpPr>
          <p:spPr>
            <a:xfrm>
              <a:off x="101520" y="3994200"/>
              <a:ext cx="1712880" cy="25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1386360" bIns="3207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9" name="Freeform 169"/>
          <p:cNvGrpSpPr/>
          <p:nvPr/>
        </p:nvGrpSpPr>
        <p:grpSpPr>
          <a:xfrm>
            <a:off x="1822320" y="3956040"/>
            <a:ext cx="1828800" cy="2639880"/>
            <a:chOff x="1822320" y="3956040"/>
            <a:chExt cx="1828800" cy="2639880"/>
          </a:xfrm>
        </p:grpSpPr>
        <p:pic>
          <p:nvPicPr>
            <p:cNvPr id="3250" name="Freeform 169" descr=""/>
            <p:cNvPicPr/>
            <p:nvPr/>
          </p:nvPicPr>
          <p:blipFill>
            <a:blip r:embed="rId2"/>
            <a:stretch/>
          </p:blipFill>
          <p:spPr>
            <a:xfrm>
              <a:off x="1822320" y="3956040"/>
              <a:ext cx="182880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1" name=""/>
            <p:cNvSpPr/>
            <p:nvPr/>
          </p:nvSpPr>
          <p:spPr>
            <a:xfrm>
              <a:off x="1884240" y="3994200"/>
              <a:ext cx="1712880" cy="25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1386360" bIns="32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2" name="Freeform 170"/>
          <p:cNvGrpSpPr/>
          <p:nvPr/>
        </p:nvGrpSpPr>
        <p:grpSpPr>
          <a:xfrm>
            <a:off x="3621240" y="3956040"/>
            <a:ext cx="1828800" cy="2639880"/>
            <a:chOff x="3621240" y="3956040"/>
            <a:chExt cx="1828800" cy="2639880"/>
          </a:xfrm>
        </p:grpSpPr>
        <p:pic>
          <p:nvPicPr>
            <p:cNvPr id="3253" name="Freeform 170" descr=""/>
            <p:cNvPicPr/>
            <p:nvPr/>
          </p:nvPicPr>
          <p:blipFill>
            <a:blip r:embed="rId3"/>
            <a:stretch/>
          </p:blipFill>
          <p:spPr>
            <a:xfrm>
              <a:off x="3621240" y="3956040"/>
              <a:ext cx="182880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4" name=""/>
            <p:cNvSpPr/>
            <p:nvPr/>
          </p:nvSpPr>
          <p:spPr>
            <a:xfrm>
              <a:off x="3679920" y="3994200"/>
              <a:ext cx="1714320" cy="25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1386360" bIns="3207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5" name="Freeform 171"/>
          <p:cNvGrpSpPr/>
          <p:nvPr/>
        </p:nvGrpSpPr>
        <p:grpSpPr>
          <a:xfrm>
            <a:off x="5413320" y="3956040"/>
            <a:ext cx="1828800" cy="2639880"/>
            <a:chOff x="5413320" y="3956040"/>
            <a:chExt cx="1828800" cy="2639880"/>
          </a:xfrm>
        </p:grpSpPr>
        <p:pic>
          <p:nvPicPr>
            <p:cNvPr id="3256" name="Freeform 171" descr=""/>
            <p:cNvPicPr/>
            <p:nvPr/>
          </p:nvPicPr>
          <p:blipFill>
            <a:blip r:embed="rId4"/>
            <a:stretch/>
          </p:blipFill>
          <p:spPr>
            <a:xfrm>
              <a:off x="5413320" y="3956040"/>
              <a:ext cx="182880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7" name=""/>
            <p:cNvSpPr/>
            <p:nvPr/>
          </p:nvSpPr>
          <p:spPr>
            <a:xfrm>
              <a:off x="5475240" y="3994200"/>
              <a:ext cx="1712880" cy="25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1386360" bIns="3207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8" name="Freeform 172"/>
          <p:cNvGrpSpPr/>
          <p:nvPr/>
        </p:nvGrpSpPr>
        <p:grpSpPr>
          <a:xfrm>
            <a:off x="7199280" y="3956040"/>
            <a:ext cx="1878120" cy="2639880"/>
            <a:chOff x="7199280" y="3956040"/>
            <a:chExt cx="1878120" cy="2639880"/>
          </a:xfrm>
        </p:grpSpPr>
        <p:pic>
          <p:nvPicPr>
            <p:cNvPr id="3259" name="Freeform 172" descr=""/>
            <p:cNvPicPr/>
            <p:nvPr/>
          </p:nvPicPr>
          <p:blipFill>
            <a:blip r:embed="rId5"/>
            <a:stretch/>
          </p:blipFill>
          <p:spPr>
            <a:xfrm>
              <a:off x="7199280" y="3956040"/>
              <a:ext cx="187812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0" name=""/>
            <p:cNvSpPr/>
            <p:nvPr/>
          </p:nvSpPr>
          <p:spPr>
            <a:xfrm>
              <a:off x="7259760" y="3994200"/>
              <a:ext cx="1763640" cy="25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1386360" bIns="3207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1" name="Pentagon 183"/>
          <p:cNvSpPr/>
          <p:nvPr/>
        </p:nvSpPr>
        <p:spPr>
          <a:xfrm rot="5400000">
            <a:off x="-476640" y="1668600"/>
            <a:ext cx="2025720" cy="844200"/>
          </a:xfrm>
          <a:custGeom>
            <a:avLst/>
            <a:gdLst>
              <a:gd name="textAreaLeft" fmla="*/ 0 w 2025720"/>
              <a:gd name="textAreaRight" fmla="*/ 2026080 w 2025720"/>
              <a:gd name="textAreaTop" fmla="*/ 0 h 844200"/>
              <a:gd name="textAreaBottom" fmla="*/ 844560 h 84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63" y="0"/>
                </a:lnTo>
                <a:lnTo>
                  <a:pt x="21600" y="10800"/>
                </a:lnTo>
                <a:lnTo>
                  <a:pt x="209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fbfb"/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2" name="TextBox 50"/>
          <p:cNvSpPr/>
          <p:nvPr/>
        </p:nvSpPr>
        <p:spPr>
          <a:xfrm>
            <a:off x="85680" y="1081080"/>
            <a:ext cx="8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3" name="TextBox 185"/>
          <p:cNvSpPr/>
          <p:nvPr/>
        </p:nvSpPr>
        <p:spPr>
          <a:xfrm>
            <a:off x="114480" y="749160"/>
            <a:ext cx="844200" cy="335160"/>
          </a:xfrm>
          <a:prstGeom prst="rect">
            <a:avLst/>
          </a:prstGeom>
          <a:gradFill rotWithShape="0">
            <a:gsLst>
              <a:gs pos="0">
                <a:srgbClr val="b5d5a7"/>
              </a:gs>
              <a:gs pos="100000">
                <a:srgbClr val="9cca86"/>
              </a:gs>
            </a:gsLst>
            <a:lin ang="5400000"/>
          </a:gra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Tahoma"/>
                <a:cs typeface="Tahoma"/>
              </a:rPr>
              <a:t>ยุทธศาสตร์ชาติ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20 </a:t>
            </a:r>
            <a:r>
              <a:rPr b="1" lang="th-TH" sz="800" spc="-1" strike="noStrike">
                <a:solidFill>
                  <a:srgbClr val="000000"/>
                </a:solidFill>
                <a:latin typeface="Tahoma"/>
                <a:cs typeface="Tahoma"/>
              </a:rPr>
              <a:t>ป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4" name="Pentagon 186"/>
          <p:cNvSpPr/>
          <p:nvPr/>
        </p:nvSpPr>
        <p:spPr>
          <a:xfrm rot="5400000">
            <a:off x="1191240" y="895680"/>
            <a:ext cx="2021040" cy="239400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2394000"/>
              <a:gd name="textAreaBottom" fmla="*/ 2394360 h 239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6" y="0"/>
                </a:lnTo>
                <a:lnTo>
                  <a:pt x="21600" y="10800"/>
                </a:lnTo>
                <a:lnTo>
                  <a:pt x="206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fbfb"/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5" name="Pentagon 187"/>
          <p:cNvSpPr/>
          <p:nvPr/>
        </p:nvSpPr>
        <p:spPr>
          <a:xfrm>
            <a:off x="1004760" y="743040"/>
            <a:ext cx="2394000" cy="344520"/>
          </a:xfrm>
          <a:custGeom>
            <a:avLst/>
            <a:gdLst>
              <a:gd name="textAreaLeft" fmla="*/ 0 w 2394000"/>
              <a:gd name="textAreaRight" fmla="*/ 2394360 w 239400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92" y="0"/>
                </a:lnTo>
                <a:lnTo>
                  <a:pt x="21600" y="10800"/>
                </a:lnTo>
                <a:lnTo>
                  <a:pt x="215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7f6fd"/>
          </a:solidFill>
          <a:ln w="1908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6" name="Rectangle 51"/>
          <p:cNvSpPr/>
          <p:nvPr/>
        </p:nvSpPr>
        <p:spPr>
          <a:xfrm>
            <a:off x="977760" y="1049400"/>
            <a:ext cx="2409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r>
              <a:rPr b="1" i="1" lang="en-US" sz="500" spc="-1" strike="noStrike">
                <a:solidFill>
                  <a:srgbClr val="000000"/>
                </a:solidFill>
                <a:latin typeface="Tahoma"/>
                <a:ea typeface="Tahoma"/>
              </a:rPr>
              <a:t>..………………………………………………………………………………………………………………………………………………………………………………………………………………..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7" name="Rectangle 52"/>
          <p:cNvSpPr/>
          <p:nvPr/>
        </p:nvSpPr>
        <p:spPr>
          <a:xfrm>
            <a:off x="1001880" y="74628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Tahoma"/>
                <a:cs typeface="Tahoma"/>
              </a:rPr>
              <a:t>ยุทธศาสตร์การพัฒนาประเทศ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th-TH" sz="800" spc="-1" strike="noStrike">
                <a:solidFill>
                  <a:srgbClr val="000000"/>
                </a:solidFill>
                <a:latin typeface="Tahoma"/>
                <a:cs typeface="Tahoma"/>
              </a:rPr>
              <a:t>แผนฯ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12 </a:t>
            </a:r>
            <a:r>
              <a:rPr b="1" lang="th-TH" sz="800" spc="-1" strike="noStrike">
                <a:solidFill>
                  <a:srgbClr val="000000"/>
                </a:solidFill>
                <a:latin typeface="Tahoma"/>
                <a:cs typeface="Tahoma"/>
              </a:rPr>
              <a:t>ปี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60-64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8" name="Pentagon 190"/>
          <p:cNvSpPr/>
          <p:nvPr/>
        </p:nvSpPr>
        <p:spPr>
          <a:xfrm rot="5400000">
            <a:off x="3993480" y="1519200"/>
            <a:ext cx="2030400" cy="1112760"/>
          </a:xfrm>
          <a:custGeom>
            <a:avLst/>
            <a:gdLst>
              <a:gd name="textAreaLeft" fmla="*/ 0 w 2030400"/>
              <a:gd name="textAreaRight" fmla="*/ 2030760 w 2030400"/>
              <a:gd name="textAreaTop" fmla="*/ 0 h 1112760"/>
              <a:gd name="textAreaBottom" fmla="*/ 1112760 h 11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81" y="0"/>
                </a:lnTo>
                <a:lnTo>
                  <a:pt x="21600" y="10800"/>
                </a:lnTo>
                <a:lnTo>
                  <a:pt x="208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fbfb"/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9" name="Pentagon 191"/>
          <p:cNvSpPr/>
          <p:nvPr/>
        </p:nvSpPr>
        <p:spPr>
          <a:xfrm>
            <a:off x="4448160" y="741240"/>
            <a:ext cx="1112760" cy="355680"/>
          </a:xfrm>
          <a:custGeom>
            <a:avLst/>
            <a:gdLst>
              <a:gd name="textAreaLeft" fmla="*/ 0 w 1112760"/>
              <a:gd name="textAreaRight" fmla="*/ 1112760 w 11127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82" y="0"/>
                </a:lnTo>
                <a:lnTo>
                  <a:pt x="21600" y="10800"/>
                </a:lnTo>
                <a:lnTo>
                  <a:pt x="215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2cc"/>
          </a:solidFill>
          <a:ln w="19080">
            <a:solidFill>
              <a:srgbClr val="ffd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0" name="Rectangle 55"/>
          <p:cNvSpPr/>
          <p:nvPr/>
        </p:nvSpPr>
        <p:spPr>
          <a:xfrm>
            <a:off x="4433760" y="80316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ทศไทย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4.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1" name="Pentagon 194"/>
          <p:cNvSpPr/>
          <p:nvPr/>
        </p:nvSpPr>
        <p:spPr>
          <a:xfrm rot="5400000">
            <a:off x="6429600" y="479880"/>
            <a:ext cx="1844640" cy="3421080"/>
          </a:xfrm>
          <a:custGeom>
            <a:avLst/>
            <a:gdLst>
              <a:gd name="textAreaLeft" fmla="*/ 0 w 1844640"/>
              <a:gd name="textAreaRight" fmla="*/ 1845000 w 1844640"/>
              <a:gd name="textAreaTop" fmla="*/ 0 h 3421080"/>
              <a:gd name="textAreaBottom" fmla="*/ 3421440 h 34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5" y="0"/>
                </a:lnTo>
                <a:lnTo>
                  <a:pt x="21600" y="10800"/>
                </a:lnTo>
                <a:lnTo>
                  <a:pt x="2021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fbfb"/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2" name="Pentagon 195"/>
          <p:cNvSpPr/>
          <p:nvPr/>
        </p:nvSpPr>
        <p:spPr>
          <a:xfrm>
            <a:off x="5637240" y="749160"/>
            <a:ext cx="3411360" cy="459000"/>
          </a:xfrm>
          <a:custGeom>
            <a:avLst/>
            <a:gdLst>
              <a:gd name="textAreaLeft" fmla="*/ 0 w 3411360"/>
              <a:gd name="textAreaRight" fmla="*/ 3411720 w 341136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93" y="0"/>
                </a:lnTo>
                <a:lnTo>
                  <a:pt x="21600" y="10800"/>
                </a:lnTo>
                <a:lnTo>
                  <a:pt x="2159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cbad"/>
          </a:solidFill>
          <a:ln w="19080">
            <a:solidFill>
              <a:srgbClr val="f4b1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3" name="Rectangle 81"/>
          <p:cNvSpPr/>
          <p:nvPr/>
        </p:nvSpPr>
        <p:spPr>
          <a:xfrm>
            <a:off x="5592600" y="714240"/>
            <a:ext cx="3416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ผนระดับชาติอื่น ๆ ที่เกี่ยวข้อง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ถ้ามี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ช่น วาระการปฏิรูปประเทศ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37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าระ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ผนแม่บท หรือ</a:t>
            </a:r>
            <a:br>
              <a:rPr sz="900"/>
            </a:b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ผนยุทธศาสตร์ระดับประเทศ  เป็นต้น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4" name="Pentagon 197"/>
          <p:cNvSpPr/>
          <p:nvPr/>
        </p:nvSpPr>
        <p:spPr>
          <a:xfrm rot="5400000">
            <a:off x="2912040" y="1591560"/>
            <a:ext cx="2027160" cy="996840"/>
          </a:xfrm>
          <a:custGeom>
            <a:avLst/>
            <a:gdLst>
              <a:gd name="textAreaLeft" fmla="*/ 0 w 2027160"/>
              <a:gd name="textAreaRight" fmla="*/ 2027160 w 2027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6" y="0"/>
                </a:lnTo>
                <a:lnTo>
                  <a:pt x="21600" y="10800"/>
                </a:lnTo>
                <a:lnTo>
                  <a:pt x="2055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fbfb"/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5" name="Pentagon 198"/>
          <p:cNvSpPr/>
          <p:nvPr/>
        </p:nvSpPr>
        <p:spPr>
          <a:xfrm>
            <a:off x="3421080" y="743040"/>
            <a:ext cx="990720" cy="341280"/>
          </a:xfrm>
          <a:custGeom>
            <a:avLst/>
            <a:gdLst>
              <a:gd name="textAreaLeft" fmla="*/ 0 w 990720"/>
              <a:gd name="textAreaRight" fmla="*/ 991080 w 9907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81" y="0"/>
                </a:lnTo>
                <a:lnTo>
                  <a:pt x="21600" y="10800"/>
                </a:lnTo>
                <a:lnTo>
                  <a:pt x="215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fbfbf"/>
          </a:solidFill>
          <a:ln w="1908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6" name="Rectangle 199"/>
          <p:cNvSpPr/>
          <p:nvPr/>
        </p:nvSpPr>
        <p:spPr>
          <a:xfrm>
            <a:off x="3373560" y="1076400"/>
            <a:ext cx="109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r>
              <a:rPr b="1" i="1" lang="en-US" sz="6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7" name="Rectangle 200"/>
          <p:cNvSpPr/>
          <p:nvPr/>
        </p:nvSpPr>
        <p:spPr>
          <a:xfrm>
            <a:off x="3466440" y="793800"/>
            <a:ext cx="87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นโยบายรัฐบาล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78" name="Group 228"/>
          <p:cNvGrpSpPr/>
          <p:nvPr/>
        </p:nvGrpSpPr>
        <p:grpSpPr>
          <a:xfrm>
            <a:off x="117360" y="3097080"/>
            <a:ext cx="8891640" cy="484200"/>
            <a:chOff x="117360" y="3097080"/>
            <a:chExt cx="8891640" cy="484200"/>
          </a:xfrm>
        </p:grpSpPr>
        <p:grpSp>
          <p:nvGrpSpPr>
            <p:cNvPr id="3279" name="Left-Right Arrow 229"/>
            <p:cNvGrpSpPr/>
            <p:nvPr/>
          </p:nvGrpSpPr>
          <p:grpSpPr>
            <a:xfrm>
              <a:off x="117360" y="3097080"/>
              <a:ext cx="8891640" cy="484200"/>
              <a:chOff x="117360" y="3097080"/>
              <a:chExt cx="8891640" cy="484200"/>
            </a:xfrm>
          </p:grpSpPr>
          <p:pic>
            <p:nvPicPr>
              <p:cNvPr id="3280" name="Left-Right Arrow 229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360" y="3097080"/>
                <a:ext cx="8891640" cy="48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1" name=""/>
              <p:cNvSpPr/>
              <p:nvPr/>
            </p:nvSpPr>
            <p:spPr>
              <a:xfrm>
                <a:off x="304560" y="3232800"/>
                <a:ext cx="8524800" cy="1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82" name="TextBox 230"/>
            <p:cNvSpPr/>
            <p:nvPr/>
          </p:nvSpPr>
          <p:spPr>
            <a:xfrm>
              <a:off x="1676880" y="3220920"/>
              <a:ext cx="5780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“</a:t>
              </a: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ยุทธศาสตร์กระทรวง</a:t>
              </a: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.................................... </a:t>
              </a: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ระยะ </a:t>
              </a:r>
              <a:r>
                <a:rPr b="1" lang="en-US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0/10/5</a:t>
              </a: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ปี </a:t>
              </a: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(</a:t>
              </a: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พ</a:t>
              </a: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</a:t>
              </a: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ศ</a:t>
              </a: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 </a:t>
              </a:r>
              <a:r>
                <a:rPr b="1" lang="en-US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xxxx</a:t>
              </a: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– </a:t>
              </a:r>
              <a:r>
                <a:rPr b="1" lang="en-US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xxxx</a:t>
              </a: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)”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3" name="Rounded Rectangle 235"/>
          <p:cNvSpPr/>
          <p:nvPr/>
        </p:nvSpPr>
        <p:spPr>
          <a:xfrm>
            <a:off x="770040" y="3614760"/>
            <a:ext cx="349200" cy="311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4" name="TextBox 236"/>
          <p:cNvSpPr/>
          <p:nvPr/>
        </p:nvSpPr>
        <p:spPr>
          <a:xfrm>
            <a:off x="777960" y="3575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Rounded Rectangle 237"/>
          <p:cNvSpPr/>
          <p:nvPr/>
        </p:nvSpPr>
        <p:spPr>
          <a:xfrm>
            <a:off x="2556000" y="3632040"/>
            <a:ext cx="349200" cy="3114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TextBox 238"/>
          <p:cNvSpPr/>
          <p:nvPr/>
        </p:nvSpPr>
        <p:spPr>
          <a:xfrm>
            <a:off x="2567160" y="3592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7" name="Rounded Rectangle 239"/>
          <p:cNvSpPr/>
          <p:nvPr/>
        </p:nvSpPr>
        <p:spPr>
          <a:xfrm>
            <a:off x="4348080" y="3630600"/>
            <a:ext cx="349200" cy="311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TextBox 240"/>
          <p:cNvSpPr/>
          <p:nvPr/>
        </p:nvSpPr>
        <p:spPr>
          <a:xfrm>
            <a:off x="4371840" y="3591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9" name="Rounded Rectangle 241"/>
          <p:cNvSpPr/>
          <p:nvPr/>
        </p:nvSpPr>
        <p:spPr>
          <a:xfrm>
            <a:off x="6168960" y="3622680"/>
            <a:ext cx="349200" cy="311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0" name="TextBox 242"/>
          <p:cNvSpPr/>
          <p:nvPr/>
        </p:nvSpPr>
        <p:spPr>
          <a:xfrm>
            <a:off x="6180120" y="35845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1" name="Rounded Rectangle 243"/>
          <p:cNvSpPr/>
          <p:nvPr/>
        </p:nvSpPr>
        <p:spPr>
          <a:xfrm>
            <a:off x="8032680" y="3630600"/>
            <a:ext cx="349200" cy="311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2" name="TextBox 244"/>
          <p:cNvSpPr/>
          <p:nvPr/>
        </p:nvSpPr>
        <p:spPr>
          <a:xfrm>
            <a:off x="8056440" y="3591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3" name="Rectangle 69"/>
          <p:cNvSpPr/>
          <p:nvPr/>
        </p:nvSpPr>
        <p:spPr>
          <a:xfrm>
            <a:off x="4481640" y="1077840"/>
            <a:ext cx="109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</a:t>
            </a:r>
            <a:r>
              <a:rPr b="1" i="1" lang="en-US" sz="600" spc="-1" strike="noStrike">
                <a:solidFill>
                  <a:srgbClr val="000000"/>
                </a:solidFill>
                <a:latin typeface="Tahoma"/>
                <a:ea typeface="Tahoma"/>
              </a:rPr>
              <a:t>...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4" name="Rectangle 51"/>
          <p:cNvSpPr/>
          <p:nvPr/>
        </p:nvSpPr>
        <p:spPr>
          <a:xfrm>
            <a:off x="5664240" y="1279440"/>
            <a:ext cx="332424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</a:t>
            </a:r>
            <a:r>
              <a:rPr b="1" i="1" lang="en-US" sz="500" spc="-1" strike="noStrike">
                <a:solidFill>
                  <a:srgbClr val="000000"/>
                </a:solidFill>
                <a:latin typeface="Tahoma"/>
                <a:ea typeface="Tahoma"/>
              </a:rPr>
              <a:t>..………………………………………………………………………………………………………………………………………………………………………………………………………………..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.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5" name="ตัวแทนหมายเลขภาพนิ่ง 1"/>
          <p:cNvSpPr/>
          <p:nvPr/>
        </p:nvSpPr>
        <p:spPr>
          <a:xfrm>
            <a:off x="7128000" y="64818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6015-24B4-4854-80A1-EF9258CEC223}" type="slidenum">
              <a:rPr b="0" lang="th-TH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ตัวแทนหมายเลขภาพนิ่ง 1"/>
          <p:cNvSpPr/>
          <p:nvPr/>
        </p:nvSpPr>
        <p:spPr>
          <a:xfrm>
            <a:off x="7128000" y="64818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1226-9525-4825-96C3-A7B5E3FF4C1A}" type="slidenum">
              <a:rPr b="0" lang="th-TH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TextBox 13"/>
          <p:cNvSpPr/>
          <p:nvPr/>
        </p:nvSpPr>
        <p:spPr>
          <a:xfrm>
            <a:off x="117360" y="83016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ด็นยุทธศาสตร์ เป้าประสงค์ และกลยุทธ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86" name=""/>
          <p:cNvGraphicFramePr/>
          <p:nvPr/>
        </p:nvGraphicFramePr>
        <p:xfrm>
          <a:off x="165240" y="1179360"/>
          <a:ext cx="8762760" cy="3353040"/>
        </p:xfrm>
        <a:graphic>
          <a:graphicData uri="http://schemas.openxmlformats.org/drawingml/2006/table">
            <a:tbl>
              <a:tblPr/>
              <a:tblGrid>
                <a:gridCol w="1143000"/>
                <a:gridCol w="1218960"/>
                <a:gridCol w="640080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ประเด็นยุทธศาสตร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เป้าประสงค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กลยุทธ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 algn="ctr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 algn="ctr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 algn="ctr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 algn="ctr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 algn="ctr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 algn="ctr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ahom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ahom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 algn="ctr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 algn="ctr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 algn="ctr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 algn="ctr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 algn="ctr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 algn="ctr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3587" name="Rectangle 2"/>
          <p:cNvSpPr/>
          <p:nvPr/>
        </p:nvSpPr>
        <p:spPr>
          <a:xfrm>
            <a:off x="117360" y="74520"/>
            <a:ext cx="9026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1162080" indent="-1162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1800" spc="-1" strike="noStrike">
                <a:solidFill>
                  <a:srgbClr val="002060"/>
                </a:solidFill>
                <a:latin typeface="Tahoma"/>
                <a:cs typeface="Tahoma"/>
              </a:rPr>
              <a:t>ส่วนที่ </a:t>
            </a:r>
            <a:r>
              <a:rPr b="1" lang="en-US" sz="1800" spc="-1" strike="noStrike">
                <a:solidFill>
                  <a:srgbClr val="002060"/>
                </a:solidFill>
                <a:latin typeface="Tahoma"/>
                <a:ea typeface="Tahoma"/>
              </a:rPr>
              <a:t>3 :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cs typeface="Tahoma"/>
              </a:rPr>
              <a:t>ภาคผนว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62080" indent="-1162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1800" spc="-1" strike="noStrike">
                <a:solidFill>
                  <a:srgbClr val="002060"/>
                </a:solidFill>
                <a:latin typeface="Tahoma"/>
                <a:ea typeface="Tahoma"/>
              </a:rPr>
              <a:t>	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cs typeface="Tahoma"/>
              </a:rPr>
              <a:t>แบบฟอร์ม </a:t>
            </a:r>
            <a:r>
              <a:rPr b="1" lang="en-US" sz="1800" spc="-1" strike="noStrike">
                <a:solidFill>
                  <a:srgbClr val="002060"/>
                </a:solidFill>
                <a:latin typeface="Tahoma"/>
                <a:ea typeface="Tahoma"/>
              </a:rPr>
              <a:t>3.2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ahoma"/>
                <a:ea typeface="Tahoma"/>
              </a:rPr>
              <a:t>: 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cs typeface="Tahoma"/>
              </a:rPr>
              <a:t>ประเด็นยุทธศาสตร์ เป้าประสงค์ และกลยุทธ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สี่เหลี่ยมผืนผ้ามุมมน 28"/>
          <p:cNvSpPr/>
          <p:nvPr/>
        </p:nvSpPr>
        <p:spPr>
          <a:xfrm>
            <a:off x="3645000" y="1268280"/>
            <a:ext cx="1849320" cy="412920"/>
          </a:xfrm>
          <a:prstGeom prst="roundRect">
            <a:avLst>
              <a:gd name="adj" fmla="val 0"/>
            </a:avLst>
          </a:prstGeom>
          <a:noFill/>
          <a:ln w="2844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รม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สี่เหลี่ยมผืนผ้า 29"/>
          <p:cNvSpPr/>
          <p:nvPr/>
        </p:nvSpPr>
        <p:spPr>
          <a:xfrm>
            <a:off x="4500720" y="1695600"/>
            <a:ext cx="279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ลุ่มตรวจสอบภายใน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(.../.../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ลุ่มพัฒนาระบบบริหาร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(.../.../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0" name="Straight Connector 47"/>
          <p:cNvSpPr/>
          <p:nvPr/>
        </p:nvSpPr>
        <p:spPr>
          <a:xfrm>
            <a:off x="1003320" y="2151000"/>
            <a:ext cx="713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1" name="Straight Connector 56"/>
          <p:cNvSpPr/>
          <p:nvPr/>
        </p:nvSpPr>
        <p:spPr>
          <a:xfrm>
            <a:off x="4470480" y="1679400"/>
            <a:ext cx="0" cy="4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2" name="Straight Connector 58"/>
          <p:cNvSpPr/>
          <p:nvPr/>
        </p:nvSpPr>
        <p:spPr>
          <a:xfrm>
            <a:off x="3419640" y="2163600"/>
            <a:ext cx="0" cy="2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93" name=""/>
          <p:cNvGraphicFramePr/>
          <p:nvPr/>
        </p:nvGraphicFramePr>
        <p:xfrm>
          <a:off x="7178760" y="907920"/>
          <a:ext cx="1914480" cy="976320"/>
        </p:xfrm>
        <a:graphic>
          <a:graphicData uri="http://schemas.openxmlformats.org/drawingml/2006/table">
            <a:tbl>
              <a:tblPr/>
              <a:tblGrid>
                <a:gridCol w="1320840"/>
                <a:gridCol w="59364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อัตรากำลั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้าราชกา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นักงานราชกา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ลูกจ้างประจ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94" name=""/>
          <p:cNvGraphicFramePr/>
          <p:nvPr/>
        </p:nvGraphicFramePr>
        <p:xfrm>
          <a:off x="34920" y="2414520"/>
          <a:ext cx="2103480" cy="790560"/>
        </p:xfrm>
        <a:graphic>
          <a:graphicData uri="http://schemas.openxmlformats.org/drawingml/2006/table">
            <a:tbl>
              <a:tblPr/>
              <a:tblGrid>
                <a:gridCol w="1311120"/>
                <a:gridCol w="792360"/>
              </a:tblGrid>
              <a:tr h="2858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ลจป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95" name=""/>
          <p:cNvGraphicFramePr/>
          <p:nvPr/>
        </p:nvGraphicFramePr>
        <p:xfrm>
          <a:off x="2300400" y="2421000"/>
          <a:ext cx="2276280" cy="792000"/>
        </p:xfrm>
        <a:graphic>
          <a:graphicData uri="http://schemas.openxmlformats.org/drawingml/2006/table">
            <a:tbl>
              <a:tblPr/>
              <a:tblGrid>
                <a:gridCol w="1484280"/>
                <a:gridCol w="792000"/>
              </a:tblGrid>
              <a:tr h="28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ลจป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96" name=""/>
          <p:cNvGraphicFramePr/>
          <p:nvPr/>
        </p:nvGraphicFramePr>
        <p:xfrm>
          <a:off x="4732200" y="2428920"/>
          <a:ext cx="2071800" cy="790560"/>
        </p:xfrm>
        <a:graphic>
          <a:graphicData uri="http://schemas.openxmlformats.org/drawingml/2006/table">
            <a:tbl>
              <a:tblPr/>
              <a:tblGrid>
                <a:gridCol w="1279800"/>
                <a:gridCol w="792000"/>
              </a:tblGrid>
              <a:tr h="285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ลจป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97" name=""/>
          <p:cNvGraphicFramePr/>
          <p:nvPr/>
        </p:nvGraphicFramePr>
        <p:xfrm>
          <a:off x="6981840" y="2428920"/>
          <a:ext cx="2127240" cy="790560"/>
        </p:xfrm>
        <a:graphic>
          <a:graphicData uri="http://schemas.openxmlformats.org/drawingml/2006/table">
            <a:tbl>
              <a:tblPr/>
              <a:tblGrid>
                <a:gridCol w="1406520"/>
                <a:gridCol w="720720"/>
              </a:tblGrid>
              <a:tr h="285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ลจป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98" name=""/>
          <p:cNvGraphicFramePr/>
          <p:nvPr/>
        </p:nvGraphicFramePr>
        <p:xfrm>
          <a:off x="34920" y="3417840"/>
          <a:ext cx="2103480" cy="790560"/>
        </p:xfrm>
        <a:graphic>
          <a:graphicData uri="http://schemas.openxmlformats.org/drawingml/2006/table">
            <a:tbl>
              <a:tblPr/>
              <a:tblGrid>
                <a:gridCol w="1311120"/>
                <a:gridCol w="792360"/>
              </a:tblGrid>
              <a:tr h="2858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ลจป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99" name=""/>
          <p:cNvGraphicFramePr/>
          <p:nvPr/>
        </p:nvGraphicFramePr>
        <p:xfrm>
          <a:off x="2309760" y="3425760"/>
          <a:ext cx="2276640" cy="790560"/>
        </p:xfrm>
        <a:graphic>
          <a:graphicData uri="http://schemas.openxmlformats.org/drawingml/2006/table">
            <a:tbl>
              <a:tblPr/>
              <a:tblGrid>
                <a:gridCol w="1484280"/>
                <a:gridCol w="792360"/>
              </a:tblGrid>
              <a:tr h="2858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ลจป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00" name=""/>
          <p:cNvGraphicFramePr/>
          <p:nvPr/>
        </p:nvGraphicFramePr>
        <p:xfrm>
          <a:off x="4741920" y="3432240"/>
          <a:ext cx="2071800" cy="792000"/>
        </p:xfrm>
        <a:graphic>
          <a:graphicData uri="http://schemas.openxmlformats.org/drawingml/2006/table">
            <a:tbl>
              <a:tblPr/>
              <a:tblGrid>
                <a:gridCol w="1279440"/>
                <a:gridCol w="792360"/>
              </a:tblGrid>
              <a:tr h="28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ลจป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01" name=""/>
          <p:cNvGraphicFramePr/>
          <p:nvPr/>
        </p:nvGraphicFramePr>
        <p:xfrm>
          <a:off x="6958080" y="3435480"/>
          <a:ext cx="2151000" cy="790560"/>
        </p:xfrm>
        <a:graphic>
          <a:graphicData uri="http://schemas.openxmlformats.org/drawingml/2006/table">
            <a:tbl>
              <a:tblPr/>
              <a:tblGrid>
                <a:gridCol w="1430280"/>
                <a:gridCol w="720720"/>
              </a:tblGrid>
              <a:tr h="284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ลจป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02" name=""/>
          <p:cNvGraphicFramePr/>
          <p:nvPr/>
        </p:nvGraphicFramePr>
        <p:xfrm>
          <a:off x="46080" y="4421160"/>
          <a:ext cx="2101680" cy="790560"/>
        </p:xfrm>
        <a:graphic>
          <a:graphicData uri="http://schemas.openxmlformats.org/drawingml/2006/table">
            <a:tbl>
              <a:tblPr/>
              <a:tblGrid>
                <a:gridCol w="1309680"/>
                <a:gridCol w="792000"/>
              </a:tblGrid>
              <a:tr h="285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ลจป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03" name=""/>
          <p:cNvGraphicFramePr/>
          <p:nvPr/>
        </p:nvGraphicFramePr>
        <p:xfrm>
          <a:off x="2319480" y="4427640"/>
          <a:ext cx="2278080" cy="792000"/>
        </p:xfrm>
        <a:graphic>
          <a:graphicData uri="http://schemas.openxmlformats.org/drawingml/2006/table">
            <a:tbl>
              <a:tblPr/>
              <a:tblGrid>
                <a:gridCol w="1485720"/>
                <a:gridCol w="792360"/>
              </a:tblGrid>
              <a:tr h="28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ลจป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04" name=""/>
          <p:cNvGraphicFramePr/>
          <p:nvPr/>
        </p:nvGraphicFramePr>
        <p:xfrm>
          <a:off x="4753080" y="4435560"/>
          <a:ext cx="2071440" cy="790560"/>
        </p:xfrm>
        <a:graphic>
          <a:graphicData uri="http://schemas.openxmlformats.org/drawingml/2006/table">
            <a:tbl>
              <a:tblPr/>
              <a:tblGrid>
                <a:gridCol w="1279440"/>
                <a:gridCol w="792000"/>
              </a:tblGrid>
              <a:tr h="2858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ลจป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05" name=""/>
          <p:cNvGraphicFramePr/>
          <p:nvPr/>
        </p:nvGraphicFramePr>
        <p:xfrm>
          <a:off x="6967440" y="4437000"/>
          <a:ext cx="2151000" cy="790560"/>
        </p:xfrm>
        <a:graphic>
          <a:graphicData uri="http://schemas.openxmlformats.org/drawingml/2006/table">
            <a:tbl>
              <a:tblPr/>
              <a:tblGrid>
                <a:gridCol w="1430280"/>
                <a:gridCol w="720720"/>
              </a:tblGrid>
              <a:tr h="28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ลจป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06" name=""/>
          <p:cNvGraphicFramePr/>
          <p:nvPr/>
        </p:nvGraphicFramePr>
        <p:xfrm>
          <a:off x="34920" y="5416560"/>
          <a:ext cx="2103480" cy="790560"/>
        </p:xfrm>
        <a:graphic>
          <a:graphicData uri="http://schemas.openxmlformats.org/drawingml/2006/table">
            <a:tbl>
              <a:tblPr/>
              <a:tblGrid>
                <a:gridCol w="1311120"/>
                <a:gridCol w="792360"/>
              </a:tblGrid>
              <a:tr h="28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ลจป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07" name=""/>
          <p:cNvGraphicFramePr/>
          <p:nvPr/>
        </p:nvGraphicFramePr>
        <p:xfrm>
          <a:off x="2309760" y="5424480"/>
          <a:ext cx="2276640" cy="790560"/>
        </p:xfrm>
        <a:graphic>
          <a:graphicData uri="http://schemas.openxmlformats.org/drawingml/2006/table">
            <a:tbl>
              <a:tblPr/>
              <a:tblGrid>
                <a:gridCol w="1484280"/>
                <a:gridCol w="792360"/>
              </a:tblGrid>
              <a:tr h="2858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ลจป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08" name=""/>
          <p:cNvGraphicFramePr/>
          <p:nvPr/>
        </p:nvGraphicFramePr>
        <p:xfrm>
          <a:off x="4741920" y="5430960"/>
          <a:ext cx="2071800" cy="792000"/>
        </p:xfrm>
        <a:graphic>
          <a:graphicData uri="http://schemas.openxmlformats.org/drawingml/2006/table">
            <a:tbl>
              <a:tblPr/>
              <a:tblGrid>
                <a:gridCol w="1279440"/>
                <a:gridCol w="792360"/>
              </a:tblGrid>
              <a:tr h="28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ลจป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09" name=""/>
          <p:cNvGraphicFramePr/>
          <p:nvPr/>
        </p:nvGraphicFramePr>
        <p:xfrm>
          <a:off x="6958080" y="5433840"/>
          <a:ext cx="2151000" cy="790920"/>
        </p:xfrm>
        <a:graphic>
          <a:graphicData uri="http://schemas.openxmlformats.org/drawingml/2006/table">
            <a:tbl>
              <a:tblPr/>
              <a:tblGrid>
                <a:gridCol w="1430280"/>
                <a:gridCol w="720720"/>
              </a:tblGrid>
              <a:tr h="285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รก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ลจป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 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0" name="Straight Connector 130"/>
          <p:cNvSpPr/>
          <p:nvPr/>
        </p:nvSpPr>
        <p:spPr>
          <a:xfrm>
            <a:off x="1003320" y="2147760"/>
            <a:ext cx="0" cy="2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Straight Connector 143"/>
          <p:cNvSpPr/>
          <p:nvPr/>
        </p:nvSpPr>
        <p:spPr>
          <a:xfrm>
            <a:off x="5727600" y="216864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2" name="Straight Connector 144"/>
          <p:cNvSpPr/>
          <p:nvPr/>
        </p:nvSpPr>
        <p:spPr>
          <a:xfrm>
            <a:off x="8136000" y="215748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3" name="Straight Connector 145"/>
          <p:cNvSpPr/>
          <p:nvPr/>
        </p:nvSpPr>
        <p:spPr>
          <a:xfrm>
            <a:off x="1003320" y="3294000"/>
            <a:ext cx="712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4" name="Straight Connector 146"/>
          <p:cNvSpPr/>
          <p:nvPr/>
        </p:nvSpPr>
        <p:spPr>
          <a:xfrm>
            <a:off x="3419640" y="3306600"/>
            <a:ext cx="0" cy="10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5" name="Straight Connector 147"/>
          <p:cNvSpPr/>
          <p:nvPr/>
        </p:nvSpPr>
        <p:spPr>
          <a:xfrm>
            <a:off x="1003320" y="3290760"/>
            <a:ext cx="0" cy="12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6" name="Straight Connector 148"/>
          <p:cNvSpPr/>
          <p:nvPr/>
        </p:nvSpPr>
        <p:spPr>
          <a:xfrm>
            <a:off x="5727600" y="3295800"/>
            <a:ext cx="0" cy="12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7" name="Straight Connector 149"/>
          <p:cNvSpPr/>
          <p:nvPr/>
        </p:nvSpPr>
        <p:spPr>
          <a:xfrm>
            <a:off x="8136000" y="3300480"/>
            <a:ext cx="0" cy="12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8" name="Straight Connector 150"/>
          <p:cNvSpPr/>
          <p:nvPr/>
        </p:nvSpPr>
        <p:spPr>
          <a:xfrm>
            <a:off x="1006560" y="4317840"/>
            <a:ext cx="7129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9" name="Straight Connector 151"/>
          <p:cNvSpPr/>
          <p:nvPr/>
        </p:nvSpPr>
        <p:spPr>
          <a:xfrm>
            <a:off x="3424320" y="4314960"/>
            <a:ext cx="0" cy="12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0" name="Straight Connector 152"/>
          <p:cNvSpPr/>
          <p:nvPr/>
        </p:nvSpPr>
        <p:spPr>
          <a:xfrm>
            <a:off x="1006560" y="4314960"/>
            <a:ext cx="0" cy="10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1" name="Straight Connector 153"/>
          <p:cNvSpPr/>
          <p:nvPr/>
        </p:nvSpPr>
        <p:spPr>
          <a:xfrm>
            <a:off x="5732640" y="4319640"/>
            <a:ext cx="0" cy="12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Straight Connector 154"/>
          <p:cNvSpPr/>
          <p:nvPr/>
        </p:nvSpPr>
        <p:spPr>
          <a:xfrm>
            <a:off x="8140680" y="4308480"/>
            <a:ext cx="0" cy="12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3" name="Straight Connector 155"/>
          <p:cNvSpPr/>
          <p:nvPr/>
        </p:nvSpPr>
        <p:spPr>
          <a:xfrm>
            <a:off x="987480" y="5294160"/>
            <a:ext cx="712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4" name="Straight Connector 156"/>
          <p:cNvSpPr/>
          <p:nvPr/>
        </p:nvSpPr>
        <p:spPr>
          <a:xfrm>
            <a:off x="3405240" y="5307120"/>
            <a:ext cx="0" cy="12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5" name="Straight Connector 157"/>
          <p:cNvSpPr/>
          <p:nvPr/>
        </p:nvSpPr>
        <p:spPr>
          <a:xfrm>
            <a:off x="987480" y="5307120"/>
            <a:ext cx="0" cy="10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6" name="Straight Connector 158"/>
          <p:cNvSpPr/>
          <p:nvPr/>
        </p:nvSpPr>
        <p:spPr>
          <a:xfrm>
            <a:off x="5713560" y="5295960"/>
            <a:ext cx="0" cy="12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7" name="Straight Connector 159"/>
          <p:cNvSpPr/>
          <p:nvPr/>
        </p:nvSpPr>
        <p:spPr>
          <a:xfrm>
            <a:off x="8120160" y="5300640"/>
            <a:ext cx="0" cy="12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8" name="Straight Connector 22"/>
          <p:cNvSpPr/>
          <p:nvPr/>
        </p:nvSpPr>
        <p:spPr>
          <a:xfrm>
            <a:off x="2219400" y="2157480"/>
            <a:ext cx="0" cy="31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9" name="TextBox 52"/>
          <p:cNvSpPr/>
          <p:nvPr/>
        </p:nvSpPr>
        <p:spPr>
          <a:xfrm>
            <a:off x="54000" y="1276200"/>
            <a:ext cx="365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งบประมาณ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บาท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ปีงบประมาณ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560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0" name="Rectangle 2"/>
          <p:cNvSpPr/>
          <p:nvPr/>
        </p:nvSpPr>
        <p:spPr>
          <a:xfrm>
            <a:off x="108000" y="93600"/>
            <a:ext cx="903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1162080" indent="-1162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000" spc="-1" strike="noStrike">
                <a:solidFill>
                  <a:srgbClr val="002060"/>
                </a:solidFill>
                <a:latin typeface="Tahoma"/>
                <a:cs typeface="Tahoma"/>
              </a:rPr>
              <a:t>ส่วนที่ 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3 :</a:t>
            </a:r>
            <a:r>
              <a:rPr b="1" lang="th-TH" sz="20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2000" spc="-1" strike="noStrike">
                <a:solidFill>
                  <a:srgbClr val="002060"/>
                </a:solidFill>
                <a:latin typeface="Tahoma"/>
                <a:cs typeface="Tahoma"/>
              </a:rPr>
              <a:t>ภาคผนวก </a:t>
            </a:r>
            <a:br>
              <a:rPr sz="2000"/>
            </a:br>
            <a:r>
              <a:rPr b="1" lang="th-TH" sz="2000" spc="-1" strike="noStrike">
                <a:solidFill>
                  <a:srgbClr val="002060"/>
                </a:solidFill>
                <a:latin typeface="Tahoma"/>
                <a:cs typeface="Tahoma"/>
              </a:rPr>
              <a:t>แบบฟอร์ม 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3.3</a:t>
            </a:r>
            <a:r>
              <a:rPr b="1" lang="th-TH" sz="20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: </a:t>
            </a:r>
            <a:r>
              <a:rPr b="1" lang="th-TH" sz="2000" spc="-1" strike="noStrike">
                <a:solidFill>
                  <a:srgbClr val="002060"/>
                </a:solidFill>
                <a:latin typeface="Tahoma"/>
                <a:cs typeface="Tahoma"/>
              </a:rPr>
              <a:t>โครงสร้างและอัตรากำลั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1" name="ตัวแทนหมายเลขภาพนิ่ง 1"/>
          <p:cNvSpPr/>
          <p:nvPr/>
        </p:nvSpPr>
        <p:spPr>
          <a:xfrm>
            <a:off x="7128000" y="64818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E33C-05B9-4721-AD99-D940938A94AB}" type="slidenum">
              <a:rPr b="0" lang="th-TH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arallelogram 22"/>
          <p:cNvSpPr/>
          <p:nvPr/>
        </p:nvSpPr>
        <p:spPr>
          <a:xfrm flipV="1">
            <a:off x="4106880" y="733320"/>
            <a:ext cx="536400" cy="650880"/>
          </a:xfrm>
          <a:prstGeom prst="parallelogram">
            <a:avLst>
              <a:gd name="adj" fmla="val 81079"/>
            </a:avLst>
          </a:prstGeom>
          <a:solidFill>
            <a:srgbClr val="339933"/>
          </a:solidFill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7" name="Trapezoid 21"/>
          <p:cNvSpPr/>
          <p:nvPr/>
        </p:nvSpPr>
        <p:spPr>
          <a:xfrm>
            <a:off x="1143000" y="733320"/>
            <a:ext cx="3068640" cy="320760"/>
          </a:xfrm>
          <a:custGeom>
            <a:avLst/>
            <a:gdLst>
              <a:gd name="textAreaLeft" fmla="*/ 132480 w 3068640"/>
              <a:gd name="textAreaRight" fmla="*/ 2936160 w 3068640"/>
              <a:gd name="textAreaTop" fmla="*/ 13680 h 320760"/>
              <a:gd name="textAreaBottom" fmla="*/ 321120 h 320760"/>
            </a:gdLst>
            <a:ahLst/>
            <a:rect l="textAreaLeft" t="textAreaTop" r="textAreaRight" b="textAreaBottom"/>
            <a:pathLst>
              <a:path w="3068687" h="320316">
                <a:moveTo>
                  <a:pt x="0" y="320316"/>
                </a:moveTo>
                <a:lnTo>
                  <a:pt x="199016" y="0"/>
                </a:lnTo>
                <a:lnTo>
                  <a:pt x="2869671" y="0"/>
                </a:lnTo>
                <a:lnTo>
                  <a:pt x="3068687" y="320316"/>
                </a:lnTo>
                <a:close/>
              </a:path>
            </a:pathLst>
          </a:custGeom>
          <a:solidFill>
            <a:srgbClr val="339933"/>
          </a:solidFill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8" name="Trapezoid 4"/>
          <p:cNvSpPr/>
          <p:nvPr/>
        </p:nvSpPr>
        <p:spPr>
          <a:xfrm>
            <a:off x="1049400" y="1069920"/>
            <a:ext cx="6691320" cy="1081080"/>
          </a:xfrm>
          <a:custGeom>
            <a:avLst/>
            <a:gdLst>
              <a:gd name="textAreaLeft" fmla="*/ 447120 w 6691320"/>
              <a:gd name="textAreaRight" fmla="*/ 6244200 w 6691320"/>
              <a:gd name="textAreaTop" fmla="*/ 72000 h 1081080"/>
              <a:gd name="textAreaBottom" fmla="*/ 1081440 h 1081080"/>
            </a:gdLst>
            <a:ahLst/>
            <a:rect l="textAreaLeft" t="textAreaTop" r="textAreaRight" b="textAreaBottom"/>
            <a:pathLst>
              <a:path w="6691372" h="1080120">
                <a:moveTo>
                  <a:pt x="0" y="1080120"/>
                </a:moveTo>
                <a:lnTo>
                  <a:pt x="671089" y="0"/>
                </a:lnTo>
                <a:lnTo>
                  <a:pt x="6020283" y="0"/>
                </a:lnTo>
                <a:lnTo>
                  <a:pt x="6691372" y="108012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9" name="Rectangle 29"/>
          <p:cNvSpPr/>
          <p:nvPr/>
        </p:nvSpPr>
        <p:spPr>
          <a:xfrm>
            <a:off x="23760" y="84240"/>
            <a:ext cx="8508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809640" indent="-809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ส่วนที่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1 :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บทวิเคราะห์ภาพรวมของกระทรวง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br>
              <a:rPr sz="1400"/>
            </a:b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แบบฟอร์ม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1.2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การวิเคราะห์ปัจจัยสภาพแวดล้อมภายนอก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(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external environment)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ที่มีผลกระทบต่อการทำงานของกระทรวง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.......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0" name="Oval 1"/>
          <p:cNvSpPr/>
          <p:nvPr/>
        </p:nvSpPr>
        <p:spPr>
          <a:xfrm>
            <a:off x="379440" y="665280"/>
            <a:ext cx="1528560" cy="1528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1" name="Oval 2"/>
          <p:cNvSpPr/>
          <p:nvPr/>
        </p:nvSpPr>
        <p:spPr>
          <a:xfrm>
            <a:off x="436680" y="716040"/>
            <a:ext cx="1412640" cy="141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2" name="Parallelogram 5"/>
          <p:cNvSpPr/>
          <p:nvPr/>
        </p:nvSpPr>
        <p:spPr>
          <a:xfrm flipV="1">
            <a:off x="7227720" y="1053360"/>
            <a:ext cx="809640" cy="1082520"/>
          </a:xfrm>
          <a:prstGeom prst="parallelogram">
            <a:avLst>
              <a:gd name="adj" fmla="val 81079"/>
            </a:avLst>
          </a:prstGeom>
          <a:solidFill>
            <a:srgbClr val="339933"/>
          </a:solidFill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3" name="Parallelogram 23"/>
          <p:cNvSpPr/>
          <p:nvPr/>
        </p:nvSpPr>
        <p:spPr>
          <a:xfrm flipV="1">
            <a:off x="5051520" y="2246400"/>
            <a:ext cx="536400" cy="650880"/>
          </a:xfrm>
          <a:prstGeom prst="parallelogram">
            <a:avLst>
              <a:gd name="adj" fmla="val 81079"/>
            </a:avLst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4" name="Trapezoid 24"/>
          <p:cNvSpPr/>
          <p:nvPr/>
        </p:nvSpPr>
        <p:spPr>
          <a:xfrm>
            <a:off x="2085840" y="2246400"/>
            <a:ext cx="3070440" cy="320760"/>
          </a:xfrm>
          <a:custGeom>
            <a:avLst/>
            <a:gdLst>
              <a:gd name="textAreaLeft" fmla="*/ 132480 w 3070440"/>
              <a:gd name="textAreaRight" fmla="*/ 2937960 w 3070440"/>
              <a:gd name="textAreaTop" fmla="*/ 13680 h 320760"/>
              <a:gd name="textAreaBottom" fmla="*/ 321120 h 320760"/>
            </a:gdLst>
            <a:ahLst/>
            <a:rect l="textAreaLeft" t="textAreaTop" r="textAreaRight" b="textAreaBottom"/>
            <a:pathLst>
              <a:path w="3068687" h="320400">
                <a:moveTo>
                  <a:pt x="0" y="320400"/>
                </a:moveTo>
                <a:lnTo>
                  <a:pt x="199068" y="0"/>
                </a:lnTo>
                <a:lnTo>
                  <a:pt x="2869619" y="0"/>
                </a:lnTo>
                <a:lnTo>
                  <a:pt x="3068687" y="320400"/>
                </a:lnTo>
                <a:close/>
              </a:path>
            </a:pathLst>
          </a:cu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5" name="Trapezoid 25"/>
          <p:cNvSpPr/>
          <p:nvPr/>
        </p:nvSpPr>
        <p:spPr>
          <a:xfrm>
            <a:off x="1992240" y="2581200"/>
            <a:ext cx="6691320" cy="1079640"/>
          </a:xfrm>
          <a:custGeom>
            <a:avLst/>
            <a:gdLst>
              <a:gd name="textAreaLeft" fmla="*/ 447120 w 6691320"/>
              <a:gd name="textAreaRight" fmla="*/ 6244200 w 6691320"/>
              <a:gd name="textAreaTop" fmla="*/ 72000 h 1079640"/>
              <a:gd name="textAreaBottom" fmla="*/ 1080000 h 1079640"/>
            </a:gdLst>
            <a:ahLst/>
            <a:rect l="textAreaLeft" t="textAreaTop" r="textAreaRight" b="textAreaBottom"/>
            <a:pathLst>
              <a:path w="6691372" h="1080120">
                <a:moveTo>
                  <a:pt x="0" y="1080120"/>
                </a:moveTo>
                <a:lnTo>
                  <a:pt x="671089" y="0"/>
                </a:lnTo>
                <a:lnTo>
                  <a:pt x="6020283" y="0"/>
                </a:lnTo>
                <a:lnTo>
                  <a:pt x="6691372" y="108012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6" name="Parallelogram 35"/>
          <p:cNvSpPr/>
          <p:nvPr/>
        </p:nvSpPr>
        <p:spPr>
          <a:xfrm flipV="1">
            <a:off x="8163000" y="2582280"/>
            <a:ext cx="807840" cy="1082520"/>
          </a:xfrm>
          <a:prstGeom prst="parallelogram">
            <a:avLst>
              <a:gd name="adj" fmla="val 81079"/>
            </a:avLst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7" name="Rectangle 38"/>
          <p:cNvSpPr/>
          <p:nvPr/>
        </p:nvSpPr>
        <p:spPr>
          <a:xfrm>
            <a:off x="2946240" y="2521080"/>
            <a:ext cx="4572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8" name="Parallelogram 40"/>
          <p:cNvSpPr/>
          <p:nvPr/>
        </p:nvSpPr>
        <p:spPr>
          <a:xfrm flipV="1">
            <a:off x="4133880" y="3792600"/>
            <a:ext cx="536400" cy="650880"/>
          </a:xfrm>
          <a:prstGeom prst="parallelogram">
            <a:avLst>
              <a:gd name="adj" fmla="val 81079"/>
            </a:avLst>
          </a:prstGeom>
          <a:solidFill>
            <a:srgbClr val="ff66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9" name="Trapezoid 41"/>
          <p:cNvSpPr/>
          <p:nvPr/>
        </p:nvSpPr>
        <p:spPr>
          <a:xfrm>
            <a:off x="1170000" y="3792600"/>
            <a:ext cx="3068640" cy="320760"/>
          </a:xfrm>
          <a:custGeom>
            <a:avLst/>
            <a:gdLst>
              <a:gd name="textAreaLeft" fmla="*/ 132480 w 3068640"/>
              <a:gd name="textAreaRight" fmla="*/ 2936160 w 3068640"/>
              <a:gd name="textAreaTop" fmla="*/ 13680 h 320760"/>
              <a:gd name="textAreaBottom" fmla="*/ 321120 h 320760"/>
            </a:gdLst>
            <a:ahLst/>
            <a:rect l="textAreaLeft" t="textAreaTop" r="textAreaRight" b="textAreaBottom"/>
            <a:pathLst>
              <a:path w="3068687" h="320400">
                <a:moveTo>
                  <a:pt x="0" y="320400"/>
                </a:moveTo>
                <a:lnTo>
                  <a:pt x="199068" y="0"/>
                </a:lnTo>
                <a:lnTo>
                  <a:pt x="2869619" y="0"/>
                </a:lnTo>
                <a:lnTo>
                  <a:pt x="3068687" y="3204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0" name="Trapezoid 42"/>
          <p:cNvSpPr/>
          <p:nvPr/>
        </p:nvSpPr>
        <p:spPr>
          <a:xfrm>
            <a:off x="1106640" y="4130640"/>
            <a:ext cx="6691320" cy="1079640"/>
          </a:xfrm>
          <a:custGeom>
            <a:avLst/>
            <a:gdLst>
              <a:gd name="textAreaLeft" fmla="*/ 447120 w 6691320"/>
              <a:gd name="textAreaRight" fmla="*/ 6244200 w 6691320"/>
              <a:gd name="textAreaTop" fmla="*/ 72000 h 1079640"/>
              <a:gd name="textAreaBottom" fmla="*/ 1080000 h 1079640"/>
            </a:gdLst>
            <a:ahLst/>
            <a:rect l="textAreaLeft" t="textAreaTop" r="textAreaRight" b="textAreaBottom"/>
            <a:pathLst>
              <a:path w="6691372" h="1080120">
                <a:moveTo>
                  <a:pt x="0" y="1080120"/>
                </a:moveTo>
                <a:lnTo>
                  <a:pt x="671089" y="0"/>
                </a:lnTo>
                <a:lnTo>
                  <a:pt x="6020283" y="0"/>
                </a:lnTo>
                <a:lnTo>
                  <a:pt x="6691372" y="108012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1" name="Parallelogram 47"/>
          <p:cNvSpPr/>
          <p:nvPr/>
        </p:nvSpPr>
        <p:spPr>
          <a:xfrm flipV="1">
            <a:off x="7318440" y="4131720"/>
            <a:ext cx="807840" cy="1082520"/>
          </a:xfrm>
          <a:prstGeom prst="parallelogram">
            <a:avLst>
              <a:gd name="adj" fmla="val 81079"/>
            </a:avLst>
          </a:prstGeom>
          <a:solidFill>
            <a:srgbClr val="ff66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2" name="Rectangle 48"/>
          <p:cNvSpPr/>
          <p:nvPr/>
        </p:nvSpPr>
        <p:spPr>
          <a:xfrm>
            <a:off x="2035080" y="4060800"/>
            <a:ext cx="4572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3" name="Parallelogram 49"/>
          <p:cNvSpPr/>
          <p:nvPr/>
        </p:nvSpPr>
        <p:spPr>
          <a:xfrm flipV="1">
            <a:off x="5114880" y="5330880"/>
            <a:ext cx="536760" cy="652320"/>
          </a:xfrm>
          <a:prstGeom prst="parallelogram">
            <a:avLst>
              <a:gd name="adj" fmla="val 81079"/>
            </a:avLst>
          </a:prstGeom>
          <a:solidFill>
            <a:srgbClr val="ff33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4" name="Trapezoid 50"/>
          <p:cNvSpPr/>
          <p:nvPr/>
        </p:nvSpPr>
        <p:spPr>
          <a:xfrm>
            <a:off x="2151000" y="5330880"/>
            <a:ext cx="3068640" cy="320760"/>
          </a:xfrm>
          <a:custGeom>
            <a:avLst/>
            <a:gdLst>
              <a:gd name="textAreaLeft" fmla="*/ 132480 w 3068640"/>
              <a:gd name="textAreaRight" fmla="*/ 2936160 w 3068640"/>
              <a:gd name="textAreaTop" fmla="*/ 13680 h 320760"/>
              <a:gd name="textAreaBottom" fmla="*/ 321120 h 320760"/>
            </a:gdLst>
            <a:ahLst/>
            <a:rect l="textAreaLeft" t="textAreaTop" r="textAreaRight" b="textAreaBottom"/>
            <a:pathLst>
              <a:path w="3068687" h="320400">
                <a:moveTo>
                  <a:pt x="0" y="320400"/>
                </a:moveTo>
                <a:lnTo>
                  <a:pt x="199068" y="0"/>
                </a:lnTo>
                <a:lnTo>
                  <a:pt x="2869619" y="0"/>
                </a:lnTo>
                <a:lnTo>
                  <a:pt x="3068687" y="320400"/>
                </a:lnTo>
                <a:close/>
              </a:path>
            </a:pathLst>
          </a:custGeom>
          <a:solidFill>
            <a:srgbClr val="ff33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5" name="Trapezoid 51"/>
          <p:cNvSpPr/>
          <p:nvPr/>
        </p:nvSpPr>
        <p:spPr>
          <a:xfrm>
            <a:off x="2057400" y="5673600"/>
            <a:ext cx="6691320" cy="1079640"/>
          </a:xfrm>
          <a:custGeom>
            <a:avLst/>
            <a:gdLst>
              <a:gd name="textAreaLeft" fmla="*/ 447120 w 6691320"/>
              <a:gd name="textAreaRight" fmla="*/ 6244200 w 6691320"/>
              <a:gd name="textAreaTop" fmla="*/ 72000 h 1079640"/>
              <a:gd name="textAreaBottom" fmla="*/ 1080000 h 1079640"/>
            </a:gdLst>
            <a:ahLst/>
            <a:rect l="textAreaLeft" t="textAreaTop" r="textAreaRight" b="textAreaBottom"/>
            <a:pathLst>
              <a:path w="6691372" h="1080120">
                <a:moveTo>
                  <a:pt x="0" y="1080120"/>
                </a:moveTo>
                <a:lnTo>
                  <a:pt x="671089" y="0"/>
                </a:lnTo>
                <a:lnTo>
                  <a:pt x="6020283" y="0"/>
                </a:lnTo>
                <a:lnTo>
                  <a:pt x="6691372" y="108012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6" name="Oval 52"/>
          <p:cNvSpPr/>
          <p:nvPr/>
        </p:nvSpPr>
        <p:spPr>
          <a:xfrm>
            <a:off x="1258920" y="5262480"/>
            <a:ext cx="1530360" cy="1530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7" name="Oval 53"/>
          <p:cNvSpPr/>
          <p:nvPr/>
        </p:nvSpPr>
        <p:spPr>
          <a:xfrm>
            <a:off x="1319040" y="5303880"/>
            <a:ext cx="1411560" cy="1411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8" name="Parallelogram 54"/>
          <p:cNvSpPr/>
          <p:nvPr/>
        </p:nvSpPr>
        <p:spPr>
          <a:xfrm flipV="1">
            <a:off x="8299440" y="5670000"/>
            <a:ext cx="809640" cy="1082520"/>
          </a:xfrm>
          <a:prstGeom prst="parallelogram">
            <a:avLst>
              <a:gd name="adj" fmla="val 81079"/>
            </a:avLst>
          </a:prstGeom>
          <a:solidFill>
            <a:srgbClr val="ff33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9" name="Rectangle 56"/>
          <p:cNvSpPr/>
          <p:nvPr/>
        </p:nvSpPr>
        <p:spPr>
          <a:xfrm>
            <a:off x="2911320" y="5599080"/>
            <a:ext cx="4572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0" name="Rectangle 7"/>
          <p:cNvSpPr/>
          <p:nvPr/>
        </p:nvSpPr>
        <p:spPr>
          <a:xfrm>
            <a:off x="1824840" y="6937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LIT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1" name="Rectangle 8"/>
          <p:cNvSpPr/>
          <p:nvPr/>
        </p:nvSpPr>
        <p:spPr>
          <a:xfrm>
            <a:off x="2744280" y="2208240"/>
            <a:ext cx="159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ONOM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Oval 57"/>
          <p:cNvSpPr/>
          <p:nvPr/>
        </p:nvSpPr>
        <p:spPr>
          <a:xfrm>
            <a:off x="1274760" y="2197080"/>
            <a:ext cx="1528920" cy="15289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Oval 58"/>
          <p:cNvSpPr/>
          <p:nvPr/>
        </p:nvSpPr>
        <p:spPr>
          <a:xfrm>
            <a:off x="1330200" y="2239920"/>
            <a:ext cx="1413000" cy="141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4" name="Oval 59"/>
          <p:cNvSpPr/>
          <p:nvPr/>
        </p:nvSpPr>
        <p:spPr>
          <a:xfrm>
            <a:off x="384120" y="3745080"/>
            <a:ext cx="1528920" cy="1528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5" name="Oval 60"/>
          <p:cNvSpPr/>
          <p:nvPr/>
        </p:nvSpPr>
        <p:spPr>
          <a:xfrm>
            <a:off x="428760" y="3801960"/>
            <a:ext cx="1412640" cy="141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Rectangle 9"/>
          <p:cNvSpPr/>
          <p:nvPr/>
        </p:nvSpPr>
        <p:spPr>
          <a:xfrm>
            <a:off x="1847880" y="375588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Rectangle 10"/>
          <p:cNvSpPr/>
          <p:nvPr/>
        </p:nvSpPr>
        <p:spPr>
          <a:xfrm>
            <a:off x="2701080" y="5311800"/>
            <a:ext cx="19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8" name="Rectangle 61"/>
          <p:cNvSpPr/>
          <p:nvPr/>
        </p:nvSpPr>
        <p:spPr>
          <a:xfrm>
            <a:off x="1995480" y="977760"/>
            <a:ext cx="4572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ตัวแทนหมายเลขภาพนิ่ง 1"/>
          <p:cNvSpPr/>
          <p:nvPr/>
        </p:nvSpPr>
        <p:spPr>
          <a:xfrm>
            <a:off x="7128000" y="64818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1543-8F8A-42CE-90DD-E510C730EC00}" type="slidenum">
              <a:rPr b="0" lang="th-TH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0" name="Picture 12" descr=""/>
          <p:cNvPicPr/>
          <p:nvPr/>
        </p:nvPicPr>
        <p:blipFill>
          <a:blip r:embed="rId1"/>
          <a:stretch/>
        </p:blipFill>
        <p:spPr>
          <a:xfrm>
            <a:off x="1413000" y="2330280"/>
            <a:ext cx="1266840" cy="126684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3" descr=""/>
          <p:cNvPicPr/>
          <p:nvPr/>
        </p:nvPicPr>
        <p:blipFill>
          <a:blip r:embed="rId2"/>
          <a:stretch/>
        </p:blipFill>
        <p:spPr>
          <a:xfrm>
            <a:off x="509760" y="3881520"/>
            <a:ext cx="1266480" cy="1266840"/>
          </a:xfrm>
          <a:prstGeom prst="rect">
            <a:avLst/>
          </a:prstGeom>
          <a:ln w="0">
            <a:noFill/>
          </a:ln>
        </p:spPr>
      </p:pic>
      <p:pic>
        <p:nvPicPr>
          <p:cNvPr id="3332" name="Picture 63" descr=""/>
          <p:cNvPicPr/>
          <p:nvPr/>
        </p:nvPicPr>
        <p:blipFill>
          <a:blip r:embed="rId3"/>
          <a:stretch/>
        </p:blipFill>
        <p:spPr>
          <a:xfrm>
            <a:off x="1393920" y="5398920"/>
            <a:ext cx="1266840" cy="1266840"/>
          </a:xfrm>
          <a:prstGeom prst="rect">
            <a:avLst/>
          </a:prstGeom>
          <a:ln w="0">
            <a:noFill/>
          </a:ln>
        </p:spPr>
      </p:pic>
      <p:pic>
        <p:nvPicPr>
          <p:cNvPr id="3333" name="Picture 64" descr=""/>
          <p:cNvPicPr/>
          <p:nvPr/>
        </p:nvPicPr>
        <p:blipFill>
          <a:blip r:embed="rId4"/>
          <a:stretch/>
        </p:blipFill>
        <p:spPr>
          <a:xfrm>
            <a:off x="517680" y="809640"/>
            <a:ext cx="12668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กล่องข้อความ 5"/>
          <p:cNvSpPr/>
          <p:nvPr/>
        </p:nvSpPr>
        <p:spPr>
          <a:xfrm>
            <a:off x="311040" y="1154160"/>
            <a:ext cx="40989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ด้านโครงสร้าง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76400" indent="-1076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76400" indent="-1076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5" name="กล่องข้อความ 5"/>
          <p:cNvSpPr/>
          <p:nvPr/>
        </p:nvSpPr>
        <p:spPr>
          <a:xfrm>
            <a:off x="4979880" y="1558800"/>
            <a:ext cx="439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50000"/>
              </a:lnSpc>
              <a:buClr>
                <a:srgbClr val="0048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48aa"/>
                </a:solidFill>
                <a:latin typeface="Tahoma"/>
                <a:ea typeface="Tahoma"/>
              </a:rPr>
              <a:t>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48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48aa"/>
                </a:solidFill>
                <a:latin typeface="Tahoma"/>
                <a:ea typeface="Tahoma"/>
              </a:rPr>
              <a:t>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6" name="กล่องข้อความ 5"/>
          <p:cNvSpPr/>
          <p:nvPr/>
        </p:nvSpPr>
        <p:spPr>
          <a:xfrm>
            <a:off x="358920" y="4281480"/>
            <a:ext cx="4022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ด้านบุคลากร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76400" indent="-1076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76400" indent="-1076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7" name="กล่องข้อความ 5"/>
          <p:cNvSpPr/>
          <p:nvPr/>
        </p:nvSpPr>
        <p:spPr>
          <a:xfrm>
            <a:off x="324000" y="5297400"/>
            <a:ext cx="4114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ด้านเทคโนโลยี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76400" indent="-1076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76400" indent="-1076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8" name="ตัวแทนหมายเลขภาพนิ่ง 1"/>
          <p:cNvSpPr/>
          <p:nvPr/>
        </p:nvSpPr>
        <p:spPr>
          <a:xfrm>
            <a:off x="7128000" y="64818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D66C-D76B-4882-935F-52FEA1353B29}" type="slidenum">
              <a:rPr b="0" lang="th-TH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9" name="Right Arrow 18"/>
          <p:cNvSpPr/>
          <p:nvPr/>
        </p:nvSpPr>
        <p:spPr>
          <a:xfrm>
            <a:off x="4419720" y="1413000"/>
            <a:ext cx="2286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0" name="Right Arrow 19"/>
          <p:cNvSpPr/>
          <p:nvPr/>
        </p:nvSpPr>
        <p:spPr>
          <a:xfrm>
            <a:off x="4438800" y="3659040"/>
            <a:ext cx="2286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1" name="Right Arrow 20"/>
          <p:cNvSpPr/>
          <p:nvPr/>
        </p:nvSpPr>
        <p:spPr>
          <a:xfrm>
            <a:off x="4446720" y="4676760"/>
            <a:ext cx="2286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2" name="กล่องข้อความ 5"/>
          <p:cNvSpPr/>
          <p:nvPr/>
        </p:nvSpPr>
        <p:spPr>
          <a:xfrm>
            <a:off x="4976640" y="3684600"/>
            <a:ext cx="439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50000"/>
              </a:lnSpc>
              <a:buClr>
                <a:srgbClr val="0048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48aa"/>
                </a:solidFill>
                <a:latin typeface="Tahoma"/>
                <a:ea typeface="Tahoma"/>
              </a:rPr>
              <a:t>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48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48aa"/>
                </a:solidFill>
                <a:latin typeface="Tahoma"/>
                <a:ea typeface="Tahoma"/>
              </a:rPr>
              <a:t>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3" name="กล่องข้อความ 5"/>
          <p:cNvSpPr/>
          <p:nvPr/>
        </p:nvSpPr>
        <p:spPr>
          <a:xfrm>
            <a:off x="4976640" y="4654440"/>
            <a:ext cx="439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50000"/>
              </a:lnSpc>
              <a:buClr>
                <a:srgbClr val="0048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48aa"/>
                </a:solidFill>
                <a:latin typeface="Tahoma"/>
                <a:ea typeface="Tahoma"/>
              </a:rPr>
              <a:t>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48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48aa"/>
                </a:solidFill>
                <a:latin typeface="Tahoma"/>
                <a:ea typeface="Tahoma"/>
              </a:rPr>
              <a:t>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4" name="Rectangle 2"/>
          <p:cNvSpPr/>
          <p:nvPr/>
        </p:nvSpPr>
        <p:spPr>
          <a:xfrm>
            <a:off x="108000" y="87480"/>
            <a:ext cx="8567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809640" indent="-809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ส่วนที่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1 :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บทวิเคราะห์ภาพรวมของกระทรวง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  </a:t>
            </a:r>
            <a:br>
              <a:rPr sz="1400"/>
            </a:b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แบบฟอร์ม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1.3 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การวิเคราะห์ขีดความสามารถ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/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ความเข้มแข็งของกระทรวง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........................... (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organization capacity)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ในด้านต่าง ๆ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(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จุดแข็ง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5" name="TextBox 23"/>
          <p:cNvSpPr/>
          <p:nvPr/>
        </p:nvSpPr>
        <p:spPr>
          <a:xfrm>
            <a:off x="5508720" y="766800"/>
            <a:ext cx="2592360" cy="3373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cc"/>
                </a:solidFill>
                <a:latin typeface="Tahoma"/>
                <a:cs typeface="Tahoma"/>
              </a:rPr>
              <a:t>แนวทางการพัฒน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6" name="Right Arrow 20"/>
          <p:cNvSpPr/>
          <p:nvPr/>
        </p:nvSpPr>
        <p:spPr>
          <a:xfrm>
            <a:off x="4449600" y="5662440"/>
            <a:ext cx="2286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7" name="กล่องข้อความ 5"/>
          <p:cNvSpPr/>
          <p:nvPr/>
        </p:nvSpPr>
        <p:spPr>
          <a:xfrm>
            <a:off x="4930920" y="5600880"/>
            <a:ext cx="439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50000"/>
              </a:lnSpc>
              <a:buClr>
                <a:srgbClr val="0048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48aa"/>
                </a:solidFill>
                <a:latin typeface="Tahoma"/>
                <a:ea typeface="Tahoma"/>
              </a:rPr>
              <a:t>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48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48aa"/>
                </a:solidFill>
                <a:latin typeface="Tahoma"/>
                <a:ea typeface="Tahoma"/>
              </a:rPr>
              <a:t>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8" name="กล่องข้อความ 2"/>
          <p:cNvSpPr/>
          <p:nvPr/>
        </p:nvSpPr>
        <p:spPr>
          <a:xfrm>
            <a:off x="392040" y="782640"/>
            <a:ext cx="2508480" cy="3373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cc"/>
                </a:solidFill>
                <a:latin typeface="Tahoma"/>
                <a:cs typeface="Tahoma"/>
              </a:rPr>
              <a:t>จุดแข็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9" name="กล่องข้อความ 5"/>
          <p:cNvSpPr/>
          <p:nvPr/>
        </p:nvSpPr>
        <p:spPr>
          <a:xfrm>
            <a:off x="324000" y="2124000"/>
            <a:ext cx="3913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ด้านกระบวนงาน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บูรณาการทำงานร่วมกันภายในกระทรวง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0" name="Right Arrow 19"/>
          <p:cNvSpPr/>
          <p:nvPr/>
        </p:nvSpPr>
        <p:spPr>
          <a:xfrm>
            <a:off x="4489560" y="2708280"/>
            <a:ext cx="2286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1" name="กล่องข้อความ 5"/>
          <p:cNvSpPr/>
          <p:nvPr/>
        </p:nvSpPr>
        <p:spPr>
          <a:xfrm>
            <a:off x="5019840" y="2782800"/>
            <a:ext cx="439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50000"/>
              </a:lnSpc>
              <a:buClr>
                <a:srgbClr val="0048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48aa"/>
                </a:solidFill>
                <a:latin typeface="Tahoma"/>
                <a:ea typeface="Tahoma"/>
              </a:rPr>
              <a:t>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48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48aa"/>
                </a:solidFill>
                <a:latin typeface="Tahoma"/>
                <a:ea typeface="Tahoma"/>
              </a:rPr>
              <a:t>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2" name="กล่องข้อความ 5"/>
          <p:cNvSpPr/>
          <p:nvPr/>
        </p:nvSpPr>
        <p:spPr>
          <a:xfrm>
            <a:off x="339840" y="3282840"/>
            <a:ext cx="4024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ด้านกฎหมาย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76400" indent="-1076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76400" indent="-1076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3" name="กล่องข้อความ 3"/>
          <p:cNvSpPr/>
          <p:nvPr/>
        </p:nvSpPr>
        <p:spPr>
          <a:xfrm>
            <a:off x="358920" y="6359400"/>
            <a:ext cx="838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หมายเหตุ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ด็นการวิเคราะห์ในแต่ละด้านอาจจะเป็นจุดแข็งและ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หรือจุดอ่อนขององค์การก็ได้   ส่วนราชการไม่จำเป็นต้องระบุรายละเอียดครบทุกด้านในการวิเคราะห์จุดแข็งและจุดอ่อนขององค์การ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กล่องข้อความ 5"/>
          <p:cNvSpPr/>
          <p:nvPr/>
        </p:nvSpPr>
        <p:spPr>
          <a:xfrm>
            <a:off x="311040" y="1154160"/>
            <a:ext cx="40989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ด้านโครงสร้าง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76400" indent="-1076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76400" indent="-1076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5" name="กล่องข้อความ 5"/>
          <p:cNvSpPr/>
          <p:nvPr/>
        </p:nvSpPr>
        <p:spPr>
          <a:xfrm>
            <a:off x="4979880" y="1558800"/>
            <a:ext cx="439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50000"/>
              </a:lnSpc>
              <a:buClr>
                <a:srgbClr val="0048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48aa"/>
                </a:solidFill>
                <a:latin typeface="Tahoma"/>
                <a:ea typeface="Tahoma"/>
              </a:rPr>
              <a:t>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48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48aa"/>
                </a:solidFill>
                <a:latin typeface="Tahoma"/>
                <a:ea typeface="Tahoma"/>
              </a:rPr>
              <a:t>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6" name="กล่องข้อความ 5"/>
          <p:cNvSpPr/>
          <p:nvPr/>
        </p:nvSpPr>
        <p:spPr>
          <a:xfrm>
            <a:off x="358920" y="4281480"/>
            <a:ext cx="4022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ด้านบุคลากร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76400" indent="-1076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76400" indent="-1076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7" name="กล่องข้อความ 5"/>
          <p:cNvSpPr/>
          <p:nvPr/>
        </p:nvSpPr>
        <p:spPr>
          <a:xfrm>
            <a:off x="324000" y="5297400"/>
            <a:ext cx="4114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ด้านเทคโนโลยี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76400" indent="-1076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76400" indent="-1076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8" name="ตัวแทนหมายเลขภาพนิ่ง 1"/>
          <p:cNvSpPr/>
          <p:nvPr/>
        </p:nvSpPr>
        <p:spPr>
          <a:xfrm>
            <a:off x="7128000" y="64818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BD68-8845-4FDF-88AB-F4BD78699009}" type="slidenum">
              <a:rPr b="0" lang="th-TH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9" name="Right Arrow 18"/>
          <p:cNvSpPr/>
          <p:nvPr/>
        </p:nvSpPr>
        <p:spPr>
          <a:xfrm>
            <a:off x="4419720" y="1413000"/>
            <a:ext cx="2286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0" name="Right Arrow 19"/>
          <p:cNvSpPr/>
          <p:nvPr/>
        </p:nvSpPr>
        <p:spPr>
          <a:xfrm>
            <a:off x="4438800" y="3659040"/>
            <a:ext cx="2286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1" name="Right Arrow 20"/>
          <p:cNvSpPr/>
          <p:nvPr/>
        </p:nvSpPr>
        <p:spPr>
          <a:xfrm>
            <a:off x="4446720" y="4676760"/>
            <a:ext cx="2286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2" name="กล่องข้อความ 5"/>
          <p:cNvSpPr/>
          <p:nvPr/>
        </p:nvSpPr>
        <p:spPr>
          <a:xfrm>
            <a:off x="4976640" y="3684600"/>
            <a:ext cx="439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50000"/>
              </a:lnSpc>
              <a:buClr>
                <a:srgbClr val="0048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48aa"/>
                </a:solidFill>
                <a:latin typeface="Tahoma"/>
                <a:ea typeface="Tahoma"/>
              </a:rPr>
              <a:t>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48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48aa"/>
                </a:solidFill>
                <a:latin typeface="Tahoma"/>
                <a:ea typeface="Tahoma"/>
              </a:rPr>
              <a:t>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3" name="กล่องข้อความ 5"/>
          <p:cNvSpPr/>
          <p:nvPr/>
        </p:nvSpPr>
        <p:spPr>
          <a:xfrm>
            <a:off x="4976640" y="4654440"/>
            <a:ext cx="439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50000"/>
              </a:lnSpc>
              <a:buClr>
                <a:srgbClr val="0048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48aa"/>
                </a:solidFill>
                <a:latin typeface="Tahoma"/>
                <a:ea typeface="Tahoma"/>
              </a:rPr>
              <a:t>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48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48aa"/>
                </a:solidFill>
                <a:latin typeface="Tahoma"/>
                <a:ea typeface="Tahoma"/>
              </a:rPr>
              <a:t>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Rectangle 2"/>
          <p:cNvSpPr/>
          <p:nvPr/>
        </p:nvSpPr>
        <p:spPr>
          <a:xfrm>
            <a:off x="108000" y="87480"/>
            <a:ext cx="8567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809640" indent="-809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ส่วนที่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1 :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บทวิเคราะห์ภาพรวมของกระทรวง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  </a:t>
            </a:r>
            <a:br>
              <a:rPr sz="1400"/>
            </a:b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แบบฟอร์ม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1.3 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การวิเคราะห์ขีดความสามารถ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/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ความเข้มแข็งของกระทรวง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........................... (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organization capacity)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ในด้านต่าง ๆ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(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จุดอ่อน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5" name="TextBox 23"/>
          <p:cNvSpPr/>
          <p:nvPr/>
        </p:nvSpPr>
        <p:spPr>
          <a:xfrm>
            <a:off x="5508720" y="766800"/>
            <a:ext cx="2592360" cy="3373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cc"/>
                </a:solidFill>
                <a:latin typeface="Tahoma"/>
                <a:cs typeface="Tahoma"/>
              </a:rPr>
              <a:t>แนวทางการพัฒน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6" name="Right Arrow 20"/>
          <p:cNvSpPr/>
          <p:nvPr/>
        </p:nvSpPr>
        <p:spPr>
          <a:xfrm>
            <a:off x="4449600" y="5662440"/>
            <a:ext cx="2286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กล่องข้อความ 5"/>
          <p:cNvSpPr/>
          <p:nvPr/>
        </p:nvSpPr>
        <p:spPr>
          <a:xfrm>
            <a:off x="4930920" y="5600880"/>
            <a:ext cx="439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50000"/>
              </a:lnSpc>
              <a:buClr>
                <a:srgbClr val="0048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48aa"/>
                </a:solidFill>
                <a:latin typeface="Tahoma"/>
                <a:ea typeface="Tahoma"/>
              </a:rPr>
              <a:t>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48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48aa"/>
                </a:solidFill>
                <a:latin typeface="Tahoma"/>
                <a:ea typeface="Tahoma"/>
              </a:rPr>
              <a:t>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กล่องข้อความ 2"/>
          <p:cNvSpPr/>
          <p:nvPr/>
        </p:nvSpPr>
        <p:spPr>
          <a:xfrm>
            <a:off x="392040" y="782640"/>
            <a:ext cx="2508480" cy="3373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cc"/>
                </a:solidFill>
                <a:latin typeface="Tahoma"/>
                <a:cs typeface="Tahoma"/>
              </a:rPr>
              <a:t>จุดอ่อ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9" name="กล่องข้อความ 5"/>
          <p:cNvSpPr/>
          <p:nvPr/>
        </p:nvSpPr>
        <p:spPr>
          <a:xfrm>
            <a:off x="324000" y="2124000"/>
            <a:ext cx="3913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ด้านกระบวนงาน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บูรณาการทำงานร่วมกันภายในกระทรวง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Right Arrow 19"/>
          <p:cNvSpPr/>
          <p:nvPr/>
        </p:nvSpPr>
        <p:spPr>
          <a:xfrm>
            <a:off x="4489560" y="2708280"/>
            <a:ext cx="2286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1" name="กล่องข้อความ 5"/>
          <p:cNvSpPr/>
          <p:nvPr/>
        </p:nvSpPr>
        <p:spPr>
          <a:xfrm>
            <a:off x="5019840" y="2782800"/>
            <a:ext cx="439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50000"/>
              </a:lnSpc>
              <a:buClr>
                <a:srgbClr val="0048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48aa"/>
                </a:solidFill>
                <a:latin typeface="Tahoma"/>
                <a:ea typeface="Tahoma"/>
              </a:rPr>
              <a:t>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48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48aa"/>
                </a:solidFill>
                <a:latin typeface="Tahoma"/>
                <a:ea typeface="Tahoma"/>
              </a:rPr>
              <a:t>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2" name="กล่องข้อความ 5"/>
          <p:cNvSpPr/>
          <p:nvPr/>
        </p:nvSpPr>
        <p:spPr>
          <a:xfrm>
            <a:off x="339840" y="3282840"/>
            <a:ext cx="4024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ด้านกฎหมาย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76400" indent="-1076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76400" indent="-1076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3" name="กล่องข้อความ 24"/>
          <p:cNvSpPr/>
          <p:nvPr/>
        </p:nvSpPr>
        <p:spPr>
          <a:xfrm>
            <a:off x="358920" y="6359400"/>
            <a:ext cx="838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หมายเหตุ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ด็นการวิเคราะห์ในแต่ละด้านอาจจะเป็นจุดแข็งและ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หรือจุดอ่อนขององค์การก็ได้   ส่วนราชการไม่จำเป็นต้องระบุรายละเอียดครบทุกด้านในการวิเคราะห์จุดแข็งและจุดอ่อนขององค์การ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ชื่อเรื่อง 1"/>
          <p:cNvSpPr/>
          <p:nvPr/>
        </p:nvSpPr>
        <p:spPr>
          <a:xfrm>
            <a:off x="-36360" y="12600"/>
            <a:ext cx="864072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9640" indent="-80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ส่วนที่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1 :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บทวิเคราะห์ภาพรวมของกระทรวง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: 1.4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การวิเคราะห์บทบาทหน้าที่และภารกิจของกระทรวงในอนาคต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br>
              <a:rPr sz="1400"/>
            </a:b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แบบฟอร์ม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1.4.1  Value Proposition Statement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ของกระทรวง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5" name="กล่องข้อความ 5"/>
          <p:cNvSpPr/>
          <p:nvPr/>
        </p:nvSpPr>
        <p:spPr>
          <a:xfrm>
            <a:off x="468360" y="879480"/>
            <a:ext cx="8366040" cy="5213160"/>
          </a:xfrm>
          <a:prstGeom prst="rect">
            <a:avLst/>
          </a:prstGeom>
          <a:noFill/>
          <a:ln w="93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6" name="กล่องข้อความ 6"/>
          <p:cNvSpPr/>
          <p:nvPr/>
        </p:nvSpPr>
        <p:spPr>
          <a:xfrm>
            <a:off x="684360" y="1035000"/>
            <a:ext cx="792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ให้ส่วนราชการกำหนด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Value Proposition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ของกระทรวง  โดยระบุรายละเอียดให้ชัดเจนถึงสิ่งที่กระทรวงจะนำเสนอคุณค่าขององค์การต่อประชาชนและประเทศชาติ เพื่อให้บรรลุวัตถุประสงค์ของการจัดตั้งองค์การ และสอดรับกับการขับเคลื่อนประเทศในอนาค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7" name="ตัวแทนหมายเลขภาพนิ่ง 1"/>
          <p:cNvSpPr/>
          <p:nvPr/>
        </p:nvSpPr>
        <p:spPr>
          <a:xfrm>
            <a:off x="7128000" y="64818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6309-F047-4B2B-A801-01B0E3E337C6}" type="slidenum">
              <a:rPr b="0" lang="th-TH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Rectangle 37"/>
          <p:cNvSpPr/>
          <p:nvPr/>
        </p:nvSpPr>
        <p:spPr>
          <a:xfrm>
            <a:off x="0" y="92160"/>
            <a:ext cx="9067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809640" indent="-809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96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ส่วนที่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1 :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บทวิเคราะห์ภาพรวมของกระทรวง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: 1.4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การวิเคราะห์บทบาทหน้าที่และภารกิจของกระทรวงในอนาคต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br>
              <a:rPr sz="1800"/>
            </a:br>
            <a:r>
              <a:rPr b="1" lang="th-TH" sz="1800" spc="-1" strike="noStrike">
                <a:solidFill>
                  <a:srgbClr val="002060"/>
                </a:solidFill>
                <a:latin typeface="Tahoma"/>
                <a:cs typeface="Tahoma"/>
              </a:rPr>
              <a:t>แบบฟอร์ม </a:t>
            </a:r>
            <a:r>
              <a:rPr b="1" lang="en-US" sz="1800" spc="-1" strike="noStrike">
                <a:solidFill>
                  <a:srgbClr val="002060"/>
                </a:solidFill>
                <a:latin typeface="Tahoma"/>
                <a:ea typeface="Tahoma"/>
              </a:rPr>
              <a:t>1.4.2 Portfolio Analysis :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cs typeface="Tahoma"/>
              </a:rPr>
              <a:t>กระทรวง</a:t>
            </a:r>
            <a:r>
              <a:rPr b="1" lang="th-TH" sz="1800" spc="-1" strike="noStrike">
                <a:solidFill>
                  <a:srgbClr val="002060"/>
                </a:solidFill>
                <a:latin typeface="Tahoma"/>
                <a:ea typeface="Tahoma"/>
              </a:rPr>
              <a:t>..............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79" name=""/>
          <p:cNvGraphicFramePr/>
          <p:nvPr/>
        </p:nvGraphicFramePr>
        <p:xfrm>
          <a:off x="1692360" y="1690560"/>
          <a:ext cx="6583320" cy="3849840"/>
        </p:xfrm>
        <a:graphic>
          <a:graphicData uri="http://schemas.openxmlformats.org/drawingml/2006/table">
            <a:tbl>
              <a:tblPr/>
              <a:tblGrid>
                <a:gridCol w="2193840"/>
                <a:gridCol w="2193840"/>
                <a:gridCol w="2195640"/>
              </a:tblGrid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0" name="TextBox 6"/>
          <p:cNvSpPr/>
          <p:nvPr/>
        </p:nvSpPr>
        <p:spPr>
          <a:xfrm>
            <a:off x="1995480" y="12081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แข็งแร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1" name="TextBox 7"/>
          <p:cNvSpPr/>
          <p:nvPr/>
        </p:nvSpPr>
        <p:spPr>
          <a:xfrm>
            <a:off x="4433760" y="12034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ปานกลา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2" name="TextBox 8"/>
          <p:cNvSpPr/>
          <p:nvPr/>
        </p:nvSpPr>
        <p:spPr>
          <a:xfrm>
            <a:off x="6643800" y="12034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อ่อนแ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3" name="TextBox 9"/>
          <p:cNvSpPr/>
          <p:nvPr/>
        </p:nvSpPr>
        <p:spPr>
          <a:xfrm>
            <a:off x="484200" y="2151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สู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4" name="TextBox 10"/>
          <p:cNvSpPr/>
          <p:nvPr/>
        </p:nvSpPr>
        <p:spPr>
          <a:xfrm>
            <a:off x="458640" y="3333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ลา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5" name="TextBox 11"/>
          <p:cNvSpPr/>
          <p:nvPr/>
        </p:nvSpPr>
        <p:spPr>
          <a:xfrm>
            <a:off x="1209600" y="838080"/>
            <a:ext cx="70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cc"/>
                </a:solidFill>
                <a:latin typeface="Tahoma"/>
                <a:cs typeface="Tahoma"/>
              </a:rPr>
              <a:t>ระดับความเข้มแข็งและขีดความสามารถขององค์การ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6" name="TextBox 12"/>
          <p:cNvSpPr/>
          <p:nvPr/>
        </p:nvSpPr>
        <p:spPr>
          <a:xfrm rot="16200000">
            <a:off x="-1915200" y="3263040"/>
            <a:ext cx="479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cc"/>
                </a:solidFill>
                <a:latin typeface="Tahoma"/>
                <a:cs typeface="Tahoma"/>
              </a:rPr>
              <a:t>ระดับความสำคัญทางยุทธศาสตร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cc"/>
                </a:solidFill>
                <a:latin typeface="Tahoma"/>
                <a:cs typeface="Tahoma"/>
              </a:rPr>
              <a:t>ต่อการขับเคลื่อนยุทธศาสตร์ประเท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7" name="TextBox 13"/>
          <p:cNvSpPr/>
          <p:nvPr/>
        </p:nvSpPr>
        <p:spPr>
          <a:xfrm>
            <a:off x="457200" y="4611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ต่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8" name="TextBox 16"/>
          <p:cNvSpPr/>
          <p:nvPr/>
        </p:nvSpPr>
        <p:spPr>
          <a:xfrm>
            <a:off x="185760" y="5616720"/>
            <a:ext cx="8489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6760" indent="-89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หมายเหตุ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 1.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แกนตั้ง “ระดับความสำคัญทางยุทธศาสตร์ต่อการขับเคลื่อนยุทธศาสตร์ประเทศ” หมายถึง ภารกิจนั้น ๆ แนวโน้มในอนาคตยังคงมีความสำคัญต่อการขับเคลื่อนพัฒนาประเทศอยู่หรือไม่  หรือความสำคัญจะลดลง โดยมีเทคโนโลยีหรือภารกิจแบบใหม่เข้ามาทดแทน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896760" indent="-89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2.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แกนนอน “ระดับความเข้มแข็งและขีดความสามารถขององค์การ” หมายถึง ความพร้อมหรือขีดความสามารถ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(capacity)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ขององค์การในการดำเนินภารกิจนั้น ๆ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สามารถใช้ผลการวิเคราะห์หัวข้อ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1.3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ประกอบการพิจารณา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896760" indent="-89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3.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ิเคราะห์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Portfolio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ของกระทรวง เกิดจากการวิเคราะห์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Portfolio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ของแต่ละกรมรวมกัน </a:t>
            </a:r>
            <a:br>
              <a:rPr sz="1100"/>
            </a:b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4.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ขนาดของ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bubble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ในแต่ละช่อง แสดงถึงจำนวนอัตรากำลังรวมของแต่ละภารกิจของแต่ละกรมที่ตกอยู่ในช่องเดียวกัน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89" name="ลูกศรเชื่อมต่อแบบตรง 3"/>
          <p:cNvCxnSpPr/>
          <p:nvPr/>
        </p:nvCxnSpPr>
        <p:spPr>
          <a:xfrm flipV="1">
            <a:off x="1476000" y="1594800"/>
            <a:ext cx="1080" cy="38883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390" name="ลูกศรเชื่อมต่อแบบตรง 17"/>
          <p:cNvCxnSpPr/>
          <p:nvPr/>
        </p:nvCxnSpPr>
        <p:spPr>
          <a:xfrm flipH="1">
            <a:off x="1566360" y="1557000"/>
            <a:ext cx="6709680" cy="1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391" name="ตัวแทนหมายเลขภาพนิ่ง 1"/>
          <p:cNvSpPr/>
          <p:nvPr/>
        </p:nvSpPr>
        <p:spPr>
          <a:xfrm>
            <a:off x="7128000" y="64818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2016-7728-4E2E-9EAB-77D16F8F7D49}" type="slidenum">
              <a:rPr b="0" lang="th-TH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Rectangle 37"/>
          <p:cNvSpPr/>
          <p:nvPr/>
        </p:nvSpPr>
        <p:spPr>
          <a:xfrm>
            <a:off x="34920" y="92160"/>
            <a:ext cx="9032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990720" indent="-990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ส่วนที่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1 :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บทวิเคราะห์ภาพรวมของกระทรวง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: 1.4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การวิเคราะห์บทบาทหน้าที่และภารกิจของกระทรวงในอนาคต</a:t>
            </a:r>
            <a:br>
              <a:rPr sz="1400"/>
            </a:b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แบบฟอร์ม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1.4.2 Portfolio Analysis :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กรม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.................. (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ทุกกรมในสังกัดกระทรวง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93" name=""/>
          <p:cNvGraphicFramePr/>
          <p:nvPr/>
        </p:nvGraphicFramePr>
        <p:xfrm>
          <a:off x="1333440" y="1690560"/>
          <a:ext cx="7277040" cy="3484800"/>
        </p:xfrm>
        <a:graphic>
          <a:graphicData uri="http://schemas.openxmlformats.org/drawingml/2006/table">
            <a:tbl>
              <a:tblPr/>
              <a:tblGrid>
                <a:gridCol w="2425680"/>
                <a:gridCol w="2425680"/>
                <a:gridCol w="2425680"/>
              </a:tblGrid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4" name="TextBox 6"/>
          <p:cNvSpPr/>
          <p:nvPr/>
        </p:nvSpPr>
        <p:spPr>
          <a:xfrm>
            <a:off x="1995480" y="12081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แข็งแร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5" name="TextBox 7"/>
          <p:cNvSpPr/>
          <p:nvPr/>
        </p:nvSpPr>
        <p:spPr>
          <a:xfrm>
            <a:off x="4433760" y="12034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ปานกลา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6" name="TextBox 8"/>
          <p:cNvSpPr/>
          <p:nvPr/>
        </p:nvSpPr>
        <p:spPr>
          <a:xfrm>
            <a:off x="6643800" y="12034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อ่อนแ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7" name="TextBox 9"/>
          <p:cNvSpPr/>
          <p:nvPr/>
        </p:nvSpPr>
        <p:spPr>
          <a:xfrm>
            <a:off x="423720" y="22240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สู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8" name="TextBox 10"/>
          <p:cNvSpPr/>
          <p:nvPr/>
        </p:nvSpPr>
        <p:spPr>
          <a:xfrm>
            <a:off x="423720" y="3724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ลา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9" name="TextBox 11"/>
          <p:cNvSpPr/>
          <p:nvPr/>
        </p:nvSpPr>
        <p:spPr>
          <a:xfrm>
            <a:off x="1209600" y="838080"/>
            <a:ext cx="70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cc"/>
                </a:solidFill>
                <a:latin typeface="Tahoma"/>
                <a:cs typeface="Tahoma"/>
              </a:rPr>
              <a:t>ระดับความเข้มแข็งและขีดความสามารถขององค์การ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0" name="TextBox 12"/>
          <p:cNvSpPr/>
          <p:nvPr/>
        </p:nvSpPr>
        <p:spPr>
          <a:xfrm rot="16200000">
            <a:off x="-1915920" y="3376440"/>
            <a:ext cx="479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cc"/>
                </a:solidFill>
                <a:latin typeface="Tahoma"/>
                <a:cs typeface="Tahoma"/>
              </a:rPr>
              <a:t>ระดับความสำคัญทางยุทธศาสตร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cc"/>
                </a:solidFill>
                <a:latin typeface="Tahoma"/>
                <a:cs typeface="Tahoma"/>
              </a:rPr>
              <a:t>ต่อการขับเคลื่อนยุทธศาสตร์ประเท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1" name="TextBox 13"/>
          <p:cNvSpPr/>
          <p:nvPr/>
        </p:nvSpPr>
        <p:spPr>
          <a:xfrm>
            <a:off x="423720" y="49417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ต่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2" name="TextBox 16"/>
          <p:cNvSpPr/>
          <p:nvPr/>
        </p:nvSpPr>
        <p:spPr>
          <a:xfrm>
            <a:off x="192240" y="5516640"/>
            <a:ext cx="85676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6760" indent="-89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หมายเหตุ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 1.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แกนตั้ง “ระดับความสำคัญทางยุทธศาสตร์ต่อการขับเคลื่อนยุทธศาสตร์ประเทศ” หมายถึง ภารกิจนั้น ๆ แนวโน้มในอนาคตยังคงมีความสำคัญต่อการขับเคลื่อนพัฒนาประเทศอยู่หรือไม่  หรือความสำคัญจะลดลง โดยมีเทคโนโลยีหรือภารกิจแบบใหม่เข้ามาทดแทน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896760" indent="-89676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แกนนอน “ระดับความเข้มแข็งและขีดความสามารถขององค์การ” หมายถึง ความพร้อมหรือขีดความสามารถ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(capacity)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ขององค์การในการดำเนินภารกิจนั้น ๆ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สามารถใช้ผลการวิเคราะห์หัวข้อ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1.3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ประกอบการพิจารณา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896760" indent="-89676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ในการวิเคราะห์ให้พิจารณาจากภารกิจหลักไม่เกิน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ภารกิจหลัก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ผลจากข้อมูลหัวข้อ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2.1.1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และ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2.2.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896760" indent="-89676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ขนาดของ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bubble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แสดงถึงจำนวนอัตรากำลังของภารกิจ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งานนั้น 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896760" indent="-89676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ให้สรุปแบบฟอร์ม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1.4.2 </a:t>
            </a:r>
            <a:r>
              <a:rPr b="1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ในระดับกรม เป็นแบบฟอร์ม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1.4.2 </a:t>
            </a:r>
            <a:r>
              <a:rPr b="1" lang="th-TH" sz="1100" spc="-1" strike="noStrike">
                <a:solidFill>
                  <a:srgbClr val="000000"/>
                </a:solidFill>
                <a:latin typeface="Tahoma"/>
                <a:cs typeface="Tahoma"/>
              </a:rPr>
              <a:t>ในระดับกระทรว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03" name="ลูกศรเชื่อมต่อแบบตรง 3"/>
          <p:cNvCxnSpPr/>
          <p:nvPr/>
        </p:nvCxnSpPr>
        <p:spPr>
          <a:xfrm flipV="1">
            <a:off x="1209240" y="1640880"/>
            <a:ext cx="1080" cy="35168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04" name="ลูกศรเชื่อมต่อแบบตรง 17"/>
          <p:cNvCxnSpPr/>
          <p:nvPr/>
        </p:nvCxnSpPr>
        <p:spPr>
          <a:xfrm flipH="1">
            <a:off x="1331640" y="1557000"/>
            <a:ext cx="7201440" cy="1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405" name="ตัวแทนหมายเลขภาพนิ่ง 1"/>
          <p:cNvSpPr/>
          <p:nvPr/>
        </p:nvSpPr>
        <p:spPr>
          <a:xfrm>
            <a:off x="7128000" y="64818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7954-B619-426A-80F4-BB08FC4F98AF}" type="slidenum">
              <a:rPr b="0" lang="th-TH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ตัวแทนหมายเลขภาพนิ่ง 1"/>
          <p:cNvSpPr/>
          <p:nvPr/>
        </p:nvSpPr>
        <p:spPr>
          <a:xfrm>
            <a:off x="7128000" y="64818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EB80-8C77-44C0-9BEF-7FFFCECEA09A}" type="slidenum">
              <a:rPr b="0" lang="th-TH" sz="10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7" name="Rectangle 37"/>
          <p:cNvSpPr/>
          <p:nvPr/>
        </p:nvSpPr>
        <p:spPr>
          <a:xfrm>
            <a:off x="0" y="93600"/>
            <a:ext cx="9928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990720" indent="-990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ส่วนที่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1 :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บทวิเคราะห์ภาพรวมของกระทรวง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: 1.4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การวิเคราะห์บทบาทหน้าที่และภารกิจของกระทรวงในอนาคต</a:t>
            </a:r>
            <a:br>
              <a:rPr sz="1400"/>
            </a:b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แบบฟอร์ม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1.4.3 Business Model :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cs typeface="Tahoma"/>
              </a:rPr>
              <a:t>กระทรวง</a:t>
            </a:r>
            <a:r>
              <a:rPr b="1" lang="th-TH" sz="1400" spc="-1" strike="noStrike">
                <a:solidFill>
                  <a:srgbClr val="002060"/>
                </a:solidFill>
                <a:latin typeface="Tahoma"/>
                <a:ea typeface="Tahoma"/>
              </a:rPr>
              <a:t>.........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Rounded Rectangle 57"/>
          <p:cNvSpPr/>
          <p:nvPr/>
        </p:nvSpPr>
        <p:spPr>
          <a:xfrm>
            <a:off x="179280" y="2421000"/>
            <a:ext cx="8763120" cy="2376360"/>
          </a:xfrm>
          <a:prstGeom prst="roundRect">
            <a:avLst>
              <a:gd name="adj" fmla="val 5130"/>
            </a:avLst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Rectangle 55"/>
          <p:cNvSpPr/>
          <p:nvPr/>
        </p:nvSpPr>
        <p:spPr>
          <a:xfrm>
            <a:off x="324000" y="2421000"/>
            <a:ext cx="25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0000"/>
                </a:solidFill>
                <a:latin typeface="Tahoma"/>
                <a:cs typeface="Tahoma"/>
              </a:rPr>
              <a:t>งาน</a:t>
            </a:r>
            <a:r>
              <a:rPr b="1" lang="th-TH" sz="1600" spc="-1" strike="noStrike">
                <a:solidFill>
                  <a:srgbClr val="ff0000"/>
                </a:solidFill>
                <a:latin typeface="Tahoma"/>
                <a:ea typeface="Tahoma"/>
              </a:rPr>
              <a:t>..........................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Tahoma"/>
              </a:rPr>
              <a:t> :</a:t>
            </a:r>
            <a:r>
              <a:rPr b="1" lang="th-TH" sz="16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0" name="กล่องข้อความ 1"/>
          <p:cNvSpPr/>
          <p:nvPr/>
        </p:nvSpPr>
        <p:spPr>
          <a:xfrm>
            <a:off x="237960" y="911160"/>
            <a:ext cx="8655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ให้ส่วนราชการเสนอ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iness Model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หรือรูปแบบวิธีการทำงานแบบใหม่ ในแต่ละงานที่สำคัญและครอบคลุมทุกกรม ที่เป็นผลจากการวิเคราะห์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Portfolio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ในหัวข้อ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1.4.2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และผลการวิเคราะห์การปรับบทบาทภารกิจของกรมในหัวข้อ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2.2.1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ให้กระทรวงสามารถบรรลุ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Value Proposition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ที่กำหนดไว้ได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07:52:01Z</dcterms:created>
  <dc:creator>OPDC</dc:creator>
  <dc:description/>
  <dc:language>en-US</dc:language>
  <cp:lastModifiedBy>kpr</cp:lastModifiedBy>
  <cp:lastPrinted>2017-10-16T09:49:29Z</cp:lastPrinted>
  <dcterms:modified xsi:type="dcterms:W3CDTF">2017-11-13T06:44:16Z</dcterms:modified>
  <cp:revision>53</cp:revision>
  <dc:subject/>
  <dc:title>งานนำเสนอ PowerPoint</dc:title>
</cp:coreProperties>
</file>