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7625-6D61-4CE7-B4BE-B3B2385E5CF8}" type="slidenum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57A-7DA4-424B-AF1F-79D83AC35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D6B-3C3C-4FE9-86B7-123E6D30A13F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313-FD4A-4FF8-99FF-79F97B1B46B1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84B-FCB2-4AB8-B392-B96A33846C56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8481-9E25-4B07-BD41-45C2F6813A8F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7D5-5468-485B-8738-A62101439EBB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CA-385C-4082-832B-6A6406D6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C08-23FC-4D9C-8CD6-6A48DE0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AD5-1774-46E0-91AF-4D13C9F9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AC6-80C3-458E-A7BC-2EE0F1E0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943F-4A2C-4329-BB25-734CB317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2960-1BE7-4C9D-872A-0C8E34D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699-8611-48CA-AC9E-C3B5802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FB13-D87D-4301-81EB-EE2BEAC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FDB3-ED82-49AC-B179-F3C20665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BEF-ED65-41A0-B2D6-5FF2B64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51F-0F6B-4A14-AAED-7E62590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24B-49A4-49B5-AD73-A8D7FCB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FC1-2379-44DC-A732-E9401C8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42C3-E1DD-4AD7-891F-256B78C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0AC-A5C3-4A43-9A97-40AFC56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0E5C-8D87-4504-8E9E-9C93E4D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E14-544A-4D65-BDDE-37479BFA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CB1-8964-4673-AE2D-34B48D21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A912-A81F-4D5D-AFF1-5C11E6E1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5390-A194-4CAD-960D-126BF7CE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A322-613D-4CCB-8385-FB9414BC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C88-6782-4EF2-9A3A-33EBEC8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F7EA-767A-4A51-9EE6-E66BF76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34C1-9E50-43EC-ACC4-AB384091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0C31-B491-435C-8668-AA15728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BB93-E975-4555-ACC8-9DD6D70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EA57-4935-4B8F-A66C-746FCAA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E04A-3D95-48ED-BDEC-513D530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142A-F933-4DF5-839A-8D200A6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BB10-873B-4CF6-B9B2-7616F6E5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D2AD-4529-473F-90B9-A216AE3D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9BBA-824D-4F23-8E64-EAA2E24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136-96C7-4366-90A5-339EB04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90B1E-BD6A-4E15-8761-2273E38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AFA7-0013-4798-9721-566C592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7C0A-D00D-400A-BCD1-174B2142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AAED-89B7-4EF8-9DBE-60BE03C4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4DB4-E2B9-47A9-AF80-DC3E848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264C-D5F5-4E30-BB76-BAD8BE65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3B34-8827-43FF-8274-0C070EE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1B80-F679-44C1-BCDA-F28A6F5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568F-941B-45EF-B8C3-3F274E3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FB13-4B69-49F2-8BDA-6F54399A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5E8-BE33-4289-B8F1-1BD0298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E07F-ADA7-46F0-8635-20CF5B8A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0B9-D756-4645-84F4-D91EFB8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E19-6A38-4FD0-9519-8B5551D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F7A-73A2-4D30-BE78-872F7DA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1C3-70D2-4208-BB2D-52AEFBCCFAD5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B79A-EB2E-4AB3-B316-13EC991CBD7E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3" descr=""/>
          <p:cNvPicPr/>
          <p:nvPr/>
        </p:nvPicPr>
        <p:blipFill>
          <a:blip r:embed="rId2"/>
          <a:stretch/>
        </p:blipFill>
        <p:spPr>
          <a:xfrm>
            <a:off x="8454960" y="81000"/>
            <a:ext cx="606600" cy="50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DFEB-8054-4E1F-9524-5B0A4F20B3B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67AA-B433-46FD-9D97-4D2F5EE8B5CA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552760"/>
            <a:ext cx="9139320" cy="168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31"/>
          <p:cNvSpPr/>
          <p:nvPr/>
        </p:nvSpPr>
        <p:spPr>
          <a:xfrm>
            <a:off x="0" y="433548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1"/>
          <p:cNvSpPr/>
          <p:nvPr/>
        </p:nvSpPr>
        <p:spPr>
          <a:xfrm>
            <a:off x="0" y="246384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4089240" y="5911920"/>
            <a:ext cx="962280" cy="80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2"/>
          <a:stretch/>
        </p:blipFill>
        <p:spPr>
          <a:xfrm>
            <a:off x="8454960" y="81000"/>
            <a:ext cx="606600" cy="509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9413-7DDC-4FDF-92D9-9BF6EF0DB5BB}" type="datetime"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amp;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18D-D5A6-40EA-A413-BF324CAA598E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552760"/>
            <a:ext cx="9139320" cy="168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0" y="433548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0" y="246384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089240" y="5911920"/>
            <a:ext cx="962280" cy="809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519-DB62-4C65-A41C-B6A3F4C89DA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12F-8A60-40BD-BB66-6469764D6EDD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tle 1"/>
          <p:cNvSpPr/>
          <p:nvPr/>
        </p:nvSpPr>
        <p:spPr>
          <a:xfrm>
            <a:off x="0" y="2800440"/>
            <a:ext cx="90774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31680" y="2846520"/>
            <a:ext cx="90774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การวิเคราะห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rtfolio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ระทรวงคมนาค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7"/>
          <p:cNvSpPr/>
          <p:nvPr/>
        </p:nvSpPr>
        <p:spPr>
          <a:xfrm>
            <a:off x="179280" y="109440"/>
            <a:ext cx="888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การวิเคราะห์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คมนาคม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374760" y="907920"/>
            <a:ext cx="8497800" cy="30798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ดับกร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ัดเลือ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Core function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นำมาวิเคราะห์  ซึ่งเป็นภารกิจปัจจุบัน หรือเป็นภารกิจใหม่ที่ควรจะเกิดในอนาคตเพื่อรองรับกับปัจจัยสภาพแวดล้อมที่เปลี่ยนแปลงไป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.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ubbl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ือ อัตรากำลังที่รับผิดชอบในงานนี้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ม่นับรวมเจ้าหน้าที่ธุรการ ถึงแม้จะอยู่ในส่วนงานดังกล่าว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ำนวณสัดส่วนอัตรากำลัง พิจารณาดังนี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ข้าราชการ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พนักงานราชการ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ลูกจ้างประจำ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3"/>
          <p:cNvSpPr/>
          <p:nvPr/>
        </p:nvSpPr>
        <p:spPr>
          <a:xfrm>
            <a:off x="374760" y="4178160"/>
            <a:ext cx="8497800" cy="234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ดับกระทรว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นำภาพ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ubbl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ของแต่ละกรมมารวมกั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ถ้ามีงานที่ตกอยู่ในช่อ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ell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ดียวกัน ให้นำอัตราของบุคลากรมารวมกันเพื่อทำเป็นขนาดขอ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049800" y="2797200"/>
            <a:ext cx="1617840" cy="1212840"/>
          </a:xfrm>
          <a:prstGeom prst="rect">
            <a:avLst/>
          </a:prstGeom>
          <a:ln w="0">
            <a:noFill/>
          </a:ln>
        </p:spPr>
      </p:pic>
      <p:sp>
        <p:nvSpPr>
          <p:cNvPr id="233" name="Right Arrow 15"/>
          <p:cNvSpPr/>
          <p:nvPr/>
        </p:nvSpPr>
        <p:spPr>
          <a:xfrm>
            <a:off x="5292720" y="3149640"/>
            <a:ext cx="431640" cy="48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719440" y="5514840"/>
            <a:ext cx="1276200" cy="95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097160" y="5527800"/>
            <a:ext cx="1268640" cy="952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4"/>
          <a:stretch/>
        </p:blipFill>
        <p:spPr>
          <a:xfrm>
            <a:off x="5465880" y="55483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7543800" y="5548320"/>
            <a:ext cx="1204920" cy="903240"/>
          </a:xfrm>
          <a:prstGeom prst="rect">
            <a:avLst/>
          </a:prstGeom>
          <a:ln w="0">
            <a:noFill/>
          </a:ln>
        </p:spPr>
      </p:pic>
      <p:sp>
        <p:nvSpPr>
          <p:cNvPr id="238" name="Right Arrow 15"/>
          <p:cNvSpPr/>
          <p:nvPr/>
        </p:nvSpPr>
        <p:spPr>
          <a:xfrm>
            <a:off x="6948360" y="5749920"/>
            <a:ext cx="432000" cy="48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7"/>
          <p:cNvSpPr/>
          <p:nvPr/>
        </p:nvSpPr>
        <p:spPr>
          <a:xfrm>
            <a:off x="950760" y="109440"/>
            <a:ext cx="811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3.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    1.4.2 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คมนาคม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333440" y="1690560"/>
          <a:ext cx="7277040" cy="4792680"/>
        </p:xfrm>
        <a:graphic>
          <a:graphicData uri="http://schemas.openxmlformats.org/drawingml/2006/table">
            <a:tbl>
              <a:tblPr/>
              <a:tblGrid>
                <a:gridCol w="2425680"/>
                <a:gridCol w="2425680"/>
                <a:gridCol w="24256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Box 6"/>
          <p:cNvSpPr/>
          <p:nvPr/>
        </p:nvSpPr>
        <p:spPr>
          <a:xfrm>
            <a:off x="1995480" y="127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443376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664380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471600" y="22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471600" y="3724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2"/>
          <p:cNvSpPr/>
          <p:nvPr/>
        </p:nvSpPr>
        <p:spPr>
          <a:xfrm rot="16200000">
            <a:off x="-1915200" y="3717000"/>
            <a:ext cx="479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471600" y="534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ตัวแทนหมายเลขภาพนิ่ง 1"/>
          <p:cNvSpPr/>
          <p:nvPr/>
        </p:nvSpPr>
        <p:spPr>
          <a:xfrm>
            <a:off x="7064280" y="6523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8C3A-F618-47E3-8EAD-7926CD3FC22E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71280" y="657540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ถึงจำนวนอัตรากำลังของงานนั้น 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hart 49" descr=""/>
          <p:cNvPicPr/>
          <p:nvPr/>
        </p:nvPicPr>
        <p:blipFill>
          <a:blip r:embed="rId1"/>
          <a:stretch/>
        </p:blipFill>
        <p:spPr>
          <a:xfrm>
            <a:off x="633240" y="1527120"/>
            <a:ext cx="8026560" cy="53816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9"/>
          <p:cNvSpPr/>
          <p:nvPr/>
        </p:nvSpPr>
        <p:spPr>
          <a:xfrm>
            <a:off x="2556000" y="177336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บ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ตรวจสภาพรถ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87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 rot="19314000">
            <a:off x="-1440" y="270720"/>
            <a:ext cx="1033560" cy="29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Tahoma"/>
                <a:cs typeface="Tahoma"/>
              </a:rPr>
              <a:t>ตัวอย่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ลูกศรเชื่อมต่อแบบตรง 3"/>
          <p:cNvCxnSpPr/>
          <p:nvPr/>
        </p:nvCxnSpPr>
        <p:spPr>
          <a:xfrm flipV="1">
            <a:off x="1209240" y="2090520"/>
            <a:ext cx="1080" cy="3859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5" name="ลูกศรเชื่อมต่อแบบตรง 17"/>
          <p:cNvCxnSpPr/>
          <p:nvPr/>
        </p:nvCxnSpPr>
        <p:spPr>
          <a:xfrm flipH="1">
            <a:off x="1994760" y="1545840"/>
            <a:ext cx="57920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TextBox 21"/>
          <p:cNvSpPr/>
          <p:nvPr/>
        </p:nvSpPr>
        <p:spPr>
          <a:xfrm>
            <a:off x="5372280" y="3271680"/>
            <a:ext cx="395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บ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ทะเบียนและภาษีรถ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891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ทล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บริหารจัดเก็บค่าผ่านทาง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5364000" y="166536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ทย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บริหารจัดการท่าอากาศยาน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41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7"/>
          <p:cNvSpPr/>
          <p:nvPr/>
        </p:nvSpPr>
        <p:spPr>
          <a:xfrm>
            <a:off x="950760" y="109440"/>
            <a:ext cx="811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3.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    1.4.2 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มการขนส่งทางบ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3440" y="1690560"/>
          <a:ext cx="7277040" cy="4792680"/>
        </p:xfrm>
        <a:graphic>
          <a:graphicData uri="http://schemas.openxmlformats.org/drawingml/2006/table">
            <a:tbl>
              <a:tblPr/>
              <a:tblGrid>
                <a:gridCol w="2425680"/>
                <a:gridCol w="2425680"/>
                <a:gridCol w="24256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Box 6"/>
          <p:cNvSpPr/>
          <p:nvPr/>
        </p:nvSpPr>
        <p:spPr>
          <a:xfrm>
            <a:off x="1995480" y="127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443376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664380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71600" y="22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71600" y="3724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2"/>
          <p:cNvSpPr/>
          <p:nvPr/>
        </p:nvSpPr>
        <p:spPr>
          <a:xfrm rot="16200000">
            <a:off x="-1915200" y="3717000"/>
            <a:ext cx="479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471600" y="534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ตัวแทนหมายเลขภาพนิ่ง 1"/>
          <p:cNvSpPr/>
          <p:nvPr/>
        </p:nvSpPr>
        <p:spPr>
          <a:xfrm>
            <a:off x="7064280" y="6523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75A6-A87E-42E6-9060-377AFD4A7AE4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71280" y="657540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ถึงจำนวนอัตรากำลังของงานนั้น 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Chart 49" descr=""/>
          <p:cNvPicPr/>
          <p:nvPr/>
        </p:nvPicPr>
        <p:blipFill>
          <a:blip r:embed="rId1"/>
          <a:stretch/>
        </p:blipFill>
        <p:spPr>
          <a:xfrm>
            <a:off x="863640" y="1558800"/>
            <a:ext cx="8026200" cy="5381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9"/>
          <p:cNvSpPr/>
          <p:nvPr/>
        </p:nvSpPr>
        <p:spPr>
          <a:xfrm>
            <a:off x="2332080" y="1641600"/>
            <a:ext cx="16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ตรวจสภาพร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57"/>
          <p:cNvSpPr/>
          <p:nvPr/>
        </p:nvSpPr>
        <p:spPr>
          <a:xfrm>
            <a:off x="1995480" y="178128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87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 rot="19314000">
            <a:off x="-1440" y="270720"/>
            <a:ext cx="1033560" cy="29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Tahoma"/>
                <a:cs typeface="Tahoma"/>
              </a:rPr>
              <a:t>ตัวอย่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4" name="ลูกศรเชื่อมต่อแบบตรง 3"/>
          <p:cNvCxnSpPr/>
          <p:nvPr/>
        </p:nvCxnSpPr>
        <p:spPr>
          <a:xfrm flipV="1">
            <a:off x="1209240" y="2090520"/>
            <a:ext cx="1080" cy="3859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5" name="ลูกศรเชื่อมต่อแบบตรง 17"/>
          <p:cNvCxnSpPr/>
          <p:nvPr/>
        </p:nvCxnSpPr>
        <p:spPr>
          <a:xfrm flipH="1">
            <a:off x="1994760" y="1545840"/>
            <a:ext cx="57920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6" name="TextBox 21"/>
          <p:cNvSpPr/>
          <p:nvPr/>
        </p:nvSpPr>
        <p:spPr>
          <a:xfrm>
            <a:off x="5311800" y="326556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ทะเบียนและภาษีร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5292720" y="344016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91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7"/>
          <p:cNvSpPr/>
          <p:nvPr/>
        </p:nvSpPr>
        <p:spPr>
          <a:xfrm>
            <a:off x="950760" y="109440"/>
            <a:ext cx="811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3.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    1.4.2 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มทางหลว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33440" y="1690560"/>
          <a:ext cx="7277040" cy="4792680"/>
        </p:xfrm>
        <a:graphic>
          <a:graphicData uri="http://schemas.openxmlformats.org/drawingml/2006/table">
            <a:tbl>
              <a:tblPr/>
              <a:tblGrid>
                <a:gridCol w="2425680"/>
                <a:gridCol w="2425680"/>
                <a:gridCol w="24256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Box 6"/>
          <p:cNvSpPr/>
          <p:nvPr/>
        </p:nvSpPr>
        <p:spPr>
          <a:xfrm>
            <a:off x="1995480" y="127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43376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6643800" y="126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71600" y="22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471600" y="3724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2"/>
          <p:cNvSpPr/>
          <p:nvPr/>
        </p:nvSpPr>
        <p:spPr>
          <a:xfrm rot="16200000">
            <a:off x="-1915200" y="3717000"/>
            <a:ext cx="479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471600" y="534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ตัวแทนหมายเลขภาพนิ่ง 1"/>
          <p:cNvSpPr/>
          <p:nvPr/>
        </p:nvSpPr>
        <p:spPr>
          <a:xfrm>
            <a:off x="7064280" y="6523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D17-2B60-42A6-9F63-2E581FE5C5F7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71280" y="657540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ถึงจำนวนอัตรากำลังของงานนั้น 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Chart 49" descr=""/>
          <p:cNvPicPr/>
          <p:nvPr/>
        </p:nvPicPr>
        <p:blipFill>
          <a:blip r:embed="rId1"/>
          <a:stretch/>
        </p:blipFill>
        <p:spPr>
          <a:xfrm>
            <a:off x="863640" y="1558800"/>
            <a:ext cx="8026200" cy="53816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 rot="19314000">
            <a:off x="-1440" y="270720"/>
            <a:ext cx="1033560" cy="29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Tahoma"/>
                <a:cs typeface="Tahoma"/>
              </a:rPr>
              <a:t>ตัวอย่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ลูกศรเชื่อมต่อแบบตรง 3"/>
          <p:cNvCxnSpPr/>
          <p:nvPr/>
        </p:nvCxnSpPr>
        <p:spPr>
          <a:xfrm flipV="1">
            <a:off x="1209240" y="2090520"/>
            <a:ext cx="1080" cy="3859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3" name="ลูกศรเชื่อมต่อแบบตรง 17"/>
          <p:cNvCxnSpPr/>
          <p:nvPr/>
        </p:nvCxnSpPr>
        <p:spPr>
          <a:xfrm flipH="1">
            <a:off x="1994760" y="1545840"/>
            <a:ext cx="57920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4" name="TextBox 21"/>
          <p:cNvSpPr/>
          <p:nvPr/>
        </p:nvSpPr>
        <p:spPr>
          <a:xfrm>
            <a:off x="5300640" y="3271680"/>
            <a:ext cx="22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บริหารจัดเก็บค่าผ่านท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22"/>
          <p:cNvSpPr/>
          <p:nvPr/>
        </p:nvSpPr>
        <p:spPr>
          <a:xfrm>
            <a:off x="5283360" y="3446640"/>
            <a:ext cx="18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7"/>
          <p:cNvSpPr/>
          <p:nvPr/>
        </p:nvSpPr>
        <p:spPr>
          <a:xfrm>
            <a:off x="950760" y="109440"/>
            <a:ext cx="811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3.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    1.4.2 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มท่าอากาศยา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333440" y="1690560"/>
          <a:ext cx="7277040" cy="4792680"/>
        </p:xfrm>
        <a:graphic>
          <a:graphicData uri="http://schemas.openxmlformats.org/drawingml/2006/table">
            <a:tbl>
              <a:tblPr/>
              <a:tblGrid>
                <a:gridCol w="2425680"/>
                <a:gridCol w="2425680"/>
                <a:gridCol w="24256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6"/>
          <p:cNvSpPr/>
          <p:nvPr/>
        </p:nvSpPr>
        <p:spPr>
          <a:xfrm>
            <a:off x="1995480" y="12794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4433760" y="1276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6643800" y="1276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471600" y="22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471600" y="3724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2"/>
          <p:cNvSpPr/>
          <p:nvPr/>
        </p:nvSpPr>
        <p:spPr>
          <a:xfrm rot="16200000">
            <a:off x="-1915200" y="3717000"/>
            <a:ext cx="479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c00000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471600" y="534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ตัวแทนหมายเลขภาพนิ่ง 1"/>
          <p:cNvSpPr/>
          <p:nvPr/>
        </p:nvSpPr>
        <p:spPr>
          <a:xfrm>
            <a:off x="7064280" y="6523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0B88-B250-484D-988B-B15C0AEA1DE7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71280" y="657540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ถึงจำนวนอัตรากำลังของงานนั้น 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Chart 49" descr=""/>
          <p:cNvPicPr/>
          <p:nvPr/>
        </p:nvPicPr>
        <p:blipFill>
          <a:blip r:embed="rId1"/>
          <a:stretch/>
        </p:blipFill>
        <p:spPr>
          <a:xfrm>
            <a:off x="863640" y="1558800"/>
            <a:ext cx="8026200" cy="53816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 rot="19314000">
            <a:off x="-1440" y="270720"/>
            <a:ext cx="1033560" cy="29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Tahoma"/>
                <a:cs typeface="Tahoma"/>
              </a:rPr>
              <a:t>ตัวอย่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ลูกศรเชื่อมต่อแบบตรง 3"/>
          <p:cNvCxnSpPr/>
          <p:nvPr/>
        </p:nvCxnSpPr>
        <p:spPr>
          <a:xfrm flipV="1">
            <a:off x="1209240" y="2090520"/>
            <a:ext cx="1080" cy="3859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ลูกศรเชื่อมต่อแบบตรง 17"/>
          <p:cNvCxnSpPr/>
          <p:nvPr/>
        </p:nvCxnSpPr>
        <p:spPr>
          <a:xfrm flipH="1">
            <a:off x="1994760" y="1552320"/>
            <a:ext cx="57920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2" name="TextBox 19"/>
          <p:cNvSpPr/>
          <p:nvPr/>
        </p:nvSpPr>
        <p:spPr>
          <a:xfrm>
            <a:off x="6084720" y="16812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บริหารจัดการท่าอากาศยา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5796000" y="185580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14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6T09:15:41Z</dcterms:created>
  <dc:creator>OPDC</dc:creator>
  <dc:description/>
  <dc:language>en-US</dc:language>
  <cp:lastModifiedBy>kpr</cp:lastModifiedBy>
  <dcterms:modified xsi:type="dcterms:W3CDTF">2017-11-13T06:44:50Z</dcterms:modified>
  <cp:revision>6</cp:revision>
  <dc:subject/>
  <dc:title>งานนำเสนอ PowerPoint</dc:title>
</cp:coreProperties>
</file>