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082A-7DB7-42CC-80ED-E4166E9F1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554D-6692-4287-B20C-614A01977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5936-F918-42C1-84AF-87761AD25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DFAB-A569-4DC7-A8E5-5F08B39F9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20C5-FFBA-49C8-985E-DD886E051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EFC3-164F-4156-8376-ABBE4AF3D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EC94-8337-4ADA-8C76-85F433EA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9D18-599C-4BA7-91CD-02FE4FED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C4D1-F7FA-408C-8F7C-A80711BD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CDE7-9EF9-4088-8B91-4AC6C9D8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D355-29BE-4075-ACA3-CF446CC0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42A9-BC8B-4862-9F8C-7A9DBD86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D462-5E97-4BFC-8BBF-A72AAF2C0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2"/>
          <p:cNvSpPr/>
          <p:nvPr/>
        </p:nvSpPr>
        <p:spPr>
          <a:xfrm>
            <a:off x="1357200" y="1944720"/>
            <a:ext cx="4572000" cy="896076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ff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Worasait"/>
              </a:rPr>
              <a:t>P</a:t>
            </a:r>
            <a:r>
              <a:rPr b="0" lang="en-US" sz="5400" spc="-1" strike="noStrike">
                <a:solidFill>
                  <a:srgbClr val="ff0000"/>
                </a:solidFill>
                <a:latin typeface="Worasait"/>
              </a:rPr>
              <a:t>ublic sect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Worasait"/>
              </a:rPr>
              <a:t>   </a:t>
            </a:r>
            <a:r>
              <a:rPr b="0" lang="en-US" sz="8800" spc="-1" strike="noStrike">
                <a:solidFill>
                  <a:srgbClr val="ff0000"/>
                </a:solidFill>
                <a:latin typeface="Worasait"/>
              </a:rPr>
              <a:t>M</a:t>
            </a:r>
            <a:r>
              <a:rPr b="0" lang="en-US" sz="5400" spc="-1" strike="noStrike">
                <a:solidFill>
                  <a:srgbClr val="ff0000"/>
                </a:solidFill>
                <a:latin typeface="Worasait"/>
              </a:rPr>
              <a:t>anagem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Worasait"/>
              </a:rPr>
              <a:t>      </a:t>
            </a:r>
            <a:r>
              <a:rPr b="0" lang="en-US" sz="8800" spc="-1" strike="noStrike">
                <a:solidFill>
                  <a:srgbClr val="ff0000"/>
                </a:solidFill>
                <a:latin typeface="Worasait"/>
              </a:rPr>
              <a:t>Q</a:t>
            </a:r>
            <a:r>
              <a:rPr b="0" lang="en-US" sz="5400" spc="-1" strike="noStrike">
                <a:solidFill>
                  <a:srgbClr val="ff0000"/>
                </a:solidFill>
                <a:latin typeface="Worasait"/>
              </a:rPr>
              <a:t>uali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0000"/>
                </a:solidFill>
                <a:latin typeface="Worasait"/>
              </a:rPr>
              <a:t>         </a:t>
            </a:r>
            <a:r>
              <a:rPr b="0" lang="en-US" sz="8800" spc="-1" strike="noStrike">
                <a:solidFill>
                  <a:srgbClr val="ff0000"/>
                </a:solidFill>
                <a:latin typeface="Worasait"/>
              </a:rPr>
              <a:t>A</a:t>
            </a:r>
            <a:r>
              <a:rPr b="0" lang="en-US" sz="5400" spc="-1" strike="noStrike">
                <a:solidFill>
                  <a:srgbClr val="ff0000"/>
                </a:solidFill>
                <a:latin typeface="Worasait"/>
              </a:rPr>
              <a:t>war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981000" y="8756640"/>
            <a:ext cx="5746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0000"/>
                </a:solidFill>
                <a:latin typeface="TH SarabunPSK"/>
                <a:cs typeface="TH SarabunPSK"/>
              </a:rPr>
              <a:t>กลุ่มพัฒนาระบบบริหา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0000"/>
                </a:solidFill>
                <a:latin typeface="TH SarabunPSK"/>
                <a:cs typeface="TH SarabunPSK"/>
              </a:rPr>
              <a:t>สำนักงานการปฏิรูปที่ดินเพื่อเกษตรกรร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0000"/>
                </a:solidFill>
                <a:latin typeface="TH SarabunPSK"/>
                <a:cs typeface="TH SarabunPSK"/>
              </a:rPr>
              <a:t>กระทรวงเกษตรและสหกรณ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06:26:31Z</dcterms:created>
  <dc:creator>offy</dc:creator>
  <dc:description/>
  <dc:language>en-US</dc:language>
  <cp:lastModifiedBy>user</cp:lastModifiedBy>
  <dcterms:modified xsi:type="dcterms:W3CDTF">2016-10-31T02:59:31Z</dcterms:modified>
  <cp:revision>19</cp:revision>
  <dc:subject/>
  <dc:title>ภาพนิ่ง 1</dc:title>
</cp:coreProperties>
</file>