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9D30-BD92-44A4-996A-516F6DF46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421A-FD78-4D29-81C0-14473472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AB92-4A13-4A88-B15B-1AC42AEB3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83F-8054-4B33-B959-2ADD07DD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238-A0CF-4F70-B2DA-0ECB0DBC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FC2C-809B-45E3-97AC-29B82F9C5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CFE4-A0CC-47AE-9C98-E822DA6B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23D7-595A-4F55-AD39-59456225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AA6B-2672-4412-8278-DA8DAAAC6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C30D-1BFE-4CA7-BCA9-C1327DA7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6846-B4C1-49BE-A045-33D569CF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428D-89D6-4717-A760-103B087D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C88E-875B-4DB2-824B-C914873A0D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552600" y="8535960"/>
            <a:ext cx="574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สำนักงานการปฏิรูปที่ดินเพื่อเกษตรกรร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ระทรวงเกษตรและสหกรณ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0" y="871560"/>
            <a:ext cx="6858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ารประเมินตนเองตามเกณฑ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“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การพัฒนาคุณภาพการบริหารจัดการภาครัฐ ระดับพื้นฐาน ฉบับที่ 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Fundamental Level Version 2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ของ สำนักงานการปฏิรูปที่ดินเพื่อเกษตร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ประจำปีงบประมาณ พ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.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cs typeface="TH SarabunPSK"/>
              </a:rPr>
              <a:t>ศ</a:t>
            </a:r>
            <a:r>
              <a:rPr b="1" lang="th-TH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. 255</a:t>
            </a:r>
            <a:r>
              <a:rPr b="1" lang="en-US" sz="2400" spc="-1" strike="noStrike">
                <a:solidFill>
                  <a:srgbClr val="ff0000"/>
                </a:solidFill>
                <a:latin typeface="TH SarabunPSK"/>
                <a:ea typeface="TH SarabunPSK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รูปภาพ 10" descr="PMQA 7.jpg"/>
          <p:cNvPicPr/>
          <p:nvPr/>
        </p:nvPicPr>
        <p:blipFill>
          <a:blip r:embed="rId1"/>
          <a:stretch/>
        </p:blipFill>
        <p:spPr>
          <a:xfrm>
            <a:off x="636480" y="3195720"/>
            <a:ext cx="58644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8T06:26:31Z</dcterms:created>
  <dc:creator>offy</dc:creator>
  <dc:description/>
  <dc:language>en-US</dc:language>
  <cp:lastModifiedBy>user</cp:lastModifiedBy>
  <dcterms:modified xsi:type="dcterms:W3CDTF">2016-10-31T02:59:51Z</dcterms:modified>
  <cp:revision>19</cp:revision>
  <dc:subject/>
  <dc:title>ภาพนิ่ง 1</dc:title>
</cp:coreProperties>
</file>