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16.png" ContentType="image/png"/>
  <Override PartName="/ppt/media/image67.png" ContentType="image/png"/>
  <Override PartName="/ppt/media/image30.png" ContentType="image/png"/>
  <Override PartName="/ppt/media/image6.jpeg" ContentType="image/jpe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5.png" ContentType="image/png"/>
  <Override PartName="/ppt/media/image63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4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228E-FA4C-462D-AB4F-EEDADDDB3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ตัวแทนหมายเลขภาพนิ่ง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5C71-1101-4F22-AB33-5826B7520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ตัวแทนหมายเลขภาพนิ่ง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C700-B38E-470F-A790-7F3115286C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ตัวแทนหมายเลขภาพนิ่ง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34DB-B412-4519-9DD9-EBB83BFAA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B34-CFB9-4AA6-9FA7-60C2AFD161BB}" type="slidenum">
              <a:rPr b="0" lang="th-TH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ตัวแทนหมายเลขภาพนิ่ง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F32A-E52A-4799-812B-C6DBCD9FB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ตัวแทนหมายเลขภาพนิ่ง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7DF-AABD-4709-88B7-F761A643F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AE0-656E-4F45-8A18-930A487F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E06-91AF-4C15-ABAA-8B841E13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454-9466-4256-91CC-AA4FE172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FBD-DF19-40A9-A638-568D993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4C5-7369-4736-ABC5-AED71F48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6078-A641-4BA9-9A10-3F3D6EB1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12B-0FEB-45F0-BD2A-6FF392D4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7394-02C8-4D1B-9F7D-465D87E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076-1EC3-4BDF-B40F-1DC2ED6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F5A-BDCC-4632-9E96-8457FE3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A76A-6D5D-4F6A-85C0-038A7DC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329-59CC-4766-B7DE-FCB476CC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813B-7500-46A0-ABA4-ED0B0D0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847-F87C-48A2-9D65-D2BB8BB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1BE4-4DE7-456E-9E21-F55EE814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23CA-18B7-428A-AF5B-FE27C04E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CFA2-ED15-4A71-8CEC-F3D8902B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36F5-7B44-499C-AC10-3BCE5F1A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66C3-0282-4790-A956-47EB0AB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DB8C-F7C1-4245-A7F1-8BC8FA3B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F563-30E8-40EC-B5BF-9E53A4E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08B8-396C-40BF-9E6F-8A475FA7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10C-DEBE-4E8D-8E50-E6EC0D3E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E73F-0ADE-49EF-AF8D-B93E5A9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F6D5-D4E7-4221-BAEB-EDBABB85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6D17-EB70-4D52-A802-3C94B30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30DC-78BF-49D8-A6AA-C8E98E0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8511-FB7B-418D-8FBD-817771F0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D9EF-97F8-47D4-B701-3D3F4B6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52A8-7542-4698-B54C-2C69492F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3CCB-DDA2-4426-9FB1-3EC75D41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6638-F59D-44E2-AE3D-09329E7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E84C-0E80-4D23-A8CB-5BEBAAFB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410-5546-4A6D-859E-E12BBC6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6A53-380F-4E15-BB72-BC6C159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3C04-8806-45A2-9261-B5C7CB9F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31D6-84ED-4806-87CB-C297AFA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A690-CCEC-4799-A79A-C62E6A03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5E47-BB6F-4752-94DA-76BD607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1B96-E28F-4BFE-825C-D258CBF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FE19-CB90-4AA7-8A76-5D52721A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E583-3E03-4EBD-892D-A793EFA4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23CD-E58D-4D36-B9B4-E5D8A634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E23-1272-4DF3-8D0F-BF8039DA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866-E692-43E7-A3E8-615A5C3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A16-FB28-40E2-90E9-C9FFD37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3AC-090A-4F84-B781-3C73184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9B0-4388-4636-9EFF-A557A03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D97C-31B2-4DE9-BC47-CD2550E4D67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D2A-4842-4EF4-94BC-A864F4A2945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1044-F8A6-448E-911F-EA32091B580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23BE-FFF9-4407-B395-368C9D0134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1.png"/><Relationship Id="rId3" Type="http://schemas.openxmlformats.org/officeDocument/2006/relationships/image" Target="../media/image60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3.png"/><Relationship Id="rId3" Type="http://schemas.openxmlformats.org/officeDocument/2006/relationships/image" Target="../media/image60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3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2.jpeg"/><Relationship Id="rId3" Type="http://schemas.openxmlformats.org/officeDocument/2006/relationships/image" Target="../media/image31.png"/><Relationship Id="rId4" Type="http://schemas.openxmlformats.org/officeDocument/2006/relationships/image" Target="../media/image61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2.jpeg"/><Relationship Id="rId3" Type="http://schemas.openxmlformats.org/officeDocument/2006/relationships/image" Target="../media/image31.png"/><Relationship Id="rId4" Type="http://schemas.openxmlformats.org/officeDocument/2006/relationships/image" Target="../media/image61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1.png"/><Relationship Id="rId3" Type="http://schemas.openxmlformats.org/officeDocument/2006/relationships/image" Target="../media/image63.pn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3.png"/><Relationship Id="rId3" Type="http://schemas.openxmlformats.org/officeDocument/2006/relationships/image" Target="../media/image60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รูปภาพ 2" descr=""/>
          <p:cNvPicPr/>
          <p:nvPr/>
        </p:nvPicPr>
        <p:blipFill>
          <a:blip r:embed="rId1"/>
          <a:stretch/>
        </p:blipFill>
        <p:spPr>
          <a:xfrm>
            <a:off x="-3240" y="0"/>
            <a:ext cx="1406520" cy="1209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Image result for การประเมินผลตัวชี้วัดบุคคล"/>
          <p:cNvPicPr/>
          <p:nvPr/>
        </p:nvPicPr>
        <p:blipFill>
          <a:blip r:embed="rId2"/>
          <a:stretch/>
        </p:blipFill>
        <p:spPr>
          <a:xfrm>
            <a:off x="5364000" y="4581360"/>
            <a:ext cx="376560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3384360"/>
          </a:xfrm>
          <a:prstGeom prst="rect">
            <a:avLst/>
          </a:prstGeom>
          <a:solidFill>
            <a:srgbClr val="8adfff"/>
          </a:solidFill>
          <a:ln w="38160">
            <a:solidFill>
              <a:srgbClr val="002060"/>
            </a:solidFill>
            <a:miter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83763"/>
                </a:solidFill>
                <a:latin typeface="JasmineUPC"/>
                <a:cs typeface="JasmineUPC"/>
              </a:rPr>
              <a:t>ตัวชี้วัดปฏิรูปที่ดินจังหวัด</a:t>
            </a:r>
            <a:br>
              <a:rPr sz="5000"/>
            </a:br>
            <a:r>
              <a:rPr b="1" lang="th-TH" sz="5000" spc="-1" strike="noStrike">
                <a:solidFill>
                  <a:srgbClr val="083763"/>
                </a:solidFill>
                <a:latin typeface="JasmineUPC"/>
                <a:cs typeface="JasmineUPC"/>
              </a:rPr>
              <a:t>ประจำปีงบประมาณ พ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ea typeface="JasmineUPC"/>
              </a:rPr>
              <a:t>.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cs typeface="JasmineUPC"/>
              </a:rPr>
              <a:t>ศ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ea typeface="JasmineUPC"/>
              </a:rPr>
              <a:t>.2561</a:t>
            </a:r>
            <a:br>
              <a:rPr sz="5000"/>
            </a:br>
            <a:r>
              <a:rPr b="1" lang="th-TH" sz="5000" spc="-1" strike="noStrike">
                <a:solidFill>
                  <a:srgbClr val="083763"/>
                </a:solidFill>
                <a:latin typeface="JasmineUPC"/>
                <a:cs typeface="JasmineUPC"/>
              </a:rPr>
              <a:t>รอบที่ 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ea typeface="JasmineUPC"/>
              </a:rPr>
              <a:t>1</a:t>
            </a:r>
            <a:br>
              <a:rPr sz="5000"/>
            </a:br>
            <a:r>
              <a:rPr b="1" lang="th-TH" sz="5000" spc="-1" strike="noStrike">
                <a:solidFill>
                  <a:srgbClr val="083763"/>
                </a:solidFill>
                <a:latin typeface="JasmineUPC"/>
                <a:ea typeface="JasmineUPC"/>
              </a:rPr>
              <a:t>(1 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cs typeface="JasmineUPC"/>
              </a:rPr>
              <a:t>ตุลาคม 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ea typeface="JasmineUPC"/>
              </a:rPr>
              <a:t>2560 – 31 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cs typeface="JasmineUPC"/>
              </a:rPr>
              <a:t>มีนาคม </a:t>
            </a:r>
            <a:r>
              <a:rPr b="1" lang="th-TH" sz="5000" spc="-1" strike="noStrike">
                <a:solidFill>
                  <a:srgbClr val="083763"/>
                </a:solidFill>
                <a:latin typeface="JasmineUPC"/>
                <a:ea typeface="JasmineUPC"/>
              </a:rPr>
              <a:t>2561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สี่เหลี่ยมผืนผ้า 1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กลุ่ม 4"/>
          <p:cNvGrpSpPr/>
          <p:nvPr/>
        </p:nvGrpSpPr>
        <p:grpSpPr>
          <a:xfrm>
            <a:off x="6659640" y="-379440"/>
            <a:ext cx="2808360" cy="2691000"/>
            <a:chOff x="6659640" y="-379440"/>
            <a:chExt cx="2808360" cy="2691000"/>
          </a:xfrm>
        </p:grpSpPr>
        <p:pic>
          <p:nvPicPr>
            <p:cNvPr id="207" name="Picture 2" descr="Image result for เป้าหมาย"/>
            <p:cNvPicPr/>
            <p:nvPr/>
          </p:nvPicPr>
          <p:blipFill>
            <a:blip r:embed="rId3"/>
            <a:stretch/>
          </p:blipFill>
          <p:spPr>
            <a:xfrm>
              <a:off x="6659640" y="-379440"/>
              <a:ext cx="2808360" cy="26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Image result for เป้าหมาย"/>
            <p:cNvPicPr/>
            <p:nvPr/>
          </p:nvPicPr>
          <p:blipFill>
            <a:blip r:embed="rId4"/>
            <a:stretch/>
          </p:blipFill>
          <p:spPr>
            <a:xfrm>
              <a:off x="6766560" y="-36360"/>
              <a:ext cx="2216160" cy="130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10" descr="Image result for การประเมินผลการปฏิบัติราชการ"/>
          <p:cNvPicPr/>
          <p:nvPr/>
        </p:nvPicPr>
        <p:blipFill>
          <a:blip r:embed="rId5"/>
          <a:stretch/>
        </p:blipFill>
        <p:spPr>
          <a:xfrm>
            <a:off x="0" y="4005360"/>
            <a:ext cx="34434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สี่เหลี่ยมผืนผ้า 4" descr=""/>
          <p:cNvPicPr/>
          <p:nvPr/>
        </p:nvPicPr>
        <p:blipFill>
          <a:blip r:embed="rId1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494" name="TextBox 6"/>
          <p:cNvGrpSpPr/>
          <p:nvPr/>
        </p:nvGrpSpPr>
        <p:grpSpPr>
          <a:xfrm>
            <a:off x="3693960" y="1504800"/>
            <a:ext cx="1901880" cy="373320"/>
            <a:chOff x="3693960" y="1504800"/>
            <a:chExt cx="1901880" cy="373320"/>
          </a:xfrm>
        </p:grpSpPr>
        <p:pic>
          <p:nvPicPr>
            <p:cNvPr id="495" name="TextBox 6" descr=""/>
            <p:cNvPicPr/>
            <p:nvPr/>
          </p:nvPicPr>
          <p:blipFill>
            <a:blip r:embed="rId2"/>
            <a:stretch/>
          </p:blipFill>
          <p:spPr>
            <a:xfrm>
              <a:off x="3693960" y="1504800"/>
              <a:ext cx="190188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708360" y="152244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Box 15"/>
          <p:cNvSpPr/>
          <p:nvPr/>
        </p:nvSpPr>
        <p:spPr>
          <a:xfrm>
            <a:off x="641520" y="1125360"/>
            <a:ext cx="7920000" cy="642600"/>
          </a:xfrm>
          <a:prstGeom prst="rect">
            <a:avLst/>
          </a:prstGeom>
          <a:solidFill>
            <a:srgbClr val="ff00ff"/>
          </a:solidFill>
          <a:ln w="38160">
            <a:solidFill>
              <a:srgbClr val="c39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บริหารจัดการหนี้เงินกองทุนการปฏิรูปที่ดินเพื่อเกษตรกรร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6"/>
          <p:cNvSpPr/>
          <p:nvPr/>
        </p:nvSpPr>
        <p:spPr>
          <a:xfrm>
            <a:off x="34920" y="2009880"/>
            <a:ext cx="2995560" cy="642600"/>
          </a:xfrm>
          <a:prstGeom prst="rect">
            <a:avLst/>
          </a:prstGeom>
          <a:solidFill>
            <a:srgbClr val="cccc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.1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จัดเก็บหนี้เงินต้นของเงินกู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8"/>
          <p:cNvSpPr/>
          <p:nvPr/>
        </p:nvSpPr>
        <p:spPr>
          <a:xfrm>
            <a:off x="3086280" y="2009880"/>
            <a:ext cx="2993760" cy="642600"/>
          </a:xfrm>
          <a:prstGeom prst="rect">
            <a:avLst/>
          </a:prstGeom>
          <a:solidFill>
            <a:srgbClr val="cccc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.2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จัดเก็บหนี้เงินกู้ค้างชำร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9"/>
          <p:cNvSpPr/>
          <p:nvPr/>
        </p:nvSpPr>
        <p:spPr>
          <a:xfrm>
            <a:off x="6129360" y="2009880"/>
            <a:ext cx="2995560" cy="916920"/>
          </a:xfrm>
          <a:prstGeom prst="rect">
            <a:avLst/>
          </a:prstGeom>
          <a:solidFill>
            <a:srgbClr val="cccc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.3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ดำเนินงานตามขั้นตอนการบริหารจัดการหนี้เงินกองทุ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1"/>
          <p:cNvSpPr/>
          <p:nvPr/>
        </p:nvSpPr>
        <p:spPr>
          <a:xfrm>
            <a:off x="274680" y="2525760"/>
            <a:ext cx="98424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2"/>
          <p:cNvSpPr/>
          <p:nvPr/>
        </p:nvSpPr>
        <p:spPr>
          <a:xfrm>
            <a:off x="1349280" y="253224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4"/>
          <p:cNvSpPr/>
          <p:nvPr/>
        </p:nvSpPr>
        <p:spPr>
          <a:xfrm>
            <a:off x="274680" y="3022560"/>
            <a:ext cx="98424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5"/>
          <p:cNvSpPr/>
          <p:nvPr/>
        </p:nvSpPr>
        <p:spPr>
          <a:xfrm>
            <a:off x="1349280" y="303048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6"/>
          <p:cNvSpPr/>
          <p:nvPr/>
        </p:nvSpPr>
        <p:spPr>
          <a:xfrm>
            <a:off x="274680" y="3470400"/>
            <a:ext cx="98424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7"/>
          <p:cNvSpPr/>
          <p:nvPr/>
        </p:nvSpPr>
        <p:spPr>
          <a:xfrm>
            <a:off x="1349280" y="347652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8"/>
          <p:cNvSpPr/>
          <p:nvPr/>
        </p:nvSpPr>
        <p:spPr>
          <a:xfrm>
            <a:off x="257040" y="3916440"/>
            <a:ext cx="98604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9"/>
          <p:cNvSpPr/>
          <p:nvPr/>
        </p:nvSpPr>
        <p:spPr>
          <a:xfrm>
            <a:off x="1332000" y="392436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0"/>
          <p:cNvSpPr/>
          <p:nvPr/>
        </p:nvSpPr>
        <p:spPr>
          <a:xfrm>
            <a:off x="257040" y="4378320"/>
            <a:ext cx="98604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31"/>
          <p:cNvSpPr/>
          <p:nvPr/>
        </p:nvSpPr>
        <p:spPr>
          <a:xfrm>
            <a:off x="1332000" y="438624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2"/>
          <p:cNvSpPr/>
          <p:nvPr/>
        </p:nvSpPr>
        <p:spPr>
          <a:xfrm>
            <a:off x="3400560" y="2532240"/>
            <a:ext cx="8841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4373640" y="253836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4"/>
          <p:cNvSpPr/>
          <p:nvPr/>
        </p:nvSpPr>
        <p:spPr>
          <a:xfrm>
            <a:off x="3400560" y="3030480"/>
            <a:ext cx="8841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5"/>
          <p:cNvSpPr/>
          <p:nvPr/>
        </p:nvSpPr>
        <p:spPr>
          <a:xfrm>
            <a:off x="4373640" y="303696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36"/>
          <p:cNvSpPr/>
          <p:nvPr/>
        </p:nvSpPr>
        <p:spPr>
          <a:xfrm>
            <a:off x="3400560" y="3476520"/>
            <a:ext cx="8841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7"/>
          <p:cNvSpPr/>
          <p:nvPr/>
        </p:nvSpPr>
        <p:spPr>
          <a:xfrm>
            <a:off x="4373640" y="348444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38"/>
          <p:cNvSpPr/>
          <p:nvPr/>
        </p:nvSpPr>
        <p:spPr>
          <a:xfrm>
            <a:off x="3382920" y="3981600"/>
            <a:ext cx="8841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9"/>
          <p:cNvSpPr/>
          <p:nvPr/>
        </p:nvSpPr>
        <p:spPr>
          <a:xfrm>
            <a:off x="4356000" y="398772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0"/>
          <p:cNvSpPr/>
          <p:nvPr/>
        </p:nvSpPr>
        <p:spPr>
          <a:xfrm>
            <a:off x="3382920" y="4478400"/>
            <a:ext cx="8841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1"/>
          <p:cNvSpPr/>
          <p:nvPr/>
        </p:nvSpPr>
        <p:spPr>
          <a:xfrm>
            <a:off x="4356000" y="4484520"/>
            <a:ext cx="140976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3"/>
          <p:cNvSpPr/>
          <p:nvPr/>
        </p:nvSpPr>
        <p:spPr>
          <a:xfrm>
            <a:off x="6129360" y="2738520"/>
            <a:ext cx="81900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7"/>
          <p:cNvSpPr/>
          <p:nvPr/>
        </p:nvSpPr>
        <p:spPr>
          <a:xfrm>
            <a:off x="7020000" y="2746440"/>
            <a:ext cx="2058840" cy="82404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รวจสอบฐานข้อมูลลูกหนี้ค้างชำระวันที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0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ันยายน </a:t>
            </a: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5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8"/>
          <p:cNvSpPr/>
          <p:nvPr/>
        </p:nvSpPr>
        <p:spPr>
          <a:xfrm>
            <a:off x="6129360" y="3670200"/>
            <a:ext cx="81900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9"/>
          <p:cNvSpPr/>
          <p:nvPr/>
        </p:nvSpPr>
        <p:spPr>
          <a:xfrm>
            <a:off x="7020000" y="3676680"/>
            <a:ext cx="2058840" cy="106740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ับปรุงฐานข้อมูลลูกหนี้ค้างชำระ ณ วันที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0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ันยายน </a:t>
            </a: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560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ห้ถูกต้อง ครบถ้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0"/>
          <p:cNvSpPr/>
          <p:nvPr/>
        </p:nvSpPr>
        <p:spPr>
          <a:xfrm>
            <a:off x="6129360" y="4861080"/>
            <a:ext cx="81900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1"/>
          <p:cNvSpPr/>
          <p:nvPr/>
        </p:nvSpPr>
        <p:spPr>
          <a:xfrm>
            <a:off x="7020000" y="4869000"/>
            <a:ext cx="2058840" cy="58068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ยกอายุหนี้ค้างชำระรายป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2"/>
          <p:cNvSpPr/>
          <p:nvPr/>
        </p:nvSpPr>
        <p:spPr>
          <a:xfrm>
            <a:off x="6113520" y="5308560"/>
            <a:ext cx="8175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53"/>
          <p:cNvSpPr/>
          <p:nvPr/>
        </p:nvSpPr>
        <p:spPr>
          <a:xfrm>
            <a:off x="7002360" y="5315040"/>
            <a:ext cx="2059200" cy="3373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รวจสอบอายุควา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54"/>
          <p:cNvSpPr/>
          <p:nvPr/>
        </p:nvSpPr>
        <p:spPr>
          <a:xfrm>
            <a:off x="6113520" y="5764320"/>
            <a:ext cx="817560" cy="337320"/>
          </a:xfrm>
          <a:prstGeom prst="rect">
            <a:avLst/>
          </a:prstGeom>
          <a:solidFill>
            <a:srgbClr val="ff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5"/>
          <p:cNvSpPr/>
          <p:nvPr/>
        </p:nvSpPr>
        <p:spPr>
          <a:xfrm>
            <a:off x="7002360" y="5770440"/>
            <a:ext cx="2059200" cy="82404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งานผลการตรวจสอบลูกหนี้ค้างชำระส่งให้ สบท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Image result for รูปกราฟฟิก+การประเมิน"/>
          <p:cNvPicPr/>
          <p:nvPr/>
        </p:nvPicPr>
        <p:blipFill>
          <a:blip r:embed="rId3"/>
          <a:stretch/>
        </p:blipFill>
        <p:spPr>
          <a:xfrm>
            <a:off x="34920" y="5684760"/>
            <a:ext cx="1657440" cy="117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Image result for รูปกราฟฟิก+การประเมิน"/>
          <p:cNvPicPr/>
          <p:nvPr/>
        </p:nvPicPr>
        <p:blipFill>
          <a:blip r:embed="rId4"/>
          <a:stretch/>
        </p:blipFill>
        <p:spPr>
          <a:xfrm>
            <a:off x="2036880" y="50277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สี่เหลี่ยมผืนผ้า 4" descr=""/>
          <p:cNvPicPr/>
          <p:nvPr/>
        </p:nvPicPr>
        <p:blipFill>
          <a:blip r:embed="rId1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534" name="TextBox 6"/>
          <p:cNvGrpSpPr/>
          <p:nvPr/>
        </p:nvGrpSpPr>
        <p:grpSpPr>
          <a:xfrm>
            <a:off x="3548160" y="1504800"/>
            <a:ext cx="1901880" cy="366840"/>
            <a:chOff x="3548160" y="1504800"/>
            <a:chExt cx="1901880" cy="366840"/>
          </a:xfrm>
        </p:grpSpPr>
        <p:pic>
          <p:nvPicPr>
            <p:cNvPr id="535" name="TextBox 6" descr=""/>
            <p:cNvPicPr/>
            <p:nvPr/>
          </p:nvPicPr>
          <p:blipFill>
            <a:blip r:embed="rId2"/>
            <a:stretch/>
          </p:blipFill>
          <p:spPr>
            <a:xfrm>
              <a:off x="3548160" y="1504800"/>
              <a:ext cx="19018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3564000" y="151776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7"/>
          <p:cNvSpPr/>
          <p:nvPr/>
        </p:nvSpPr>
        <p:spPr>
          <a:xfrm>
            <a:off x="468360" y="2021040"/>
            <a:ext cx="833400" cy="337320"/>
          </a:xfrm>
          <a:prstGeom prst="rect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250920" y="2446200"/>
            <a:ext cx="1339920" cy="2040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ต่งตั้งคณะทำงานพัฒนาการให้บริการแก่เกษตรกรแล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ผู้มีส่วนได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่วนเสียข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2225520" y="2021040"/>
            <a:ext cx="833760" cy="337320"/>
          </a:xfrm>
          <a:prstGeom prst="rect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4"/>
          <p:cNvSpPr/>
          <p:nvPr/>
        </p:nvSpPr>
        <p:spPr>
          <a:xfrm>
            <a:off x="7740720" y="2021040"/>
            <a:ext cx="833400" cy="337320"/>
          </a:xfrm>
          <a:prstGeom prst="rect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7"/>
          <p:cNvSpPr/>
          <p:nvPr/>
        </p:nvSpPr>
        <p:spPr>
          <a:xfrm>
            <a:off x="3995640" y="2021040"/>
            <a:ext cx="943200" cy="337320"/>
          </a:xfrm>
          <a:prstGeom prst="rect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5897520" y="2021040"/>
            <a:ext cx="835200" cy="337320"/>
          </a:xfrm>
          <a:prstGeom prst="rect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2"/>
          <p:cNvSpPr/>
          <p:nvPr/>
        </p:nvSpPr>
        <p:spPr>
          <a:xfrm>
            <a:off x="1927080" y="2446200"/>
            <a:ext cx="1474920" cy="1797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ทำฐานข้อมูลเกษตรกรขอรับบริการงานของสำนักงานการปฏิรูปที่ดินจังหวัด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ย้อนหลัง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ี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4"/>
          <p:cNvSpPr/>
          <p:nvPr/>
        </p:nvSpPr>
        <p:spPr>
          <a:xfrm>
            <a:off x="5584680" y="2443320"/>
            <a:ext cx="1489320" cy="3014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ผยแพร่ประชาสัมพันธ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ระบวนงา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ณ 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เพื่อให้หน่วยงานในจังหวัดและเกษตรกร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ผู้ม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่วนได้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ด้รับทรา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5"/>
          <p:cNvSpPr/>
          <p:nvPr/>
        </p:nvSpPr>
        <p:spPr>
          <a:xfrm>
            <a:off x="3749760" y="2446200"/>
            <a:ext cx="1512720" cy="4717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ับปรุงกระบวนการตามที่ 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่วนกลาง แจ้งเวีย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รื่อง 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รับโอนสิทธิ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มรดกสิทธ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้อพิพาทเรื่อง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แก้ไขข้อผิดพลาดในการจัด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ลงทะเบียนผู้ไร้ที่ดินทำก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ชำระหนี้กองทุ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ฏิรูป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6"/>
          <p:cNvSpPr/>
          <p:nvPr/>
        </p:nvSpPr>
        <p:spPr>
          <a:xfrm>
            <a:off x="7356600" y="2443320"/>
            <a:ext cx="1536480" cy="2527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งานผลการจัดทำฐานข้อมูลเกษตรกรขอรับบริการงานของสำนักงานการปฏิรูปที่ดินจังหวัด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้อมูล ณ วันที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1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มีนาคม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56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5"/>
          <p:cNvSpPr/>
          <p:nvPr/>
        </p:nvSpPr>
        <p:spPr>
          <a:xfrm>
            <a:off x="641520" y="1125360"/>
            <a:ext cx="7920000" cy="642600"/>
          </a:xfrm>
          <a:prstGeom prst="rect">
            <a:avLst/>
          </a:prstGeom>
          <a:solidFill>
            <a:srgbClr val="fde0db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10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ดำเนินการพัฒนาการให้บริการแก่เกษตรกรและผู้มีส่วนได้ส่วนเสี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Image result for รูปกราฟฟิก+การประเมิน"/>
          <p:cNvPicPr/>
          <p:nvPr/>
        </p:nvPicPr>
        <p:blipFill>
          <a:blip r:embed="rId3"/>
          <a:stretch/>
        </p:blipFill>
        <p:spPr>
          <a:xfrm>
            <a:off x="34920" y="5684760"/>
            <a:ext cx="1657440" cy="1179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Image result for รูปกราฟฟิก+การประเมิน"/>
          <p:cNvPicPr/>
          <p:nvPr/>
        </p:nvPicPr>
        <p:blipFill>
          <a:blip r:embed="rId4"/>
          <a:stretch/>
        </p:blipFill>
        <p:spPr>
          <a:xfrm>
            <a:off x="7313760" y="4827600"/>
            <a:ext cx="18302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Image result for ตัวชี้วัด"/>
          <p:cNvPicPr/>
          <p:nvPr/>
        </p:nvPicPr>
        <p:blipFill>
          <a:blip r:embed="rId1"/>
          <a:stretch/>
        </p:blipFill>
        <p:spPr>
          <a:xfrm>
            <a:off x="1619280" y="2452680"/>
            <a:ext cx="6769080" cy="264168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7"/>
          <p:cNvSpPr/>
          <p:nvPr/>
        </p:nvSpPr>
        <p:spPr>
          <a:xfrm>
            <a:off x="198360" y="2868480"/>
            <a:ext cx="2789280" cy="1067400"/>
          </a:xfrm>
          <a:prstGeom prst="rect">
            <a:avLst/>
          </a:prstGeom>
          <a:solidFill>
            <a:srgbClr val="e5f4e0"/>
          </a:solidFill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ิดตามเร่งรัดการเบิกจ่ายงบลงทุ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8"/>
          <p:cNvSpPr/>
          <p:nvPr/>
        </p:nvSpPr>
        <p:spPr>
          <a:xfrm>
            <a:off x="210960" y="4319640"/>
            <a:ext cx="2772000" cy="824040"/>
          </a:xfrm>
          <a:prstGeom prst="rect">
            <a:avLst/>
          </a:prstGeom>
          <a:solidFill>
            <a:srgbClr val="b5edfd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จ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ดินแปลงเกษตรก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9"/>
          <p:cNvSpPr/>
          <p:nvPr/>
        </p:nvSpPr>
        <p:spPr>
          <a:xfrm>
            <a:off x="193680" y="5494320"/>
            <a:ext cx="2789280" cy="824040"/>
          </a:xfrm>
          <a:prstGeom prst="rect">
            <a:avLst/>
          </a:prstGeom>
          <a:solidFill>
            <a:srgbClr val="b5edfd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จ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ดินชุมช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0"/>
          <p:cNvSpPr/>
          <p:nvPr/>
        </p:nvSpPr>
        <p:spPr>
          <a:xfrm>
            <a:off x="3238560" y="1449360"/>
            <a:ext cx="2800440" cy="580680"/>
          </a:xfrm>
          <a:prstGeom prst="rect">
            <a:avLst/>
          </a:prstGeom>
          <a:solidFill>
            <a:srgbClr val="b5edfd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รวจสอบการถือครอง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1"/>
          <p:cNvSpPr/>
          <p:nvPr/>
        </p:nvSpPr>
        <p:spPr>
          <a:xfrm>
            <a:off x="3238560" y="2881440"/>
            <a:ext cx="2800440" cy="1554120"/>
          </a:xfrm>
          <a:prstGeom prst="rect">
            <a:avLst/>
          </a:prstGeom>
          <a:solidFill>
            <a:srgbClr val="b5edfd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6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ัญหาการเข้าทำประโยชน์ข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กษตรกรผู้กระทำผิดระเบียบ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นเขตปฏิรูป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4"/>
          <p:cNvSpPr/>
          <p:nvPr/>
        </p:nvSpPr>
        <p:spPr>
          <a:xfrm>
            <a:off x="3232080" y="4772160"/>
            <a:ext cx="2801880" cy="1797480"/>
          </a:xfrm>
          <a:prstGeom prst="rect">
            <a:avLst/>
          </a:prstGeom>
          <a:solidFill>
            <a:srgbClr val="ffffcc"/>
          </a:solidFill>
          <a:ln w="38160">
            <a:solidFill>
              <a:srgbClr val="fcf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7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พัฒน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กษตรกรตามแผนงานโครงการที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ด้รับการจัดสรร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ะจำปี พ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ศ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2561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5"/>
          <p:cNvSpPr/>
          <p:nvPr/>
        </p:nvSpPr>
        <p:spPr>
          <a:xfrm>
            <a:off x="6237360" y="1442880"/>
            <a:ext cx="2798640" cy="1310760"/>
          </a:xfrm>
          <a:prstGeom prst="rect">
            <a:avLst/>
          </a:prstGeom>
          <a:solidFill>
            <a:srgbClr val="c4efff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8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ปัญหาการครอบครองที่ดินในเขตปฏิรูปที่ดินเพื่อเกษตรกรรม โดยมิชอบด้วยกฎหมาย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มาตรา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6"/>
          <p:cNvSpPr/>
          <p:nvPr/>
        </p:nvSpPr>
        <p:spPr>
          <a:xfrm>
            <a:off x="6264360" y="3338640"/>
            <a:ext cx="2773440" cy="1067400"/>
          </a:xfrm>
          <a:prstGeom prst="rect">
            <a:avLst/>
          </a:prstGeom>
          <a:solidFill>
            <a:srgbClr val="dec8ee"/>
          </a:solidFill>
          <a:ln w="38160">
            <a:solidFill>
              <a:srgbClr val="c39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บริห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การหนี้เงินกองทุ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ฏิรูปที่ดินเพื่อเกษตรก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0"/>
          <p:cNvSpPr/>
          <p:nvPr/>
        </p:nvSpPr>
        <p:spPr>
          <a:xfrm>
            <a:off x="6254640" y="5000760"/>
            <a:ext cx="2776680" cy="1310760"/>
          </a:xfrm>
          <a:prstGeom prst="rect">
            <a:avLst/>
          </a:prstGeom>
          <a:solidFill>
            <a:srgbClr val="fde0db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0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พัฒนาการให้บริ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ก่เกษตรกรและผู้มีส่วนได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สี่เหลี่ยมผืนผ้า 31" descr=""/>
          <p:cNvPicPr/>
          <p:nvPr/>
        </p:nvPicPr>
        <p:blipFill>
          <a:blip r:embed="rId2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2"/>
          <p:cNvSpPr/>
          <p:nvPr/>
        </p:nvSpPr>
        <p:spPr>
          <a:xfrm>
            <a:off x="198360" y="1425600"/>
            <a:ext cx="2789280" cy="1310760"/>
          </a:xfrm>
          <a:prstGeom prst="rect">
            <a:avLst/>
          </a:prstGeom>
          <a:solidFill>
            <a:srgbClr val="e5f4e0"/>
          </a:solidFill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ติดตา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ร่งรัดการเบิกจ่ายงบประมาณใน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ภาพรวมของ 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TextBox 23"/>
          <p:cNvGrpSpPr/>
          <p:nvPr/>
        </p:nvGrpSpPr>
        <p:grpSpPr>
          <a:xfrm>
            <a:off x="133200" y="2236680"/>
            <a:ext cx="2914920" cy="542880"/>
            <a:chOff x="133200" y="2236680"/>
            <a:chExt cx="2914920" cy="542880"/>
          </a:xfrm>
        </p:grpSpPr>
        <p:pic>
          <p:nvPicPr>
            <p:cNvPr id="563" name="TextBox 23" descr=""/>
            <p:cNvPicPr/>
            <p:nvPr/>
          </p:nvPicPr>
          <p:blipFill>
            <a:blip r:embed="rId3"/>
            <a:stretch/>
          </p:blipFill>
          <p:spPr>
            <a:xfrm>
              <a:off x="133200" y="2236680"/>
              <a:ext cx="2914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193680" y="228456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TextBox 28"/>
          <p:cNvGrpSpPr/>
          <p:nvPr/>
        </p:nvGrpSpPr>
        <p:grpSpPr>
          <a:xfrm>
            <a:off x="133200" y="3681360"/>
            <a:ext cx="2908440" cy="542880"/>
            <a:chOff x="133200" y="3681360"/>
            <a:chExt cx="2908440" cy="542880"/>
          </a:xfrm>
        </p:grpSpPr>
        <p:pic>
          <p:nvPicPr>
            <p:cNvPr id="566" name="TextBox 28" descr=""/>
            <p:cNvPicPr/>
            <p:nvPr/>
          </p:nvPicPr>
          <p:blipFill>
            <a:blip r:embed="rId4"/>
            <a:stretch/>
          </p:blipFill>
          <p:spPr>
            <a:xfrm>
              <a:off x="133200" y="3681360"/>
              <a:ext cx="2908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93680" y="3727440"/>
              <a:ext cx="278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TextBox 29"/>
          <p:cNvGrpSpPr/>
          <p:nvPr/>
        </p:nvGrpSpPr>
        <p:grpSpPr>
          <a:xfrm>
            <a:off x="133200" y="6066000"/>
            <a:ext cx="2908440" cy="547560"/>
            <a:chOff x="133200" y="6066000"/>
            <a:chExt cx="2908440" cy="547560"/>
          </a:xfrm>
        </p:grpSpPr>
        <p:pic>
          <p:nvPicPr>
            <p:cNvPr id="569" name="TextBox 29" descr=""/>
            <p:cNvPicPr/>
            <p:nvPr/>
          </p:nvPicPr>
          <p:blipFill>
            <a:blip r:embed="rId5"/>
            <a:stretch/>
          </p:blipFill>
          <p:spPr>
            <a:xfrm>
              <a:off x="133200" y="6066000"/>
              <a:ext cx="29084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93680" y="6114960"/>
              <a:ext cx="278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TextBox 32"/>
          <p:cNvGrpSpPr/>
          <p:nvPr/>
        </p:nvGrpSpPr>
        <p:grpSpPr>
          <a:xfrm>
            <a:off x="139680" y="4883040"/>
            <a:ext cx="2895480" cy="547920"/>
            <a:chOff x="139680" y="4883040"/>
            <a:chExt cx="2895480" cy="547920"/>
          </a:xfrm>
        </p:grpSpPr>
        <p:pic>
          <p:nvPicPr>
            <p:cNvPr id="572" name="TextBox 32" descr=""/>
            <p:cNvPicPr/>
            <p:nvPr/>
          </p:nvPicPr>
          <p:blipFill>
            <a:blip r:embed="rId6"/>
            <a:stretch/>
          </p:blipFill>
          <p:spPr>
            <a:xfrm>
              <a:off x="139680" y="4883040"/>
              <a:ext cx="289548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203040" y="4932360"/>
              <a:ext cx="277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TextBox 33"/>
          <p:cNvGrpSpPr/>
          <p:nvPr/>
        </p:nvGrpSpPr>
        <p:grpSpPr>
          <a:xfrm>
            <a:off x="3176640" y="2004840"/>
            <a:ext cx="2919240" cy="549360"/>
            <a:chOff x="3176640" y="2004840"/>
            <a:chExt cx="2919240" cy="549360"/>
          </a:xfrm>
        </p:grpSpPr>
        <p:pic>
          <p:nvPicPr>
            <p:cNvPr id="575" name="TextBox 33" descr=""/>
            <p:cNvPicPr/>
            <p:nvPr/>
          </p:nvPicPr>
          <p:blipFill>
            <a:blip r:embed="rId7"/>
            <a:stretch/>
          </p:blipFill>
          <p:spPr>
            <a:xfrm>
              <a:off x="3176640" y="2004840"/>
              <a:ext cx="2919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8560" y="2054160"/>
              <a:ext cx="27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TextBox 34"/>
          <p:cNvGrpSpPr/>
          <p:nvPr/>
        </p:nvGrpSpPr>
        <p:grpSpPr>
          <a:xfrm>
            <a:off x="3170160" y="3932280"/>
            <a:ext cx="2919600" cy="542880"/>
            <a:chOff x="3170160" y="3932280"/>
            <a:chExt cx="2919600" cy="542880"/>
          </a:xfrm>
        </p:grpSpPr>
        <p:pic>
          <p:nvPicPr>
            <p:cNvPr id="578" name="TextBox 34" descr=""/>
            <p:cNvPicPr/>
            <p:nvPr/>
          </p:nvPicPr>
          <p:blipFill>
            <a:blip r:embed="rId8"/>
            <a:stretch/>
          </p:blipFill>
          <p:spPr>
            <a:xfrm>
              <a:off x="3170160" y="3932280"/>
              <a:ext cx="29196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3232080" y="3976560"/>
              <a:ext cx="279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TextBox 35"/>
          <p:cNvGrpSpPr/>
          <p:nvPr/>
        </p:nvGrpSpPr>
        <p:grpSpPr>
          <a:xfrm>
            <a:off x="3157560" y="6072120"/>
            <a:ext cx="2914560" cy="547920"/>
            <a:chOff x="3157560" y="6072120"/>
            <a:chExt cx="2914560" cy="547920"/>
          </a:xfrm>
        </p:grpSpPr>
        <p:pic>
          <p:nvPicPr>
            <p:cNvPr id="581" name="TextBox 35" descr=""/>
            <p:cNvPicPr/>
            <p:nvPr/>
          </p:nvPicPr>
          <p:blipFill>
            <a:blip r:embed="rId9"/>
            <a:stretch/>
          </p:blipFill>
          <p:spPr>
            <a:xfrm>
              <a:off x="3157560" y="6072120"/>
              <a:ext cx="2914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3218040" y="611964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TextBox 36"/>
          <p:cNvGrpSpPr/>
          <p:nvPr/>
        </p:nvGrpSpPr>
        <p:grpSpPr>
          <a:xfrm>
            <a:off x="6181560" y="2517840"/>
            <a:ext cx="2919600" cy="549360"/>
            <a:chOff x="6181560" y="2517840"/>
            <a:chExt cx="2919600" cy="549360"/>
          </a:xfrm>
        </p:grpSpPr>
        <p:pic>
          <p:nvPicPr>
            <p:cNvPr id="584" name="TextBox 36" descr=""/>
            <p:cNvPicPr/>
            <p:nvPr/>
          </p:nvPicPr>
          <p:blipFill>
            <a:blip r:embed="rId10"/>
            <a:stretch/>
          </p:blipFill>
          <p:spPr>
            <a:xfrm>
              <a:off x="6181560" y="2517840"/>
              <a:ext cx="29196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6243480" y="2565360"/>
              <a:ext cx="27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TextBox 37"/>
          <p:cNvGrpSpPr/>
          <p:nvPr/>
        </p:nvGrpSpPr>
        <p:grpSpPr>
          <a:xfrm>
            <a:off x="6175440" y="6059520"/>
            <a:ext cx="2919240" cy="542880"/>
            <a:chOff x="6175440" y="6059520"/>
            <a:chExt cx="2919240" cy="542880"/>
          </a:xfrm>
        </p:grpSpPr>
        <p:pic>
          <p:nvPicPr>
            <p:cNvPr id="587" name="TextBox 37" descr=""/>
            <p:cNvPicPr/>
            <p:nvPr/>
          </p:nvPicPr>
          <p:blipFill>
            <a:blip r:embed="rId11"/>
            <a:stretch/>
          </p:blipFill>
          <p:spPr>
            <a:xfrm>
              <a:off x="6175440" y="6059520"/>
              <a:ext cx="29192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237360" y="610560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TextBox 38"/>
          <p:cNvGrpSpPr/>
          <p:nvPr/>
        </p:nvGrpSpPr>
        <p:grpSpPr>
          <a:xfrm>
            <a:off x="6205680" y="4151160"/>
            <a:ext cx="2914560" cy="543240"/>
            <a:chOff x="6205680" y="4151160"/>
            <a:chExt cx="2914560" cy="543240"/>
          </a:xfrm>
        </p:grpSpPr>
        <p:pic>
          <p:nvPicPr>
            <p:cNvPr id="590" name="TextBox 38" descr=""/>
            <p:cNvPicPr/>
            <p:nvPr/>
          </p:nvPicPr>
          <p:blipFill>
            <a:blip r:embed="rId12"/>
            <a:stretch/>
          </p:blipFill>
          <p:spPr>
            <a:xfrm>
              <a:off x="6205680" y="4151160"/>
              <a:ext cx="291456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264360" y="419580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กลุ่ม 43"/>
          <p:cNvGrpSpPr/>
          <p:nvPr/>
        </p:nvGrpSpPr>
        <p:grpSpPr>
          <a:xfrm>
            <a:off x="2570040" y="4113360"/>
            <a:ext cx="720720" cy="404640"/>
            <a:chOff x="2570040" y="4113360"/>
            <a:chExt cx="720720" cy="404640"/>
          </a:xfrm>
        </p:grpSpPr>
        <p:grpSp>
          <p:nvGrpSpPr>
            <p:cNvPr id="593" name="วงรี 44"/>
            <p:cNvGrpSpPr/>
            <p:nvPr/>
          </p:nvGrpSpPr>
          <p:grpSpPr>
            <a:xfrm>
              <a:off x="2570040" y="4113360"/>
              <a:ext cx="700200" cy="372960"/>
              <a:chOff x="2570040" y="4113360"/>
              <a:chExt cx="700200" cy="372960"/>
            </a:xfrm>
          </p:grpSpPr>
          <p:pic>
            <p:nvPicPr>
              <p:cNvPr id="594" name="วงรี 4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70040" y="4113360"/>
                <a:ext cx="7002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2745360" y="4209840"/>
                <a:ext cx="347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TextBox 45" descr=""/>
            <p:cNvPicPr/>
            <p:nvPr/>
          </p:nvPicPr>
          <p:blipFill>
            <a:blip r:embed="rId14"/>
            <a:stretch/>
          </p:blipFill>
          <p:spPr>
            <a:xfrm>
              <a:off x="2575080" y="4141440"/>
              <a:ext cx="715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กลุ่ม 46"/>
          <p:cNvGrpSpPr/>
          <p:nvPr/>
        </p:nvGrpSpPr>
        <p:grpSpPr>
          <a:xfrm>
            <a:off x="2550960" y="5291280"/>
            <a:ext cx="720720" cy="404640"/>
            <a:chOff x="2550960" y="5291280"/>
            <a:chExt cx="720720" cy="404640"/>
          </a:xfrm>
        </p:grpSpPr>
        <p:grpSp>
          <p:nvGrpSpPr>
            <p:cNvPr id="598" name="วงรี 47"/>
            <p:cNvGrpSpPr/>
            <p:nvPr/>
          </p:nvGrpSpPr>
          <p:grpSpPr>
            <a:xfrm>
              <a:off x="2550960" y="5291280"/>
              <a:ext cx="694800" cy="372960"/>
              <a:chOff x="2550960" y="5291280"/>
              <a:chExt cx="694800" cy="372960"/>
            </a:xfrm>
          </p:grpSpPr>
          <p:pic>
            <p:nvPicPr>
              <p:cNvPr id="599" name="วงรี 4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50960" y="5291280"/>
                <a:ext cx="6948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2725560" y="5388480"/>
                <a:ext cx="34668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1" name="TextBox 48" descr=""/>
            <p:cNvPicPr/>
            <p:nvPr/>
          </p:nvPicPr>
          <p:blipFill>
            <a:blip r:embed="rId16"/>
            <a:stretch/>
          </p:blipFill>
          <p:spPr>
            <a:xfrm>
              <a:off x="2550960" y="5322960"/>
              <a:ext cx="72072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2" name="กลุ่ม 49"/>
          <p:cNvGrpSpPr/>
          <p:nvPr/>
        </p:nvGrpSpPr>
        <p:grpSpPr>
          <a:xfrm>
            <a:off x="5478480" y="1157400"/>
            <a:ext cx="720720" cy="404640"/>
            <a:chOff x="5478480" y="1157400"/>
            <a:chExt cx="720720" cy="404640"/>
          </a:xfrm>
        </p:grpSpPr>
        <p:grpSp>
          <p:nvGrpSpPr>
            <p:cNvPr id="603" name="วงรี 50"/>
            <p:cNvGrpSpPr/>
            <p:nvPr/>
          </p:nvGrpSpPr>
          <p:grpSpPr>
            <a:xfrm>
              <a:off x="5478480" y="1157400"/>
              <a:ext cx="700200" cy="372960"/>
              <a:chOff x="5478480" y="1157400"/>
              <a:chExt cx="700200" cy="372960"/>
            </a:xfrm>
          </p:grpSpPr>
          <p:pic>
            <p:nvPicPr>
              <p:cNvPr id="604" name="วงรี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5478480" y="1157400"/>
                <a:ext cx="7002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5654520" y="1254240"/>
                <a:ext cx="347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6" name="TextBox 51" descr=""/>
            <p:cNvPicPr/>
            <p:nvPr/>
          </p:nvPicPr>
          <p:blipFill>
            <a:blip r:embed="rId18"/>
            <a:stretch/>
          </p:blipFill>
          <p:spPr>
            <a:xfrm>
              <a:off x="5483520" y="1185480"/>
              <a:ext cx="715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กลุ่ม 52"/>
          <p:cNvGrpSpPr/>
          <p:nvPr/>
        </p:nvGrpSpPr>
        <p:grpSpPr>
          <a:xfrm>
            <a:off x="5497560" y="2546280"/>
            <a:ext cx="720720" cy="405000"/>
            <a:chOff x="5497560" y="2546280"/>
            <a:chExt cx="720720" cy="405000"/>
          </a:xfrm>
        </p:grpSpPr>
        <p:grpSp>
          <p:nvGrpSpPr>
            <p:cNvPr id="608" name="วงรี 53"/>
            <p:cNvGrpSpPr/>
            <p:nvPr/>
          </p:nvGrpSpPr>
          <p:grpSpPr>
            <a:xfrm>
              <a:off x="5497560" y="2546280"/>
              <a:ext cx="700200" cy="373320"/>
              <a:chOff x="5497560" y="2546280"/>
              <a:chExt cx="700200" cy="373320"/>
            </a:xfrm>
          </p:grpSpPr>
          <p:pic>
            <p:nvPicPr>
              <p:cNvPr id="609" name="วงรี 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97560" y="2546280"/>
                <a:ext cx="70020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>
                <a:off x="5673960" y="2642760"/>
                <a:ext cx="347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1" name="TextBox 54" descr=""/>
            <p:cNvPicPr/>
            <p:nvPr/>
          </p:nvPicPr>
          <p:blipFill>
            <a:blip r:embed="rId20"/>
            <a:stretch/>
          </p:blipFill>
          <p:spPr>
            <a:xfrm>
              <a:off x="5502600" y="2574360"/>
              <a:ext cx="71568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2" name="กลุ่ม 55"/>
          <p:cNvGrpSpPr/>
          <p:nvPr/>
        </p:nvGrpSpPr>
        <p:grpSpPr>
          <a:xfrm>
            <a:off x="5191200" y="4376880"/>
            <a:ext cx="1120680" cy="431640"/>
            <a:chOff x="5191200" y="4376880"/>
            <a:chExt cx="1120680" cy="431640"/>
          </a:xfrm>
        </p:grpSpPr>
        <p:grpSp>
          <p:nvGrpSpPr>
            <p:cNvPr id="613" name="วงรี 56"/>
            <p:cNvGrpSpPr/>
            <p:nvPr/>
          </p:nvGrpSpPr>
          <p:grpSpPr>
            <a:xfrm>
              <a:off x="5222160" y="4376880"/>
              <a:ext cx="965880" cy="406080"/>
              <a:chOff x="5222160" y="4376880"/>
              <a:chExt cx="965880" cy="406080"/>
            </a:xfrm>
          </p:grpSpPr>
          <p:pic>
            <p:nvPicPr>
              <p:cNvPr id="614" name="วงรี 56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22160" y="4376880"/>
                <a:ext cx="96588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437080" y="4480560"/>
                <a:ext cx="537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6" name="TextBox 57" descr=""/>
            <p:cNvPicPr/>
            <p:nvPr/>
          </p:nvPicPr>
          <p:blipFill>
            <a:blip r:embed="rId22"/>
            <a:stretch/>
          </p:blipFill>
          <p:spPr>
            <a:xfrm>
              <a:off x="5191200" y="4420800"/>
              <a:ext cx="11206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กลุ่ม 58"/>
          <p:cNvGrpSpPr/>
          <p:nvPr/>
        </p:nvGrpSpPr>
        <p:grpSpPr>
          <a:xfrm>
            <a:off x="8458200" y="4689360"/>
            <a:ext cx="720720" cy="405000"/>
            <a:chOff x="8458200" y="4689360"/>
            <a:chExt cx="720720" cy="405000"/>
          </a:xfrm>
        </p:grpSpPr>
        <p:grpSp>
          <p:nvGrpSpPr>
            <p:cNvPr id="618" name="วงรี 59"/>
            <p:cNvGrpSpPr/>
            <p:nvPr/>
          </p:nvGrpSpPr>
          <p:grpSpPr>
            <a:xfrm>
              <a:off x="8458200" y="4689360"/>
              <a:ext cx="694800" cy="373680"/>
              <a:chOff x="8458200" y="4689360"/>
              <a:chExt cx="694800" cy="373680"/>
            </a:xfrm>
          </p:grpSpPr>
          <p:pic>
            <p:nvPicPr>
              <p:cNvPr id="619" name="วงรี 59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58200" y="4689360"/>
                <a:ext cx="694800" cy="37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8633160" y="4786920"/>
                <a:ext cx="34668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1" name="TextBox 60" descr=""/>
            <p:cNvPicPr/>
            <p:nvPr/>
          </p:nvPicPr>
          <p:blipFill>
            <a:blip r:embed="rId24"/>
            <a:stretch/>
          </p:blipFill>
          <p:spPr>
            <a:xfrm>
              <a:off x="8458200" y="4720680"/>
              <a:ext cx="720720" cy="37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" name="กลุ่ม 61"/>
          <p:cNvGrpSpPr/>
          <p:nvPr/>
        </p:nvGrpSpPr>
        <p:grpSpPr>
          <a:xfrm>
            <a:off x="8483760" y="2987640"/>
            <a:ext cx="718920" cy="405000"/>
            <a:chOff x="8483760" y="2987640"/>
            <a:chExt cx="718920" cy="405000"/>
          </a:xfrm>
        </p:grpSpPr>
        <p:grpSp>
          <p:nvGrpSpPr>
            <p:cNvPr id="623" name="วงรี 62"/>
            <p:cNvGrpSpPr/>
            <p:nvPr/>
          </p:nvGrpSpPr>
          <p:grpSpPr>
            <a:xfrm>
              <a:off x="8483760" y="2987640"/>
              <a:ext cx="693360" cy="376920"/>
              <a:chOff x="8483760" y="2987640"/>
              <a:chExt cx="693360" cy="376920"/>
            </a:xfrm>
          </p:grpSpPr>
          <p:pic>
            <p:nvPicPr>
              <p:cNvPr id="624" name="วงรี 62" descr=""/>
              <p:cNvPicPr/>
              <p:nvPr/>
            </p:nvPicPr>
            <p:blipFill>
              <a:blip r:embed="rId25"/>
              <a:stretch/>
            </p:blipFill>
            <p:spPr>
              <a:xfrm>
                <a:off x="8483760" y="2987640"/>
                <a:ext cx="693360" cy="3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8658720" y="3085560"/>
                <a:ext cx="3452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6" name="TextBox 63" descr=""/>
            <p:cNvPicPr/>
            <p:nvPr/>
          </p:nvPicPr>
          <p:blipFill>
            <a:blip r:embed="rId26"/>
            <a:stretch/>
          </p:blipFill>
          <p:spPr>
            <a:xfrm>
              <a:off x="8483760" y="3019320"/>
              <a:ext cx="71892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กลุ่ม 64"/>
          <p:cNvGrpSpPr/>
          <p:nvPr/>
        </p:nvGrpSpPr>
        <p:grpSpPr>
          <a:xfrm>
            <a:off x="8475840" y="1120680"/>
            <a:ext cx="718920" cy="405000"/>
            <a:chOff x="8475840" y="1120680"/>
            <a:chExt cx="718920" cy="405000"/>
          </a:xfrm>
        </p:grpSpPr>
        <p:grpSp>
          <p:nvGrpSpPr>
            <p:cNvPr id="628" name="วงรี 65"/>
            <p:cNvGrpSpPr/>
            <p:nvPr/>
          </p:nvGrpSpPr>
          <p:grpSpPr>
            <a:xfrm>
              <a:off x="8475840" y="1120680"/>
              <a:ext cx="698400" cy="373320"/>
              <a:chOff x="8475840" y="1120680"/>
              <a:chExt cx="698400" cy="373320"/>
            </a:xfrm>
          </p:grpSpPr>
          <p:pic>
            <p:nvPicPr>
              <p:cNvPr id="629" name="วงรี 65" descr=""/>
              <p:cNvPicPr/>
              <p:nvPr/>
            </p:nvPicPr>
            <p:blipFill>
              <a:blip r:embed="rId27"/>
              <a:stretch/>
            </p:blipFill>
            <p:spPr>
              <a:xfrm>
                <a:off x="8475840" y="1120680"/>
                <a:ext cx="69840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8650440" y="1217880"/>
                <a:ext cx="34776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1" name="TextBox 66" descr=""/>
            <p:cNvPicPr/>
            <p:nvPr/>
          </p:nvPicPr>
          <p:blipFill>
            <a:blip r:embed="rId28"/>
            <a:stretch/>
          </p:blipFill>
          <p:spPr>
            <a:xfrm>
              <a:off x="8475840" y="1148760"/>
              <a:ext cx="718920" cy="3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Box 60"/>
          <p:cNvSpPr/>
          <p:nvPr/>
        </p:nvSpPr>
        <p:spPr>
          <a:xfrm rot="20221800">
            <a:off x="-195840" y="633240"/>
            <a:ext cx="222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วมน้ำหนักคะแนน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900" spc="-1" strike="noStrike">
                <a:solidFill>
                  <a:srgbClr val="000000"/>
                </a:solidFill>
                <a:latin typeface="TH Kodchasal"/>
                <a:ea typeface="TH Kodchasal"/>
              </a:rPr>
              <a:t>10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9"/>
          <a:stretch/>
        </p:blipFill>
        <p:spPr>
          <a:xfrm>
            <a:off x="193680" y="246240"/>
            <a:ext cx="665280" cy="512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สี่เหลี่ยมผืนผ้า 51"/>
          <p:cNvSpPr/>
          <p:nvPr/>
        </p:nvSpPr>
        <p:spPr>
          <a:xfrm>
            <a:off x="-11160" y="5100480"/>
            <a:ext cx="9155160" cy="1757520"/>
          </a:xfrm>
          <a:prstGeom prst="rect">
            <a:avLst/>
          </a:prstGeom>
          <a:solidFill>
            <a:srgbClr val="ffda65">
              <a:alpha val="9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สี่เหลี่ยมผืนผ้า 6" descr=""/>
          <p:cNvPicPr/>
          <p:nvPr/>
        </p:nvPicPr>
        <p:blipFill>
          <a:blip r:embed="rId1"/>
          <a:stretch/>
        </p:blipFill>
        <p:spPr>
          <a:xfrm>
            <a:off x="-85680" y="-92160"/>
            <a:ext cx="9302760" cy="1177920"/>
          </a:xfrm>
          <a:prstGeom prst="rect">
            <a:avLst/>
          </a:prstGeom>
          <a:ln w="0">
            <a:noFill/>
          </a:ln>
        </p:spPr>
      </p:pic>
      <p:sp>
        <p:nvSpPr>
          <p:cNvPr id="636" name="สี่เหลี่ยมผืนผ้า 7"/>
          <p:cNvSpPr/>
          <p:nvPr/>
        </p:nvSpPr>
        <p:spPr>
          <a:xfrm>
            <a:off x="-20520" y="870120"/>
            <a:ext cx="9155160" cy="4254480"/>
          </a:xfrm>
          <a:prstGeom prst="rect">
            <a:avLst/>
          </a:prstGeom>
          <a:solidFill>
            <a:srgbClr val="e5f4e0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2"/>
          <p:cNvSpPr/>
          <p:nvPr/>
        </p:nvSpPr>
        <p:spPr>
          <a:xfrm>
            <a:off x="3714840" y="2577960"/>
            <a:ext cx="18255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Key in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น ระบบ </a:t>
            </a: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2749680" y="1620720"/>
            <a:ext cx="3655800" cy="82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งานผลการดำเนิน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ตามคำรับรองของปฏิรูปที่ดิน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4"/>
          <p:cNvSpPr/>
          <p:nvPr/>
        </p:nvSpPr>
        <p:spPr>
          <a:xfrm>
            <a:off x="3681360" y="896760"/>
            <a:ext cx="182736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60"/>
          <p:cNvSpPr/>
          <p:nvPr/>
        </p:nvSpPr>
        <p:spPr>
          <a:xfrm>
            <a:off x="4484520" y="2311560"/>
            <a:ext cx="325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ภายในวันที่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28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มีนาคม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2561 (9.00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น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60"/>
          <p:cNvSpPr/>
          <p:nvPr/>
        </p:nvSpPr>
        <p:spPr>
          <a:xfrm>
            <a:off x="4832280" y="1347840"/>
            <a:ext cx="18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จำนวน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10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8"/>
          <p:cNvSpPr/>
          <p:nvPr/>
        </p:nvSpPr>
        <p:spPr>
          <a:xfrm>
            <a:off x="2738520" y="3336840"/>
            <a:ext cx="3655800" cy="82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กลุ่มติดตามฯ สวผ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รุปรายงานผ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ดำเนินงานตามตัวชี้วัดของปฏิรูปที่ดิน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ลูกศรเชื่อมต่อแบบตรง 4"/>
          <p:cNvCxnSpPr>
            <a:stCxn id="639" idx="2"/>
          </p:cNvCxnSpPr>
          <p:nvPr/>
        </p:nvCxnSpPr>
        <p:spPr>
          <a:xfrm>
            <a:off x="4595400" y="1235160"/>
            <a:ext cx="1080" cy="365760"/>
          </a:xfrm>
          <a:prstGeom prst="straightConnector1">
            <a:avLst/>
          </a:prstGeom>
          <a:ln w="28440">
            <a:solidFill>
              <a:srgbClr val="cc00ff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44" name="ลูกศรเชื่อมต่อแบบตรง 22"/>
          <p:cNvCxnSpPr/>
          <p:nvPr/>
        </p:nvCxnSpPr>
        <p:spPr>
          <a:xfrm>
            <a:off x="4613040" y="2212920"/>
            <a:ext cx="1080" cy="365760"/>
          </a:xfrm>
          <a:prstGeom prst="straightConnector1">
            <a:avLst/>
          </a:prstGeom>
          <a:ln w="28440">
            <a:solidFill>
              <a:srgbClr val="cc00ff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45" name="ลูกศรเชื่อมต่อแบบตรง 23"/>
          <p:cNvCxnSpPr/>
          <p:nvPr/>
        </p:nvCxnSpPr>
        <p:spPr>
          <a:xfrm>
            <a:off x="4613040" y="2971800"/>
            <a:ext cx="1080" cy="365760"/>
          </a:xfrm>
          <a:prstGeom prst="straightConnector1">
            <a:avLst/>
          </a:prstGeom>
          <a:ln w="28440">
            <a:solidFill>
              <a:srgbClr val="cc00ff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46" name="ลูกศรเชื่อมต่อแบบตรง 24"/>
          <p:cNvCxnSpPr/>
          <p:nvPr/>
        </p:nvCxnSpPr>
        <p:spPr>
          <a:xfrm>
            <a:off x="7014960" y="1919160"/>
            <a:ext cx="5400" cy="3534480"/>
          </a:xfrm>
          <a:prstGeom prst="straightConnector1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647" name="ลูกศรเชื่อมต่อแบบตรง 29"/>
          <p:cNvCxnSpPr/>
          <p:nvPr/>
        </p:nvCxnSpPr>
        <p:spPr>
          <a:xfrm flipV="1">
            <a:off x="5754240" y="3911760"/>
            <a:ext cx="1080" cy="273240"/>
          </a:xfrm>
          <a:prstGeom prst="straightConnector1">
            <a:avLst/>
          </a:prstGeom>
          <a:ln w="28440">
            <a:solidFill>
              <a:srgbClr val="cc00ff"/>
            </a:solidFill>
            <a:miter/>
            <a:headEnd len="med" type="oval" w="med"/>
            <a:tailEnd len="med" type="triangle" w="med"/>
          </a:ln>
        </p:spPr>
      </p:cxnSp>
      <p:sp>
        <p:nvSpPr>
          <p:cNvPr id="648" name="แผนผังลำดับงาน: แยก 25"/>
          <p:cNvSpPr/>
          <p:nvPr/>
        </p:nvSpPr>
        <p:spPr>
          <a:xfrm rot="5400000">
            <a:off x="6530040" y="3269160"/>
            <a:ext cx="585720" cy="72072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ลูกศรเชื่อมต่อแบบตรง 32"/>
          <p:cNvCxnSpPr/>
          <p:nvPr/>
        </p:nvCxnSpPr>
        <p:spPr>
          <a:xfrm>
            <a:off x="4613040" y="3922200"/>
            <a:ext cx="1080" cy="662760"/>
          </a:xfrm>
          <a:prstGeom prst="straightConnector1">
            <a:avLst/>
          </a:prstGeom>
          <a:ln w="28440">
            <a:solidFill>
              <a:srgbClr val="cc00ff"/>
            </a:solidFill>
            <a:miter/>
            <a:headEnd len="med" type="oval" w="med"/>
            <a:tailEnd len="med" type="triangle" w="med"/>
          </a:ln>
        </p:spPr>
      </p:cxnSp>
      <p:sp>
        <p:nvSpPr>
          <p:cNvPr id="650" name="TextBox 60"/>
          <p:cNvSpPr/>
          <p:nvPr/>
        </p:nvSpPr>
        <p:spPr>
          <a:xfrm>
            <a:off x="4556160" y="3056040"/>
            <a:ext cx="24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ภายในวันที่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5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เมษายน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25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ลูกศรเชื่อมต่อแบบตรง 35"/>
          <p:cNvCxnSpPr/>
          <p:nvPr/>
        </p:nvCxnSpPr>
        <p:spPr>
          <a:xfrm flipV="1">
            <a:off x="1356840" y="3882240"/>
            <a:ext cx="1080" cy="275400"/>
          </a:xfrm>
          <a:prstGeom prst="straightConnector1">
            <a:avLst/>
          </a:prstGeom>
          <a:ln w="28440">
            <a:solidFill>
              <a:srgbClr val="cc00ff"/>
            </a:solidFill>
            <a:miter/>
            <a:headEnd len="med" type="oval" w="med"/>
            <a:tailEnd len="med" type="triangle" w="med"/>
          </a:ln>
        </p:spPr>
      </p:cxnSp>
      <p:sp>
        <p:nvSpPr>
          <p:cNvPr id="652" name="TextBox 36"/>
          <p:cNvSpPr/>
          <p:nvPr/>
        </p:nvSpPr>
        <p:spPr>
          <a:xfrm>
            <a:off x="23760" y="3033720"/>
            <a:ext cx="182556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กพร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. 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งานผล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3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แผนผังลำดับงาน: แยก 38"/>
          <p:cNvSpPr/>
          <p:nvPr/>
        </p:nvSpPr>
        <p:spPr>
          <a:xfrm flipH="1" rot="16200000">
            <a:off x="1999440" y="3269160"/>
            <a:ext cx="585720" cy="72072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39"/>
          <p:cNvSpPr/>
          <p:nvPr/>
        </p:nvSpPr>
        <p:spPr>
          <a:xfrm>
            <a:off x="3616200" y="4578480"/>
            <a:ext cx="197820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สนอ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ผู้บริหาร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พิจารณ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แผนผังลําดับงาน: การตัดสินใจ 7167"/>
          <p:cNvSpPr/>
          <p:nvPr/>
        </p:nvSpPr>
        <p:spPr>
          <a:xfrm>
            <a:off x="749160" y="2706840"/>
            <a:ext cx="216000" cy="30780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กลุ่ม 7168"/>
          <p:cNvGrpSpPr/>
          <p:nvPr/>
        </p:nvGrpSpPr>
        <p:grpSpPr>
          <a:xfrm>
            <a:off x="41400" y="1973160"/>
            <a:ext cx="1860480" cy="709560"/>
            <a:chOff x="41400" y="1973160"/>
            <a:chExt cx="1860480" cy="709560"/>
          </a:xfrm>
        </p:grpSpPr>
        <p:pic>
          <p:nvPicPr>
            <p:cNvPr id="657" name="Picture 3" descr=""/>
            <p:cNvPicPr/>
            <p:nvPr/>
          </p:nvPicPr>
          <p:blipFill>
            <a:blip r:embed="rId2"/>
            <a:stretch/>
          </p:blipFill>
          <p:spPr>
            <a:xfrm>
              <a:off x="41400" y="1973160"/>
              <a:ext cx="186048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สี่เหลี่ยมผืนผ้า 43"/>
            <p:cNvSpPr/>
            <p:nvPr/>
          </p:nvSpPr>
          <p:spPr>
            <a:xfrm>
              <a:off x="96120" y="2001960"/>
              <a:ext cx="1715760" cy="594360"/>
            </a:xfrm>
            <a:prstGeom prst="rect">
              <a:avLst/>
            </a:prstGeom>
            <a:noFill/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Picture 2" descr="Image result for รูปกราฟฟิก+คอม"/>
          <p:cNvPicPr/>
          <p:nvPr/>
        </p:nvPicPr>
        <p:blipFill>
          <a:blip r:embed="rId3"/>
          <a:stretch/>
        </p:blipFill>
        <p:spPr>
          <a:xfrm>
            <a:off x="2738520" y="2371680"/>
            <a:ext cx="882720" cy="824040"/>
          </a:xfrm>
          <a:prstGeom prst="rect">
            <a:avLst/>
          </a:prstGeom>
          <a:ln w="0">
            <a:noFill/>
          </a:ln>
        </p:spPr>
      </p:pic>
      <p:cxnSp>
        <p:nvCxnSpPr>
          <p:cNvPr id="660" name="ลูกศรเชื่อมต่อแบบตรง 46"/>
          <p:cNvCxnSpPr/>
          <p:nvPr/>
        </p:nvCxnSpPr>
        <p:spPr>
          <a:xfrm>
            <a:off x="4627080" y="4917960"/>
            <a:ext cx="10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triangle" w="med"/>
          </a:ln>
        </p:spPr>
      </p:cxnSp>
      <p:sp>
        <p:nvSpPr>
          <p:cNvPr id="661" name="TextBox 47"/>
          <p:cNvSpPr/>
          <p:nvPr/>
        </p:nvSpPr>
        <p:spPr>
          <a:xfrm>
            <a:off x="3638520" y="5394240"/>
            <a:ext cx="1978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กจ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รูปห้าเหลี่ยม 7171" descr=""/>
          <p:cNvPicPr/>
          <p:nvPr/>
        </p:nvPicPr>
        <p:blipFill>
          <a:blip r:embed="rId4"/>
          <a:stretch/>
        </p:blipFill>
        <p:spPr>
          <a:xfrm>
            <a:off x="-23760" y="944640"/>
            <a:ext cx="1974960" cy="622080"/>
          </a:xfrm>
          <a:prstGeom prst="rect">
            <a:avLst/>
          </a:prstGeom>
          <a:ln w="0">
            <a:noFill/>
          </a:ln>
        </p:spPr>
      </p:pic>
      <p:pic>
        <p:nvPicPr>
          <p:cNvPr id="663" name="รูปห้าเหลี่ยม 50" descr=""/>
          <p:cNvPicPr/>
          <p:nvPr/>
        </p:nvPicPr>
        <p:blipFill>
          <a:blip r:embed="rId5"/>
          <a:stretch/>
        </p:blipFill>
        <p:spPr>
          <a:xfrm>
            <a:off x="12600" y="5230800"/>
            <a:ext cx="1974960" cy="615960"/>
          </a:xfrm>
          <a:prstGeom prst="rect">
            <a:avLst/>
          </a:prstGeom>
          <a:ln w="0">
            <a:noFill/>
          </a:ln>
        </p:spPr>
      </p:pic>
      <p:cxnSp>
        <p:nvCxnSpPr>
          <p:cNvPr id="664" name="ลูกศรเชื่อมต่อแบบตรง 27"/>
          <p:cNvCxnSpPr/>
          <p:nvPr/>
        </p:nvCxnSpPr>
        <p:spPr>
          <a:xfrm flipH="1">
            <a:off x="1350720" y="4182840"/>
            <a:ext cx="5944320" cy="1080"/>
          </a:xfrm>
          <a:prstGeom prst="straightConnector1">
            <a:avLst/>
          </a:prstGeom>
          <a:ln w="28440">
            <a:solidFill>
              <a:srgbClr val="cc00ff"/>
            </a:solidFill>
            <a:miter/>
          </a:ln>
        </p:spPr>
      </p:cxnSp>
      <p:cxnSp>
        <p:nvCxnSpPr>
          <p:cNvPr id="665" name="ลูกศรเชื่อมต่อแบบตรง 54"/>
          <p:cNvCxnSpPr/>
          <p:nvPr/>
        </p:nvCxnSpPr>
        <p:spPr>
          <a:xfrm>
            <a:off x="6405480" y="1882440"/>
            <a:ext cx="6105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6" name="ลูกศรเชื่อมต่อแบบตรง 56"/>
          <p:cNvCxnSpPr/>
          <p:nvPr/>
        </p:nvCxnSpPr>
        <p:spPr>
          <a:xfrm flipH="1">
            <a:off x="5616000" y="5452560"/>
            <a:ext cx="139932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triangle" w="med"/>
          </a:ln>
        </p:spPr>
      </p:cxnSp>
      <p:sp>
        <p:nvSpPr>
          <p:cNvPr id="667" name="TextBox 19"/>
          <p:cNvSpPr/>
          <p:nvPr/>
        </p:nvSpPr>
        <p:spPr>
          <a:xfrm>
            <a:off x="7253280" y="2768760"/>
            <a:ext cx="1827360" cy="204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สำนัก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ก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ผู้รับผิดชอบ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รวจสอบเอกสาร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หลักฐาน เพื่อยืนยันข้อมูลความถูกต้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นระบบ </a:t>
            </a: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60"/>
          <p:cNvSpPr/>
          <p:nvPr/>
        </p:nvSpPr>
        <p:spPr>
          <a:xfrm>
            <a:off x="4643280" y="5137200"/>
            <a:ext cx="24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ภายในวันที่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10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เมษายน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25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9"/>
          <p:cNvSpPr/>
          <p:nvPr/>
        </p:nvSpPr>
        <p:spPr>
          <a:xfrm>
            <a:off x="3059280" y="6237360"/>
            <a:ext cx="3168360" cy="82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สนอ เลขาธิการ 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พิจารณ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ผลการปฏิบัติราชการและบริหารวงเง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ลูกศรเชื่อมต่อแบบตรง 60"/>
          <p:cNvCxnSpPr/>
          <p:nvPr/>
        </p:nvCxnSpPr>
        <p:spPr>
          <a:xfrm>
            <a:off x="4642920" y="5749920"/>
            <a:ext cx="10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triangle" w="med"/>
          </a:ln>
        </p:spPr>
      </p:cxnSp>
      <p:sp>
        <p:nvSpPr>
          <p:cNvPr id="671" name="TextBox 62"/>
          <p:cNvSpPr/>
          <p:nvPr/>
        </p:nvSpPr>
        <p:spPr>
          <a:xfrm>
            <a:off x="1582560" y="511164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แบบสรุปการประเมินการปฏิบัติราช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60"/>
          <p:cNvSpPr/>
          <p:nvPr/>
        </p:nvSpPr>
        <p:spPr>
          <a:xfrm>
            <a:off x="-179280" y="171144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ภายในวันที่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2-12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cs typeface="TH Kodchasal"/>
              </a:rPr>
              <a:t>เมษายน </a:t>
            </a:r>
            <a:r>
              <a:rPr b="1" lang="th-TH" sz="1600" spc="-1" strike="noStrike">
                <a:solidFill>
                  <a:srgbClr val="ff0000"/>
                </a:solidFill>
                <a:latin typeface="TH Kodchasal"/>
                <a:ea typeface="TH Kodchasal"/>
              </a:rPr>
              <a:t>25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Image result for โลโก้สำนักงาน ก.พ.ร."/>
          <p:cNvPicPr/>
          <p:nvPr/>
        </p:nvPicPr>
        <p:blipFill>
          <a:blip r:embed="rId6"/>
          <a:stretch/>
        </p:blipFill>
        <p:spPr>
          <a:xfrm>
            <a:off x="1703520" y="2030400"/>
            <a:ext cx="588960" cy="495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0" descr="Image result for การประเมินผลการปฏิบัติราชการ"/>
          <p:cNvPicPr/>
          <p:nvPr/>
        </p:nvPicPr>
        <p:blipFill>
          <a:blip r:embed="rId7"/>
          <a:stretch/>
        </p:blipFill>
        <p:spPr>
          <a:xfrm>
            <a:off x="6723000" y="9349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Image result for รูปกราฟฟิก+check list"/>
          <p:cNvPicPr/>
          <p:nvPr/>
        </p:nvPicPr>
        <p:blipFill>
          <a:blip r:embed="rId8"/>
          <a:stretch/>
        </p:blipFill>
        <p:spPr>
          <a:xfrm>
            <a:off x="8074080" y="1511280"/>
            <a:ext cx="919080" cy="1189080"/>
          </a:xfrm>
          <a:prstGeom prst="rect">
            <a:avLst/>
          </a:prstGeom>
          <a:ln w="0">
            <a:noFill/>
          </a:ln>
        </p:spPr>
      </p:pic>
      <p:sp>
        <p:nvSpPr>
          <p:cNvPr id="676" name="TextBox 67"/>
          <p:cNvSpPr/>
          <p:nvPr/>
        </p:nvSpPr>
        <p:spPr>
          <a:xfrm>
            <a:off x="2066760" y="5746680"/>
            <a:ext cx="272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แบบสรุปการประเมินผลสัมฤทธิ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68"/>
          <p:cNvSpPr/>
          <p:nvPr/>
        </p:nvSpPr>
        <p:spPr>
          <a:xfrm>
            <a:off x="4514760" y="5745240"/>
            <a:ext cx="272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แบบสรุปการประเมินสมรรถน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ff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3333ff"/>
                </a:solidFill>
                <a:latin typeface="TH Kodchasal"/>
                <a:ea typeface="TH Kodchas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10"/>
          <p:cNvSpPr/>
          <p:nvPr/>
        </p:nvSpPr>
        <p:spPr>
          <a:xfrm>
            <a:off x="495360" y="92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2" descr="Image result for เงินเดือน"/>
          <p:cNvPicPr/>
          <p:nvPr/>
        </p:nvPicPr>
        <p:blipFill>
          <a:blip r:embed="rId9"/>
          <a:stretch/>
        </p:blipFill>
        <p:spPr>
          <a:xfrm>
            <a:off x="281160" y="5864400"/>
            <a:ext cx="1352520" cy="8902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6" descr="Image result for เงินเดือน"/>
          <p:cNvPicPr/>
          <p:nvPr/>
        </p:nvPicPr>
        <p:blipFill>
          <a:blip r:embed="rId10"/>
          <a:stretch/>
        </p:blipFill>
        <p:spPr>
          <a:xfrm>
            <a:off x="7647120" y="5452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1"/>
          <a:srcRect l="0" t="0" r="4196" b="63188"/>
          <a:stretch/>
        </p:blipFill>
        <p:spPr>
          <a:xfrm>
            <a:off x="1908000" y="3602160"/>
            <a:ext cx="2563920" cy="69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7461360" y="3281400"/>
            <a:ext cx="169524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</p:pic>
      <p:pic>
        <p:nvPicPr>
          <p:cNvPr id="212" name="สี่เหลี่ยมผืนผ้า 2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91756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13" name="กลุ่ม 5"/>
          <p:cNvGrpSpPr/>
          <p:nvPr/>
        </p:nvGrpSpPr>
        <p:grpSpPr>
          <a:xfrm>
            <a:off x="3132000" y="1476360"/>
            <a:ext cx="1592280" cy="1592280"/>
            <a:chOff x="3132000" y="1476360"/>
            <a:chExt cx="1592280" cy="1592280"/>
          </a:xfrm>
        </p:grpSpPr>
        <p:grpSp>
          <p:nvGrpSpPr>
            <p:cNvPr id="214" name="รูปร่าง 6"/>
            <p:cNvGrpSpPr/>
            <p:nvPr/>
          </p:nvGrpSpPr>
          <p:grpSpPr>
            <a:xfrm>
              <a:off x="3132000" y="1476360"/>
              <a:ext cx="1592280" cy="1592280"/>
              <a:chOff x="3132000" y="1476360"/>
              <a:chExt cx="1592280" cy="1592280"/>
            </a:xfrm>
          </p:grpSpPr>
          <p:pic>
            <p:nvPicPr>
              <p:cNvPr id="215" name="รูปร่าง 6" descr=""/>
              <p:cNvPicPr/>
              <p:nvPr/>
            </p:nvPicPr>
            <p:blipFill>
              <a:blip r:embed="rId4"/>
              <a:stretch/>
            </p:blipFill>
            <p:spPr>
              <a:xfrm>
                <a:off x="3132000" y="1476360"/>
                <a:ext cx="1592280" cy="159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 rot="20700000">
                <a:off x="3591360" y="1954080"/>
                <a:ext cx="672480" cy="6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รูปร่าง 4"/>
            <p:cNvSpPr/>
            <p:nvPr/>
          </p:nvSpPr>
          <p:spPr>
            <a:xfrm>
              <a:off x="3547440" y="1910160"/>
              <a:ext cx="7603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รูปร่าง 9"/>
          <p:cNvGrpSpPr/>
          <p:nvPr/>
        </p:nvGrpSpPr>
        <p:grpSpPr>
          <a:xfrm>
            <a:off x="3809880" y="2712960"/>
            <a:ext cx="1731960" cy="1809720"/>
            <a:chOff x="3809880" y="2712960"/>
            <a:chExt cx="1731960" cy="1809720"/>
          </a:xfrm>
        </p:grpSpPr>
        <p:pic>
          <p:nvPicPr>
            <p:cNvPr id="219" name="รูปร่าง 9" descr=""/>
            <p:cNvPicPr/>
            <p:nvPr/>
          </p:nvPicPr>
          <p:blipFill>
            <a:blip r:embed="rId5"/>
            <a:stretch/>
          </p:blipFill>
          <p:spPr>
            <a:xfrm>
              <a:off x="3809880" y="2712960"/>
              <a:ext cx="1731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rot="21288600">
              <a:off x="4281480" y="3213000"/>
              <a:ext cx="790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รูปร่าง 4"/>
          <p:cNvSpPr/>
          <p:nvPr/>
        </p:nvSpPr>
        <p:spPr>
          <a:xfrm>
            <a:off x="3516480" y="3300480"/>
            <a:ext cx="8935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รูปร่าง 12"/>
          <p:cNvGrpSpPr/>
          <p:nvPr/>
        </p:nvGrpSpPr>
        <p:grpSpPr>
          <a:xfrm>
            <a:off x="4413240" y="3913200"/>
            <a:ext cx="1871640" cy="1957320"/>
            <a:chOff x="4413240" y="3913200"/>
            <a:chExt cx="1871640" cy="1957320"/>
          </a:xfrm>
        </p:grpSpPr>
        <p:pic>
          <p:nvPicPr>
            <p:cNvPr id="223" name="รูปร่าง 12" descr=""/>
            <p:cNvPicPr/>
            <p:nvPr/>
          </p:nvPicPr>
          <p:blipFill>
            <a:blip r:embed="rId6"/>
            <a:stretch/>
          </p:blipFill>
          <p:spPr>
            <a:xfrm>
              <a:off x="4413240" y="3913200"/>
              <a:ext cx="18716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20700000">
              <a:off x="4956120" y="4497480"/>
              <a:ext cx="7891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รูปร่าง 15"/>
          <p:cNvGrpSpPr/>
          <p:nvPr/>
        </p:nvGrpSpPr>
        <p:grpSpPr>
          <a:xfrm>
            <a:off x="4535640" y="1189080"/>
            <a:ext cx="1871640" cy="1955880"/>
            <a:chOff x="4535640" y="1189080"/>
            <a:chExt cx="1871640" cy="1955880"/>
          </a:xfrm>
        </p:grpSpPr>
        <p:pic>
          <p:nvPicPr>
            <p:cNvPr id="226" name="รูปร่าง 15" descr=""/>
            <p:cNvPicPr/>
            <p:nvPr/>
          </p:nvPicPr>
          <p:blipFill>
            <a:blip r:embed="rId7"/>
            <a:stretch/>
          </p:blipFill>
          <p:spPr>
            <a:xfrm>
              <a:off x="4535640" y="1189080"/>
              <a:ext cx="187164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20700000">
              <a:off x="5073120" y="1773000"/>
              <a:ext cx="790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รูปร่าง 4"/>
          <p:cNvSpPr/>
          <p:nvPr/>
        </p:nvSpPr>
        <p:spPr>
          <a:xfrm>
            <a:off x="4973760" y="2617920"/>
            <a:ext cx="8935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สี่เหลี่ยมผืนผ้า 17"/>
          <p:cNvSpPr/>
          <p:nvPr/>
        </p:nvSpPr>
        <p:spPr>
          <a:xfrm>
            <a:off x="220680" y="1573200"/>
            <a:ext cx="2982960" cy="196056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รูปร่าง 26"/>
          <p:cNvGrpSpPr/>
          <p:nvPr/>
        </p:nvGrpSpPr>
        <p:grpSpPr>
          <a:xfrm>
            <a:off x="3029040" y="3919680"/>
            <a:ext cx="1871640" cy="1963440"/>
            <a:chOff x="3029040" y="3919680"/>
            <a:chExt cx="1871640" cy="1963440"/>
          </a:xfrm>
        </p:grpSpPr>
        <p:pic>
          <p:nvPicPr>
            <p:cNvPr id="231" name="รูปร่าง 26" descr=""/>
            <p:cNvPicPr/>
            <p:nvPr/>
          </p:nvPicPr>
          <p:blipFill>
            <a:blip r:embed="rId8"/>
            <a:stretch/>
          </p:blipFill>
          <p:spPr>
            <a:xfrm>
              <a:off x="3029040" y="3919680"/>
              <a:ext cx="187164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700000">
              <a:off x="3568680" y="4508640"/>
              <a:ext cx="789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รูปร่าง 4"/>
          <p:cNvSpPr/>
          <p:nvPr/>
        </p:nvSpPr>
        <p:spPr>
          <a:xfrm>
            <a:off x="3583080" y="4994280"/>
            <a:ext cx="8935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กลุ่ม 18"/>
          <p:cNvGrpSpPr/>
          <p:nvPr/>
        </p:nvGrpSpPr>
        <p:grpSpPr>
          <a:xfrm>
            <a:off x="17640" y="1100160"/>
            <a:ext cx="2109600" cy="3408480"/>
            <a:chOff x="17640" y="1100160"/>
            <a:chExt cx="2109600" cy="3408480"/>
          </a:xfrm>
        </p:grpSpPr>
        <p:sp>
          <p:nvSpPr>
            <p:cNvPr id="235" name="สี่เหลี่ยมผืนผ้ามุมมน 19"/>
            <p:cNvSpPr/>
            <p:nvPr/>
          </p:nvSpPr>
          <p:spPr>
            <a:xfrm>
              <a:off x="17640" y="1100160"/>
              <a:ext cx="1932120" cy="6746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สี่เหลี่ยมผืนผ้ามุมมน 5"/>
            <p:cNvSpPr/>
            <p:nvPr/>
          </p:nvSpPr>
          <p:spPr>
            <a:xfrm>
              <a:off x="235080" y="3776760"/>
              <a:ext cx="1892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1280" rIns="161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TextBox 28" descr=""/>
          <p:cNvPicPr/>
          <p:nvPr/>
        </p:nvPicPr>
        <p:blipFill>
          <a:blip r:embed="rId9"/>
          <a:stretch/>
        </p:blipFill>
        <p:spPr>
          <a:xfrm>
            <a:off x="-36360" y="1096920"/>
            <a:ext cx="2017440" cy="8110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0"/>
          <p:cNvSpPr/>
          <p:nvPr/>
        </p:nvSpPr>
        <p:spPr>
          <a:xfrm>
            <a:off x="158760" y="1739880"/>
            <a:ext cx="3260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1.1 </a:t>
            </a:r>
            <a:r>
              <a:rPr b="1" lang="en-US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GDP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ภาคการเกษตรขยายตัวไม่ต่ำกว่าร้อยละ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1.2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รายได้เงินสดสุทธิทางการเกษตรของเกษตรกรเฉลี่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    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ต่อครัวเรือนเพิ่มขึ้น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(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บาท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/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ครัวเรือน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/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ปี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)</a:t>
            </a:r>
            <a:r>
              <a:rPr b="1" lang="en-US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3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การตรวจสอบการถือครองที่ดิ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นเขตปฏิรูปที่ดิ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4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ปัญหาการเข้าท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ะโยชน์ของเกษตรกรในเขตปฏิรูปที่ดิ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1.5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จำนวนเกษตรกรที่เป็น </a:t>
            </a:r>
            <a:r>
              <a:rPr b="1" lang="en-US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Smart 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H Kodchasal"/>
                <a:ea typeface="TH Kodchasal"/>
              </a:rPr>
              <a:t>1.6 </a:t>
            </a:r>
            <a:r>
              <a:rPr b="1" lang="th-TH" sz="1200" spc="-1" strike="noStrike">
                <a:solidFill>
                  <a:srgbClr val="ff0000"/>
                </a:solidFill>
                <a:latin typeface="TH Kodchasal"/>
                <a:cs typeface="TH Kodchasal"/>
              </a:rPr>
              <a:t>ผลการดำเนินการตามแนวทางเกษตรแปลงใหญ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สี่เหลี่ยมผืนผ้า 31"/>
          <p:cNvSpPr/>
          <p:nvPr/>
        </p:nvSpPr>
        <p:spPr>
          <a:xfrm>
            <a:off x="6167520" y="1557360"/>
            <a:ext cx="2982960" cy="150804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กลุ่ม 32"/>
          <p:cNvGrpSpPr/>
          <p:nvPr/>
        </p:nvGrpSpPr>
        <p:grpSpPr>
          <a:xfrm>
            <a:off x="5932440" y="1033560"/>
            <a:ext cx="2141640" cy="3227400"/>
            <a:chOff x="5932440" y="1033560"/>
            <a:chExt cx="2141640" cy="3227400"/>
          </a:xfrm>
        </p:grpSpPr>
        <p:grpSp>
          <p:nvGrpSpPr>
            <p:cNvPr id="241" name="กลุ่ม 33"/>
            <p:cNvGrpSpPr/>
            <p:nvPr/>
          </p:nvGrpSpPr>
          <p:grpSpPr>
            <a:xfrm>
              <a:off x="5965560" y="1033560"/>
              <a:ext cx="2108520" cy="3227400"/>
              <a:chOff x="5965560" y="1033560"/>
              <a:chExt cx="2108520" cy="3227400"/>
            </a:xfrm>
          </p:grpSpPr>
          <p:sp>
            <p:nvSpPr>
              <p:cNvPr id="242" name="สี่เหลี่ยมผืนผ้ามุมมน 35"/>
              <p:cNvSpPr/>
              <p:nvPr/>
            </p:nvSpPr>
            <p:spPr>
              <a:xfrm>
                <a:off x="5965560" y="1033560"/>
                <a:ext cx="1931040" cy="637920"/>
              </a:xfrm>
              <a:prstGeom prst="roundRect">
                <a:avLst>
                  <a:gd name="adj" fmla="val 16667"/>
                </a:avLst>
              </a:prstGeom>
              <a:solidFill>
                <a:srgbClr val="ff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สี่เหลี่ยมผืนผ้ามุมมน 5"/>
              <p:cNvSpPr/>
              <p:nvPr/>
            </p:nvSpPr>
            <p:spPr>
              <a:xfrm>
                <a:off x="6182640" y="3567240"/>
                <a:ext cx="189144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1280" rIns="161280" tIns="0" bIns="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349"/>
                  </a:spcAft>
                  <a:tabLst>
                    <a:tab algn="l" pos="0"/>
                    <a:tab algn="l" pos="1378080"/>
                    <a:tab algn="l" pos="2755800"/>
                    <a:tab algn="l" pos="4133880"/>
                    <a:tab algn="l" pos="5511960"/>
                    <a:tab algn="l" pos="6889680"/>
                    <a:tab algn="l" pos="8267760"/>
                    <a:tab algn="l" pos="96454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TextBox 34" descr=""/>
            <p:cNvPicPr/>
            <p:nvPr/>
          </p:nvPicPr>
          <p:blipFill>
            <a:blip r:embed="rId10"/>
            <a:stretch/>
          </p:blipFill>
          <p:spPr>
            <a:xfrm>
              <a:off x="5932440" y="1036080"/>
              <a:ext cx="2017080" cy="92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TextBox 37"/>
          <p:cNvSpPr/>
          <p:nvPr/>
        </p:nvSpPr>
        <p:spPr>
          <a:xfrm>
            <a:off x="6181560" y="1689120"/>
            <a:ext cx="3046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1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การสร้างความรับรู้ความเข้าใ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1.1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การดำเนินการตามแผนการสร้า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  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ความรับรู้ความเข้าใจแก่ประชาช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1.2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การชี้แจงประเด็นสำคัญที่ทันต่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  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ถานการณ์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ถ้ามี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2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ความสำเร็จของการจัดทำบัญชีสมดุล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Demand&amp;Supply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สินค้าเกษตรที่สำคัญ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สี่เหลี่ยมผืนผ้า 38"/>
          <p:cNvSpPr/>
          <p:nvPr/>
        </p:nvSpPr>
        <p:spPr>
          <a:xfrm>
            <a:off x="225360" y="4365720"/>
            <a:ext cx="3009960" cy="23032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สี่เหลี่ยมผืนผ้ามุมมน 42"/>
          <p:cNvSpPr/>
          <p:nvPr/>
        </p:nvSpPr>
        <p:spPr>
          <a:xfrm>
            <a:off x="33480" y="3716280"/>
            <a:ext cx="1931760" cy="673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Box 41" descr=""/>
          <p:cNvPicPr/>
          <p:nvPr/>
        </p:nvPicPr>
        <p:blipFill>
          <a:blip r:embed="rId11"/>
          <a:stretch/>
        </p:blipFill>
        <p:spPr>
          <a:xfrm>
            <a:off x="36360" y="3706920"/>
            <a:ext cx="2017800" cy="8096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4"/>
          <p:cNvSpPr/>
          <p:nvPr/>
        </p:nvSpPr>
        <p:spPr>
          <a:xfrm>
            <a:off x="189000" y="4437000"/>
            <a:ext cx="33940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4.1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พัฒนานวัตกรรม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ใช้อากาศยานไร้คนขับ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(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Dr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เพื่อจัดทำแผนที่ภาพถ่ายทางอากาศและแบบจำลองภูมิประเท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สามมิติกรณีพื้นที่พิพาทในเขตปฏิรูปที่ดิน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4.2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พัฒนาประสิทธิภาพการปฏิบัติงาน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(12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รื่อง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ลดพลังงาน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ลดกระดาษ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ประหยัดงบประมาณ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ใช้ระบบสารสนเทศ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ปราบปรามทุจริต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บูรณาการผลงาน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ทำเนียบผู้แทนเกษตรกรออนไลน์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(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e-book</a:t>
            </a:r>
            <a:r>
              <a:rPr b="1" lang="en-US" sz="1400" spc="-1" strike="noStrike">
                <a:solidFill>
                  <a:srgbClr val="0b5395"/>
                </a:solidFill>
                <a:latin typeface="JasmineUPC"/>
                <a:ea typeface="JasmineUPC"/>
              </a:rPr>
              <a:t>),</a:t>
            </a:r>
            <a:r>
              <a:rPr b="1" lang="th-TH" sz="1400" spc="-1" strike="noStrike">
                <a:solidFill>
                  <a:srgbClr val="0b5395"/>
                </a:solidFill>
                <a:latin typeface="JasmineUPC"/>
                <a:ea typeface="JasmineUPC"/>
              </a:rPr>
              <a:t>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โครงการอบรมเกี่ยวกับการป้องกันปราบปรามการทุจริตผ่านทาง  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Web C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เพิ่มช่องทางการชำระหนี้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พัฒนาบุคลากรด้านกฎหม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ตามแนวคิดของ 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Unit school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พัฒนาระบบฐานข้อมูล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ำหนดเขตปฏิรูปที่ดิน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เร่งรัดการเบิกจ่ายงบประมา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สี่เหลี่ยมผืนผ้า 45"/>
          <p:cNvSpPr/>
          <p:nvPr/>
        </p:nvSpPr>
        <p:spPr>
          <a:xfrm>
            <a:off x="6173640" y="4970520"/>
            <a:ext cx="2982960" cy="133812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กลุ่ม 52"/>
          <p:cNvGrpSpPr/>
          <p:nvPr/>
        </p:nvGrpSpPr>
        <p:grpSpPr>
          <a:xfrm>
            <a:off x="6081840" y="4437000"/>
            <a:ext cx="2016000" cy="682560"/>
            <a:chOff x="6081840" y="4437000"/>
            <a:chExt cx="2016000" cy="682560"/>
          </a:xfrm>
        </p:grpSpPr>
        <p:sp>
          <p:nvSpPr>
            <p:cNvPr id="252" name="สี่เหลี่ยมผืนผ้ามุมมน 49"/>
            <p:cNvSpPr/>
            <p:nvPr/>
          </p:nvSpPr>
          <p:spPr>
            <a:xfrm>
              <a:off x="6092280" y="4451400"/>
              <a:ext cx="1936440" cy="556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TextBox 48" descr=""/>
            <p:cNvPicPr/>
            <p:nvPr/>
          </p:nvPicPr>
          <p:blipFill>
            <a:blip r:embed="rId12"/>
            <a:stretch/>
          </p:blipFill>
          <p:spPr>
            <a:xfrm>
              <a:off x="6081840" y="4437000"/>
              <a:ext cx="201600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Box 51"/>
          <p:cNvSpPr/>
          <p:nvPr/>
        </p:nvSpPr>
        <p:spPr>
          <a:xfrm>
            <a:off x="6188040" y="5103720"/>
            <a:ext cx="3044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5.1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จัดทำและดำเนินการตามแผนการขับเคลื่อ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ยุทธศาสตร์ชาติ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(10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)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ิจกรรมจัดที่ดิน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Smart Farmer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เกษตรกรอินทรีย์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ศพก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.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แปลงใหญ่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สมุนไพร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ทฤษฎีใหม่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en-US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Zoning by Agri-Map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วนเกษตร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ea typeface="JasmineUPC"/>
              </a:rPr>
              <a:t>, </a:t>
            </a:r>
            <a:r>
              <a:rPr b="1" lang="th-TH" sz="1200" spc="-1" strike="noStrike">
                <a:solidFill>
                  <a:srgbClr val="0b5395"/>
                </a:solidFill>
                <a:latin typeface="JasmineUPC"/>
                <a:cs typeface="JasmineUPC"/>
              </a:rPr>
              <a:t>การพัฒนา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H Kodchasal"/>
                <a:ea typeface="TH Kodchasal"/>
              </a:rPr>
              <a:t>5.2 </a:t>
            </a:r>
            <a:r>
              <a:rPr b="1" lang="th-TH" sz="12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ดำเนินการจัดทำแผนปฏิรูปองค์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สี่เหลี่ยมผืนผ้า 53"/>
          <p:cNvSpPr/>
          <p:nvPr/>
        </p:nvSpPr>
        <p:spPr>
          <a:xfrm>
            <a:off x="5475240" y="3825720"/>
            <a:ext cx="2082960" cy="40968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สี่เหลี่ยมผืนผ้ามุมมน 55"/>
          <p:cNvSpPr/>
          <p:nvPr/>
        </p:nvSpPr>
        <p:spPr>
          <a:xfrm>
            <a:off x="5396040" y="3292560"/>
            <a:ext cx="1931760" cy="6602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Box 56" descr=""/>
          <p:cNvPicPr/>
          <p:nvPr/>
        </p:nvPicPr>
        <p:blipFill>
          <a:blip r:embed="rId13"/>
          <a:stretch/>
        </p:blipFill>
        <p:spPr>
          <a:xfrm>
            <a:off x="5407200" y="3309840"/>
            <a:ext cx="2011320" cy="8114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7"/>
          <p:cNvSpPr/>
          <p:nvPr/>
        </p:nvSpPr>
        <p:spPr>
          <a:xfrm>
            <a:off x="5489640" y="395928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-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มี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3348000" y="1989000"/>
            <a:ext cx="117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ำน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6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59280" y="182736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ำน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3373560" y="4610160"/>
            <a:ext cx="117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ำน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3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1"/>
          <p:cNvSpPr/>
          <p:nvPr/>
        </p:nvSpPr>
        <p:spPr>
          <a:xfrm>
            <a:off x="4788000" y="4581360"/>
            <a:ext cx="117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ำน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1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TextBox 62"/>
          <p:cNvGrpSpPr/>
          <p:nvPr/>
        </p:nvGrpSpPr>
        <p:grpSpPr>
          <a:xfrm>
            <a:off x="4243320" y="5803920"/>
            <a:ext cx="1206720" cy="1328040"/>
            <a:chOff x="4243320" y="5803920"/>
            <a:chExt cx="1206720" cy="1328040"/>
          </a:xfrm>
        </p:grpSpPr>
        <p:pic>
          <p:nvPicPr>
            <p:cNvPr id="264" name="TextBox 62" descr=""/>
            <p:cNvPicPr/>
            <p:nvPr/>
          </p:nvPicPr>
          <p:blipFill>
            <a:blip r:embed="rId14"/>
            <a:stretch/>
          </p:blipFill>
          <p:spPr>
            <a:xfrm>
              <a:off x="4243320" y="5803920"/>
              <a:ext cx="1206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255920" y="5818320"/>
              <a:ext cx="1179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วมทั้งสิ้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33 </a:t>
              </a:r>
              <a:r>
                <a:rPr b="1" lang="th-TH" sz="20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ตัวชี้วั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7" descr="Image result for โลโก้สำนักงาน ก.พ.ร."/>
          <p:cNvPicPr/>
          <p:nvPr/>
        </p:nvPicPr>
        <p:blipFill>
          <a:blip r:embed="rId15"/>
          <a:stretch/>
        </p:blipFill>
        <p:spPr>
          <a:xfrm>
            <a:off x="4079880" y="739800"/>
            <a:ext cx="11476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สี่เหลี่ยมผืนผ้า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1104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2"/>
          <a:srcRect l="0" t="0" r="1965" b="0"/>
          <a:stretch/>
        </p:blipFill>
        <p:spPr>
          <a:xfrm>
            <a:off x="2475000" y="4137120"/>
            <a:ext cx="6597720" cy="2720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rcRect l="0" t="7030" r="0" b="0"/>
          <a:stretch/>
        </p:blipFill>
        <p:spPr>
          <a:xfrm>
            <a:off x="1536840" y="1041480"/>
            <a:ext cx="7607160" cy="3108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4"/>
          <a:stretch/>
        </p:blipFill>
        <p:spPr>
          <a:xfrm>
            <a:off x="-12600" y="1655640"/>
            <a:ext cx="2411280" cy="2494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5"/>
          <a:stretch/>
        </p:blipFill>
        <p:spPr>
          <a:xfrm>
            <a:off x="2398680" y="860400"/>
            <a:ext cx="675000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Image result for ตัวชี้วัด"/>
          <p:cNvPicPr/>
          <p:nvPr/>
        </p:nvPicPr>
        <p:blipFill>
          <a:blip r:embed="rId1"/>
          <a:stretch/>
        </p:blipFill>
        <p:spPr>
          <a:xfrm>
            <a:off x="1619280" y="2565360"/>
            <a:ext cx="6769080" cy="25290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7"/>
          <p:cNvSpPr/>
          <p:nvPr/>
        </p:nvSpPr>
        <p:spPr>
          <a:xfrm>
            <a:off x="198360" y="2868480"/>
            <a:ext cx="2789280" cy="1067400"/>
          </a:xfrm>
          <a:prstGeom prst="rect">
            <a:avLst/>
          </a:prstGeom>
          <a:solidFill>
            <a:srgbClr val="e5f4e0"/>
          </a:solidFill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ิดตามเร่งรัดการเบิกจ่ายงบลงทุ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210960" y="4319640"/>
            <a:ext cx="2772000" cy="824040"/>
          </a:xfrm>
          <a:prstGeom prst="rect">
            <a:avLst/>
          </a:prstGeom>
          <a:solidFill>
            <a:srgbClr val="b5edfd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จ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ดินแปลงเกษตรก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193680" y="5494320"/>
            <a:ext cx="2789280" cy="824040"/>
          </a:xfrm>
          <a:prstGeom prst="rect">
            <a:avLst/>
          </a:prstGeom>
          <a:solidFill>
            <a:srgbClr val="b5edfd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จ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ดินชุมช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3238560" y="1449360"/>
            <a:ext cx="2800440" cy="580680"/>
          </a:xfrm>
          <a:prstGeom prst="rect">
            <a:avLst/>
          </a:prstGeom>
          <a:solidFill>
            <a:srgbClr val="b5edfd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รวจสอบการถือครอง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3238560" y="2881440"/>
            <a:ext cx="2800440" cy="1554120"/>
          </a:xfrm>
          <a:prstGeom prst="rect">
            <a:avLst/>
          </a:prstGeom>
          <a:solidFill>
            <a:srgbClr val="b5edfd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6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ัญหาการเข้าทำประโยชน์ข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กษตรกรผู้กระทำผิดระเบียบ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นเขตปฏิรูปที่ดิ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3232080" y="4772160"/>
            <a:ext cx="2801880" cy="1797480"/>
          </a:xfrm>
          <a:prstGeom prst="rect">
            <a:avLst/>
          </a:prstGeom>
          <a:solidFill>
            <a:srgbClr val="ffffcc"/>
          </a:solidFill>
          <a:ln w="38160">
            <a:solidFill>
              <a:srgbClr val="fcf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7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พัฒน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กษตรกรตามแผนงานโครงการที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ด้รับการจัดสรร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ะจำปี พ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ศ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2561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6237360" y="1442880"/>
            <a:ext cx="2798640" cy="1310760"/>
          </a:xfrm>
          <a:prstGeom prst="rect">
            <a:avLst/>
          </a:prstGeom>
          <a:solidFill>
            <a:srgbClr val="c4efff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8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ปัญหาการครอบครองที่ดินในเขตปฏิรูปที่ดินเพื่อเกษตรกรรม โดยมิชอบด้วยกฎหมาย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มาตรา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6264360" y="3338640"/>
            <a:ext cx="2773440" cy="1067400"/>
          </a:xfrm>
          <a:prstGeom prst="rect">
            <a:avLst/>
          </a:prstGeom>
          <a:solidFill>
            <a:srgbClr val="dec8ee"/>
          </a:solidFill>
          <a:ln w="38160">
            <a:solidFill>
              <a:srgbClr val="c39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บริห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การหนี้เงินกองทุ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ฏิรูปที่ดินเพื่อเกษตรก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6254640" y="5000760"/>
            <a:ext cx="2776680" cy="1310760"/>
          </a:xfrm>
          <a:prstGeom prst="rect">
            <a:avLst/>
          </a:prstGeom>
          <a:solidFill>
            <a:srgbClr val="fde0db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0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พัฒนาการให้บริ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ก่เกษตรกรและผู้มีส่วนได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สี่เหลี่ยมผืนผ้า 31" descr=""/>
          <p:cNvPicPr/>
          <p:nvPr/>
        </p:nvPicPr>
        <p:blipFill>
          <a:blip r:embed="rId2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2"/>
          <p:cNvSpPr/>
          <p:nvPr/>
        </p:nvSpPr>
        <p:spPr>
          <a:xfrm>
            <a:off x="198360" y="1425600"/>
            <a:ext cx="2789280" cy="1310760"/>
          </a:xfrm>
          <a:prstGeom prst="rect">
            <a:avLst/>
          </a:prstGeom>
          <a:solidFill>
            <a:srgbClr val="e5f4e0"/>
          </a:solidFill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ติดตา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ร่งรัดการเบิกจ่ายงบประมาณใน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ภาพรวมของ 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ส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TextBox 23"/>
          <p:cNvGrpSpPr/>
          <p:nvPr/>
        </p:nvGrpSpPr>
        <p:grpSpPr>
          <a:xfrm>
            <a:off x="133200" y="2236680"/>
            <a:ext cx="2914920" cy="542880"/>
            <a:chOff x="133200" y="2236680"/>
            <a:chExt cx="2914920" cy="542880"/>
          </a:xfrm>
        </p:grpSpPr>
        <p:pic>
          <p:nvPicPr>
            <p:cNvPr id="285" name="TextBox 23" descr=""/>
            <p:cNvPicPr/>
            <p:nvPr/>
          </p:nvPicPr>
          <p:blipFill>
            <a:blip r:embed="rId3"/>
            <a:stretch/>
          </p:blipFill>
          <p:spPr>
            <a:xfrm>
              <a:off x="133200" y="2236680"/>
              <a:ext cx="2914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93680" y="228456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8"/>
          <p:cNvGrpSpPr/>
          <p:nvPr/>
        </p:nvGrpSpPr>
        <p:grpSpPr>
          <a:xfrm>
            <a:off x="133200" y="3681360"/>
            <a:ext cx="2908440" cy="542880"/>
            <a:chOff x="133200" y="3681360"/>
            <a:chExt cx="2908440" cy="542880"/>
          </a:xfrm>
        </p:grpSpPr>
        <p:pic>
          <p:nvPicPr>
            <p:cNvPr id="288" name="TextBox 28" descr=""/>
            <p:cNvPicPr/>
            <p:nvPr/>
          </p:nvPicPr>
          <p:blipFill>
            <a:blip r:embed="rId4"/>
            <a:stretch/>
          </p:blipFill>
          <p:spPr>
            <a:xfrm>
              <a:off x="133200" y="3681360"/>
              <a:ext cx="2908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93680" y="3727440"/>
              <a:ext cx="278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TextBox 29"/>
          <p:cNvGrpSpPr/>
          <p:nvPr/>
        </p:nvGrpSpPr>
        <p:grpSpPr>
          <a:xfrm>
            <a:off x="133200" y="6066000"/>
            <a:ext cx="2908440" cy="547560"/>
            <a:chOff x="133200" y="6066000"/>
            <a:chExt cx="2908440" cy="547560"/>
          </a:xfrm>
        </p:grpSpPr>
        <p:pic>
          <p:nvPicPr>
            <p:cNvPr id="291" name="TextBox 29" descr=""/>
            <p:cNvPicPr/>
            <p:nvPr/>
          </p:nvPicPr>
          <p:blipFill>
            <a:blip r:embed="rId5"/>
            <a:stretch/>
          </p:blipFill>
          <p:spPr>
            <a:xfrm>
              <a:off x="133200" y="6066000"/>
              <a:ext cx="29084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93680" y="6114960"/>
              <a:ext cx="278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TextBox 32"/>
          <p:cNvGrpSpPr/>
          <p:nvPr/>
        </p:nvGrpSpPr>
        <p:grpSpPr>
          <a:xfrm>
            <a:off x="139680" y="4883040"/>
            <a:ext cx="2895480" cy="547920"/>
            <a:chOff x="139680" y="4883040"/>
            <a:chExt cx="2895480" cy="547920"/>
          </a:xfrm>
        </p:grpSpPr>
        <p:pic>
          <p:nvPicPr>
            <p:cNvPr id="294" name="TextBox 32" descr=""/>
            <p:cNvPicPr/>
            <p:nvPr/>
          </p:nvPicPr>
          <p:blipFill>
            <a:blip r:embed="rId6"/>
            <a:stretch/>
          </p:blipFill>
          <p:spPr>
            <a:xfrm>
              <a:off x="139680" y="4883040"/>
              <a:ext cx="289548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03040" y="4932360"/>
              <a:ext cx="277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TextBox 33"/>
          <p:cNvGrpSpPr/>
          <p:nvPr/>
        </p:nvGrpSpPr>
        <p:grpSpPr>
          <a:xfrm>
            <a:off x="3176640" y="2004840"/>
            <a:ext cx="2919240" cy="549360"/>
            <a:chOff x="3176640" y="2004840"/>
            <a:chExt cx="2919240" cy="549360"/>
          </a:xfrm>
        </p:grpSpPr>
        <p:pic>
          <p:nvPicPr>
            <p:cNvPr id="297" name="TextBox 33" descr=""/>
            <p:cNvPicPr/>
            <p:nvPr/>
          </p:nvPicPr>
          <p:blipFill>
            <a:blip r:embed="rId7"/>
            <a:stretch/>
          </p:blipFill>
          <p:spPr>
            <a:xfrm>
              <a:off x="3176640" y="2004840"/>
              <a:ext cx="2919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238560" y="2054160"/>
              <a:ext cx="27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TextBox 34"/>
          <p:cNvGrpSpPr/>
          <p:nvPr/>
        </p:nvGrpSpPr>
        <p:grpSpPr>
          <a:xfrm>
            <a:off x="3170160" y="3932280"/>
            <a:ext cx="2919600" cy="542880"/>
            <a:chOff x="3170160" y="3932280"/>
            <a:chExt cx="2919600" cy="542880"/>
          </a:xfrm>
        </p:grpSpPr>
        <p:pic>
          <p:nvPicPr>
            <p:cNvPr id="300" name="TextBox 34" descr=""/>
            <p:cNvPicPr/>
            <p:nvPr/>
          </p:nvPicPr>
          <p:blipFill>
            <a:blip r:embed="rId8"/>
            <a:stretch/>
          </p:blipFill>
          <p:spPr>
            <a:xfrm>
              <a:off x="3170160" y="3932280"/>
              <a:ext cx="29196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232080" y="3976560"/>
              <a:ext cx="279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TextBox 35"/>
          <p:cNvGrpSpPr/>
          <p:nvPr/>
        </p:nvGrpSpPr>
        <p:grpSpPr>
          <a:xfrm>
            <a:off x="3157560" y="6072120"/>
            <a:ext cx="2914560" cy="547920"/>
            <a:chOff x="3157560" y="6072120"/>
            <a:chExt cx="2914560" cy="547920"/>
          </a:xfrm>
        </p:grpSpPr>
        <p:pic>
          <p:nvPicPr>
            <p:cNvPr id="303" name="TextBox 35" descr=""/>
            <p:cNvPicPr/>
            <p:nvPr/>
          </p:nvPicPr>
          <p:blipFill>
            <a:blip r:embed="rId9"/>
            <a:stretch/>
          </p:blipFill>
          <p:spPr>
            <a:xfrm>
              <a:off x="3157560" y="6072120"/>
              <a:ext cx="2914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218040" y="611964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Box 36"/>
          <p:cNvGrpSpPr/>
          <p:nvPr/>
        </p:nvGrpSpPr>
        <p:grpSpPr>
          <a:xfrm>
            <a:off x="6181560" y="2517840"/>
            <a:ext cx="2919600" cy="549360"/>
            <a:chOff x="6181560" y="2517840"/>
            <a:chExt cx="2919600" cy="549360"/>
          </a:xfrm>
        </p:grpSpPr>
        <p:pic>
          <p:nvPicPr>
            <p:cNvPr id="306" name="TextBox 36" descr=""/>
            <p:cNvPicPr/>
            <p:nvPr/>
          </p:nvPicPr>
          <p:blipFill>
            <a:blip r:embed="rId10"/>
            <a:stretch/>
          </p:blipFill>
          <p:spPr>
            <a:xfrm>
              <a:off x="6181560" y="2517840"/>
              <a:ext cx="29196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243480" y="2565360"/>
              <a:ext cx="27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TextBox 37"/>
          <p:cNvGrpSpPr/>
          <p:nvPr/>
        </p:nvGrpSpPr>
        <p:grpSpPr>
          <a:xfrm>
            <a:off x="6175440" y="6059520"/>
            <a:ext cx="2919240" cy="542880"/>
            <a:chOff x="6175440" y="6059520"/>
            <a:chExt cx="2919240" cy="542880"/>
          </a:xfrm>
        </p:grpSpPr>
        <p:pic>
          <p:nvPicPr>
            <p:cNvPr id="309" name="TextBox 37" descr=""/>
            <p:cNvPicPr/>
            <p:nvPr/>
          </p:nvPicPr>
          <p:blipFill>
            <a:blip r:embed="rId11"/>
            <a:stretch/>
          </p:blipFill>
          <p:spPr>
            <a:xfrm>
              <a:off x="6175440" y="6059520"/>
              <a:ext cx="29192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237360" y="610560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TextBox 38"/>
          <p:cNvGrpSpPr/>
          <p:nvPr/>
        </p:nvGrpSpPr>
        <p:grpSpPr>
          <a:xfrm>
            <a:off x="6205680" y="4151160"/>
            <a:ext cx="2914560" cy="543240"/>
            <a:chOff x="6205680" y="4151160"/>
            <a:chExt cx="2914560" cy="543240"/>
          </a:xfrm>
        </p:grpSpPr>
        <p:pic>
          <p:nvPicPr>
            <p:cNvPr id="312" name="TextBox 38" descr=""/>
            <p:cNvPicPr/>
            <p:nvPr/>
          </p:nvPicPr>
          <p:blipFill>
            <a:blip r:embed="rId12"/>
            <a:stretch/>
          </p:blipFill>
          <p:spPr>
            <a:xfrm>
              <a:off x="6205680" y="4151160"/>
              <a:ext cx="291456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264360" y="4195800"/>
              <a:ext cx="27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กลุ่ม 43"/>
          <p:cNvGrpSpPr/>
          <p:nvPr/>
        </p:nvGrpSpPr>
        <p:grpSpPr>
          <a:xfrm>
            <a:off x="2570040" y="4113360"/>
            <a:ext cx="720720" cy="404640"/>
            <a:chOff x="2570040" y="4113360"/>
            <a:chExt cx="720720" cy="404640"/>
          </a:xfrm>
        </p:grpSpPr>
        <p:grpSp>
          <p:nvGrpSpPr>
            <p:cNvPr id="315" name="วงรี 44"/>
            <p:cNvGrpSpPr/>
            <p:nvPr/>
          </p:nvGrpSpPr>
          <p:grpSpPr>
            <a:xfrm>
              <a:off x="2570040" y="4113360"/>
              <a:ext cx="700200" cy="372960"/>
              <a:chOff x="2570040" y="4113360"/>
              <a:chExt cx="700200" cy="372960"/>
            </a:xfrm>
          </p:grpSpPr>
          <p:pic>
            <p:nvPicPr>
              <p:cNvPr id="316" name="วงรี 4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70040" y="4113360"/>
                <a:ext cx="7002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45360" y="4209840"/>
                <a:ext cx="347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8" name="TextBox 45" descr=""/>
            <p:cNvPicPr/>
            <p:nvPr/>
          </p:nvPicPr>
          <p:blipFill>
            <a:blip r:embed="rId14"/>
            <a:stretch/>
          </p:blipFill>
          <p:spPr>
            <a:xfrm>
              <a:off x="2575080" y="4141440"/>
              <a:ext cx="715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กลุ่ม 46"/>
          <p:cNvGrpSpPr/>
          <p:nvPr/>
        </p:nvGrpSpPr>
        <p:grpSpPr>
          <a:xfrm>
            <a:off x="2550960" y="5291280"/>
            <a:ext cx="720720" cy="404640"/>
            <a:chOff x="2550960" y="5291280"/>
            <a:chExt cx="720720" cy="404640"/>
          </a:xfrm>
        </p:grpSpPr>
        <p:grpSp>
          <p:nvGrpSpPr>
            <p:cNvPr id="320" name="วงรี 47"/>
            <p:cNvGrpSpPr/>
            <p:nvPr/>
          </p:nvGrpSpPr>
          <p:grpSpPr>
            <a:xfrm>
              <a:off x="2550960" y="5291280"/>
              <a:ext cx="694800" cy="372960"/>
              <a:chOff x="2550960" y="5291280"/>
              <a:chExt cx="694800" cy="372960"/>
            </a:xfrm>
          </p:grpSpPr>
          <p:pic>
            <p:nvPicPr>
              <p:cNvPr id="321" name="วงรี 4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50960" y="5291280"/>
                <a:ext cx="6948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2725560" y="5388480"/>
                <a:ext cx="34668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3" name="TextBox 48" descr=""/>
            <p:cNvPicPr/>
            <p:nvPr/>
          </p:nvPicPr>
          <p:blipFill>
            <a:blip r:embed="rId16"/>
            <a:stretch/>
          </p:blipFill>
          <p:spPr>
            <a:xfrm>
              <a:off x="2550960" y="5322960"/>
              <a:ext cx="72072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กลุ่ม 49"/>
          <p:cNvGrpSpPr/>
          <p:nvPr/>
        </p:nvGrpSpPr>
        <p:grpSpPr>
          <a:xfrm>
            <a:off x="5478480" y="1157400"/>
            <a:ext cx="720720" cy="404640"/>
            <a:chOff x="5478480" y="1157400"/>
            <a:chExt cx="720720" cy="404640"/>
          </a:xfrm>
        </p:grpSpPr>
        <p:grpSp>
          <p:nvGrpSpPr>
            <p:cNvPr id="325" name="วงรี 50"/>
            <p:cNvGrpSpPr/>
            <p:nvPr/>
          </p:nvGrpSpPr>
          <p:grpSpPr>
            <a:xfrm>
              <a:off x="5478480" y="1157400"/>
              <a:ext cx="700200" cy="372960"/>
              <a:chOff x="5478480" y="1157400"/>
              <a:chExt cx="700200" cy="372960"/>
            </a:xfrm>
          </p:grpSpPr>
          <p:pic>
            <p:nvPicPr>
              <p:cNvPr id="326" name="วงรี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5478480" y="1157400"/>
                <a:ext cx="7002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5654520" y="1254240"/>
                <a:ext cx="347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8" name="TextBox 51" descr=""/>
            <p:cNvPicPr/>
            <p:nvPr/>
          </p:nvPicPr>
          <p:blipFill>
            <a:blip r:embed="rId18"/>
            <a:stretch/>
          </p:blipFill>
          <p:spPr>
            <a:xfrm>
              <a:off x="5483520" y="1185480"/>
              <a:ext cx="715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กลุ่ม 52"/>
          <p:cNvGrpSpPr/>
          <p:nvPr/>
        </p:nvGrpSpPr>
        <p:grpSpPr>
          <a:xfrm>
            <a:off x="5497560" y="2546280"/>
            <a:ext cx="720720" cy="405000"/>
            <a:chOff x="5497560" y="2546280"/>
            <a:chExt cx="720720" cy="405000"/>
          </a:xfrm>
        </p:grpSpPr>
        <p:grpSp>
          <p:nvGrpSpPr>
            <p:cNvPr id="330" name="วงรี 53"/>
            <p:cNvGrpSpPr/>
            <p:nvPr/>
          </p:nvGrpSpPr>
          <p:grpSpPr>
            <a:xfrm>
              <a:off x="5497560" y="2546280"/>
              <a:ext cx="700200" cy="373320"/>
              <a:chOff x="5497560" y="2546280"/>
              <a:chExt cx="700200" cy="373320"/>
            </a:xfrm>
          </p:grpSpPr>
          <p:pic>
            <p:nvPicPr>
              <p:cNvPr id="331" name="วงรี 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97560" y="2546280"/>
                <a:ext cx="70020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5673960" y="2642760"/>
                <a:ext cx="347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TextBox 54" descr=""/>
            <p:cNvPicPr/>
            <p:nvPr/>
          </p:nvPicPr>
          <p:blipFill>
            <a:blip r:embed="rId20"/>
            <a:stretch/>
          </p:blipFill>
          <p:spPr>
            <a:xfrm>
              <a:off x="5502600" y="2574360"/>
              <a:ext cx="71568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กลุ่ม 55"/>
          <p:cNvGrpSpPr/>
          <p:nvPr/>
        </p:nvGrpSpPr>
        <p:grpSpPr>
          <a:xfrm>
            <a:off x="5191200" y="4376880"/>
            <a:ext cx="1120680" cy="431640"/>
            <a:chOff x="5191200" y="4376880"/>
            <a:chExt cx="1120680" cy="431640"/>
          </a:xfrm>
        </p:grpSpPr>
        <p:grpSp>
          <p:nvGrpSpPr>
            <p:cNvPr id="335" name="วงรี 56"/>
            <p:cNvGrpSpPr/>
            <p:nvPr/>
          </p:nvGrpSpPr>
          <p:grpSpPr>
            <a:xfrm>
              <a:off x="5222160" y="4376880"/>
              <a:ext cx="965880" cy="406080"/>
              <a:chOff x="5222160" y="4376880"/>
              <a:chExt cx="965880" cy="406080"/>
            </a:xfrm>
          </p:grpSpPr>
          <p:pic>
            <p:nvPicPr>
              <p:cNvPr id="336" name="วงรี 56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22160" y="4376880"/>
                <a:ext cx="96588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5437080" y="4480560"/>
                <a:ext cx="537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TextBox 57" descr=""/>
            <p:cNvPicPr/>
            <p:nvPr/>
          </p:nvPicPr>
          <p:blipFill>
            <a:blip r:embed="rId22"/>
            <a:stretch/>
          </p:blipFill>
          <p:spPr>
            <a:xfrm>
              <a:off x="5191200" y="4420800"/>
              <a:ext cx="11206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กลุ่ม 58"/>
          <p:cNvGrpSpPr/>
          <p:nvPr/>
        </p:nvGrpSpPr>
        <p:grpSpPr>
          <a:xfrm>
            <a:off x="8458200" y="4689360"/>
            <a:ext cx="720720" cy="405000"/>
            <a:chOff x="8458200" y="4689360"/>
            <a:chExt cx="720720" cy="405000"/>
          </a:xfrm>
        </p:grpSpPr>
        <p:grpSp>
          <p:nvGrpSpPr>
            <p:cNvPr id="340" name="วงรี 59"/>
            <p:cNvGrpSpPr/>
            <p:nvPr/>
          </p:nvGrpSpPr>
          <p:grpSpPr>
            <a:xfrm>
              <a:off x="8458200" y="4689360"/>
              <a:ext cx="694800" cy="373680"/>
              <a:chOff x="8458200" y="4689360"/>
              <a:chExt cx="694800" cy="373680"/>
            </a:xfrm>
          </p:grpSpPr>
          <p:pic>
            <p:nvPicPr>
              <p:cNvPr id="341" name="วงรี 59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58200" y="4689360"/>
                <a:ext cx="694800" cy="37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8633160" y="4786920"/>
                <a:ext cx="34668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TextBox 60" descr=""/>
            <p:cNvPicPr/>
            <p:nvPr/>
          </p:nvPicPr>
          <p:blipFill>
            <a:blip r:embed="rId24"/>
            <a:stretch/>
          </p:blipFill>
          <p:spPr>
            <a:xfrm>
              <a:off x="8458200" y="4720680"/>
              <a:ext cx="720720" cy="37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กลุ่ม 61"/>
          <p:cNvGrpSpPr/>
          <p:nvPr/>
        </p:nvGrpSpPr>
        <p:grpSpPr>
          <a:xfrm>
            <a:off x="8483760" y="2987640"/>
            <a:ext cx="718920" cy="405000"/>
            <a:chOff x="8483760" y="2987640"/>
            <a:chExt cx="718920" cy="405000"/>
          </a:xfrm>
        </p:grpSpPr>
        <p:grpSp>
          <p:nvGrpSpPr>
            <p:cNvPr id="345" name="วงรี 62"/>
            <p:cNvGrpSpPr/>
            <p:nvPr/>
          </p:nvGrpSpPr>
          <p:grpSpPr>
            <a:xfrm>
              <a:off x="8483760" y="2987640"/>
              <a:ext cx="693360" cy="376920"/>
              <a:chOff x="8483760" y="2987640"/>
              <a:chExt cx="693360" cy="376920"/>
            </a:xfrm>
          </p:grpSpPr>
          <p:pic>
            <p:nvPicPr>
              <p:cNvPr id="346" name="วงรี 62" descr=""/>
              <p:cNvPicPr/>
              <p:nvPr/>
            </p:nvPicPr>
            <p:blipFill>
              <a:blip r:embed="rId25"/>
              <a:stretch/>
            </p:blipFill>
            <p:spPr>
              <a:xfrm>
                <a:off x="8483760" y="2987640"/>
                <a:ext cx="693360" cy="3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8658720" y="3085560"/>
                <a:ext cx="3452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TextBox 63" descr=""/>
            <p:cNvPicPr/>
            <p:nvPr/>
          </p:nvPicPr>
          <p:blipFill>
            <a:blip r:embed="rId26"/>
            <a:stretch/>
          </p:blipFill>
          <p:spPr>
            <a:xfrm>
              <a:off x="8483760" y="3019320"/>
              <a:ext cx="71892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กลุ่ม 64"/>
          <p:cNvGrpSpPr/>
          <p:nvPr/>
        </p:nvGrpSpPr>
        <p:grpSpPr>
          <a:xfrm>
            <a:off x="8475840" y="1120680"/>
            <a:ext cx="718920" cy="405000"/>
            <a:chOff x="8475840" y="1120680"/>
            <a:chExt cx="718920" cy="405000"/>
          </a:xfrm>
        </p:grpSpPr>
        <p:grpSp>
          <p:nvGrpSpPr>
            <p:cNvPr id="350" name="วงรี 65"/>
            <p:cNvGrpSpPr/>
            <p:nvPr/>
          </p:nvGrpSpPr>
          <p:grpSpPr>
            <a:xfrm>
              <a:off x="8475840" y="1120680"/>
              <a:ext cx="698400" cy="373320"/>
              <a:chOff x="8475840" y="1120680"/>
              <a:chExt cx="698400" cy="373320"/>
            </a:xfrm>
          </p:grpSpPr>
          <p:pic>
            <p:nvPicPr>
              <p:cNvPr id="351" name="วงรี 65" descr=""/>
              <p:cNvPicPr/>
              <p:nvPr/>
            </p:nvPicPr>
            <p:blipFill>
              <a:blip r:embed="rId27"/>
              <a:stretch/>
            </p:blipFill>
            <p:spPr>
              <a:xfrm>
                <a:off x="8475840" y="1120680"/>
                <a:ext cx="69840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8650440" y="1217880"/>
                <a:ext cx="34776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3" name="TextBox 66" descr=""/>
            <p:cNvPicPr/>
            <p:nvPr/>
          </p:nvPicPr>
          <p:blipFill>
            <a:blip r:embed="rId28"/>
            <a:stretch/>
          </p:blipFill>
          <p:spPr>
            <a:xfrm>
              <a:off x="8475840" y="1148760"/>
              <a:ext cx="718920" cy="3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TextBox 60"/>
          <p:cNvSpPr/>
          <p:nvPr/>
        </p:nvSpPr>
        <p:spPr>
          <a:xfrm rot="20221800">
            <a:off x="-195840" y="633240"/>
            <a:ext cx="222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วมน้ำหนักคะแนน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900" spc="-1" strike="noStrike">
                <a:solidFill>
                  <a:srgbClr val="000000"/>
                </a:solidFill>
                <a:latin typeface="TH Kodchasal"/>
                <a:ea typeface="TH Kodchasal"/>
              </a:rPr>
              <a:t>10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9"/>
          <a:stretch/>
        </p:blipFill>
        <p:spPr>
          <a:xfrm>
            <a:off x="193680" y="246240"/>
            <a:ext cx="665280" cy="512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Image result for รูปกราฟฟิก+การประเมิน"/>
          <p:cNvPicPr/>
          <p:nvPr/>
        </p:nvPicPr>
        <p:blipFill>
          <a:blip r:embed="rId1"/>
          <a:stretch/>
        </p:blipFill>
        <p:spPr>
          <a:xfrm>
            <a:off x="3419640" y="3137040"/>
            <a:ext cx="245268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Image result for รูปกราฟฟิก+การประเมิน"/>
          <p:cNvPicPr/>
          <p:nvPr/>
        </p:nvPicPr>
        <p:blipFill>
          <a:blip r:embed="rId2"/>
          <a:stretch/>
        </p:blipFill>
        <p:spPr>
          <a:xfrm>
            <a:off x="34920" y="5684760"/>
            <a:ext cx="1657440" cy="1179720"/>
          </a:xfrm>
          <a:prstGeom prst="rect">
            <a:avLst/>
          </a:prstGeom>
          <a:ln w="0">
            <a:noFill/>
          </a:ln>
        </p:spPr>
      </p:pic>
      <p:pic>
        <p:nvPicPr>
          <p:cNvPr id="358" name="สี่เหลี่ยมผืนผ้า 4" descr=""/>
          <p:cNvPicPr/>
          <p:nvPr/>
        </p:nvPicPr>
        <p:blipFill>
          <a:blip r:embed="rId3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641520" y="1424160"/>
            <a:ext cx="7920000" cy="642600"/>
          </a:xfrm>
          <a:prstGeom prst="rect">
            <a:avLst/>
          </a:prstGeom>
          <a:solidFill>
            <a:srgbClr val="e5f4e0"/>
          </a:solidFill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ติดตามเร่งรัดการเบิกจ่ายงบประมาณใน ภาพรวมของ 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ส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ป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ก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จังหว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TextBox 6"/>
          <p:cNvGrpSpPr/>
          <p:nvPr/>
        </p:nvGrpSpPr>
        <p:grpSpPr>
          <a:xfrm>
            <a:off x="3693960" y="1798560"/>
            <a:ext cx="1901880" cy="371520"/>
            <a:chOff x="3693960" y="1798560"/>
            <a:chExt cx="1901880" cy="371520"/>
          </a:xfrm>
        </p:grpSpPr>
        <p:pic>
          <p:nvPicPr>
            <p:cNvPr id="361" name="TextBox 6" descr=""/>
            <p:cNvPicPr/>
            <p:nvPr/>
          </p:nvPicPr>
          <p:blipFill>
            <a:blip r:embed="rId4"/>
            <a:stretch/>
          </p:blipFill>
          <p:spPr>
            <a:xfrm>
              <a:off x="3693960" y="1798560"/>
              <a:ext cx="1901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708360" y="181620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กลุ่ม 9"/>
          <p:cNvGrpSpPr/>
          <p:nvPr/>
        </p:nvGrpSpPr>
        <p:grpSpPr>
          <a:xfrm>
            <a:off x="641520" y="2179800"/>
            <a:ext cx="834840" cy="1028880"/>
            <a:chOff x="641520" y="2179800"/>
            <a:chExt cx="834840" cy="1028880"/>
          </a:xfrm>
        </p:grpSpPr>
        <p:sp>
          <p:nvSpPr>
            <p:cNvPr id="364" name="TextBox 7"/>
            <p:cNvSpPr/>
            <p:nvPr/>
          </p:nvSpPr>
          <p:spPr>
            <a:xfrm>
              <a:off x="641520" y="2179800"/>
              <a:ext cx="83484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8"/>
            <p:cNvSpPr/>
            <p:nvPr/>
          </p:nvSpPr>
          <p:spPr>
            <a:xfrm>
              <a:off x="641520" y="2628000"/>
              <a:ext cx="83484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กลุ่ม 10"/>
          <p:cNvGrpSpPr/>
          <p:nvPr/>
        </p:nvGrpSpPr>
        <p:grpSpPr>
          <a:xfrm>
            <a:off x="2411280" y="2179800"/>
            <a:ext cx="835200" cy="1028880"/>
            <a:chOff x="2411280" y="2179800"/>
            <a:chExt cx="835200" cy="1028880"/>
          </a:xfrm>
        </p:grpSpPr>
        <p:sp>
          <p:nvSpPr>
            <p:cNvPr id="367" name="TextBox 11"/>
            <p:cNvSpPr/>
            <p:nvPr/>
          </p:nvSpPr>
          <p:spPr>
            <a:xfrm>
              <a:off x="2411280" y="2179800"/>
              <a:ext cx="8352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12"/>
            <p:cNvSpPr/>
            <p:nvPr/>
          </p:nvSpPr>
          <p:spPr>
            <a:xfrm>
              <a:off x="2411280" y="2628000"/>
              <a:ext cx="8352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กลุ่ม 13"/>
          <p:cNvGrpSpPr/>
          <p:nvPr/>
        </p:nvGrpSpPr>
        <p:grpSpPr>
          <a:xfrm>
            <a:off x="7728120" y="2179800"/>
            <a:ext cx="833400" cy="1028880"/>
            <a:chOff x="7728120" y="2179800"/>
            <a:chExt cx="833400" cy="1028880"/>
          </a:xfrm>
        </p:grpSpPr>
        <p:sp>
          <p:nvSpPr>
            <p:cNvPr id="370" name="TextBox 14"/>
            <p:cNvSpPr/>
            <p:nvPr/>
          </p:nvSpPr>
          <p:spPr>
            <a:xfrm>
              <a:off x="7728120" y="2179800"/>
              <a:ext cx="8334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5"/>
            <p:cNvSpPr/>
            <p:nvPr/>
          </p:nvSpPr>
          <p:spPr>
            <a:xfrm>
              <a:off x="7728120" y="2628000"/>
              <a:ext cx="8334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กลุ่ม 16"/>
          <p:cNvGrpSpPr/>
          <p:nvPr/>
        </p:nvGrpSpPr>
        <p:grpSpPr>
          <a:xfrm>
            <a:off x="4170240" y="2179800"/>
            <a:ext cx="833400" cy="1028880"/>
            <a:chOff x="4170240" y="2179800"/>
            <a:chExt cx="833400" cy="1028880"/>
          </a:xfrm>
        </p:grpSpPr>
        <p:sp>
          <p:nvSpPr>
            <p:cNvPr id="373" name="TextBox 17"/>
            <p:cNvSpPr/>
            <p:nvPr/>
          </p:nvSpPr>
          <p:spPr>
            <a:xfrm>
              <a:off x="4170240" y="2179800"/>
              <a:ext cx="8334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18"/>
            <p:cNvSpPr/>
            <p:nvPr/>
          </p:nvSpPr>
          <p:spPr>
            <a:xfrm>
              <a:off x="4170240" y="2628000"/>
              <a:ext cx="8334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กลุ่ม 22"/>
          <p:cNvGrpSpPr/>
          <p:nvPr/>
        </p:nvGrpSpPr>
        <p:grpSpPr>
          <a:xfrm>
            <a:off x="5970600" y="2179800"/>
            <a:ext cx="833400" cy="1028880"/>
            <a:chOff x="5970600" y="2179800"/>
            <a:chExt cx="833400" cy="1028880"/>
          </a:xfrm>
        </p:grpSpPr>
        <p:sp>
          <p:nvSpPr>
            <p:cNvPr id="376" name="TextBox 23"/>
            <p:cNvSpPr/>
            <p:nvPr/>
          </p:nvSpPr>
          <p:spPr>
            <a:xfrm>
              <a:off x="5970600" y="2179800"/>
              <a:ext cx="8334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Box 24"/>
            <p:cNvSpPr/>
            <p:nvPr/>
          </p:nvSpPr>
          <p:spPr>
            <a:xfrm>
              <a:off x="5970600" y="2628000"/>
              <a:ext cx="8334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25"/>
          <p:cNvSpPr/>
          <p:nvPr/>
        </p:nvSpPr>
        <p:spPr>
          <a:xfrm>
            <a:off x="611280" y="3860640"/>
            <a:ext cx="7921440" cy="368280"/>
          </a:xfrm>
          <a:prstGeom prst="rect">
            <a:avLst/>
          </a:prstGeom>
          <a:solidFill>
            <a:srgbClr val="e5f4e0"/>
          </a:solidFill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ติดตามเร่งรัดการเบิกจ่ายงบลงทุนของ 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ส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ป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ก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66ff"/>
                </a:solidFill>
                <a:latin typeface="TH Kodchasal"/>
                <a:cs typeface="TH Kodchasal"/>
              </a:rPr>
              <a:t>จังหว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TextBox 26"/>
          <p:cNvGrpSpPr/>
          <p:nvPr/>
        </p:nvGrpSpPr>
        <p:grpSpPr>
          <a:xfrm>
            <a:off x="3664080" y="4237200"/>
            <a:ext cx="1901520" cy="371160"/>
            <a:chOff x="3664080" y="4237200"/>
            <a:chExt cx="1901520" cy="371160"/>
          </a:xfrm>
        </p:grpSpPr>
        <p:pic>
          <p:nvPicPr>
            <p:cNvPr id="380" name="TextBox 26" descr=""/>
            <p:cNvPicPr/>
            <p:nvPr/>
          </p:nvPicPr>
          <p:blipFill>
            <a:blip r:embed="rId5"/>
            <a:stretch/>
          </p:blipFill>
          <p:spPr>
            <a:xfrm>
              <a:off x="3664080" y="4237200"/>
              <a:ext cx="190152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678120" y="425304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กลุ่ม 27"/>
          <p:cNvGrpSpPr/>
          <p:nvPr/>
        </p:nvGrpSpPr>
        <p:grpSpPr>
          <a:xfrm>
            <a:off x="611280" y="4616280"/>
            <a:ext cx="834840" cy="1029240"/>
            <a:chOff x="611280" y="4616280"/>
            <a:chExt cx="834840" cy="1029240"/>
          </a:xfrm>
        </p:grpSpPr>
        <p:sp>
          <p:nvSpPr>
            <p:cNvPr id="383" name="TextBox 28"/>
            <p:cNvSpPr/>
            <p:nvPr/>
          </p:nvSpPr>
          <p:spPr>
            <a:xfrm>
              <a:off x="611280" y="4616280"/>
              <a:ext cx="83484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9"/>
            <p:cNvSpPr/>
            <p:nvPr/>
          </p:nvSpPr>
          <p:spPr>
            <a:xfrm>
              <a:off x="611280" y="5064840"/>
              <a:ext cx="83484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กลุ่ม 30"/>
          <p:cNvGrpSpPr/>
          <p:nvPr/>
        </p:nvGrpSpPr>
        <p:grpSpPr>
          <a:xfrm>
            <a:off x="2382840" y="4616280"/>
            <a:ext cx="833400" cy="1029240"/>
            <a:chOff x="2382840" y="4616280"/>
            <a:chExt cx="833400" cy="1029240"/>
          </a:xfrm>
        </p:grpSpPr>
        <p:sp>
          <p:nvSpPr>
            <p:cNvPr id="386" name="TextBox 31"/>
            <p:cNvSpPr/>
            <p:nvPr/>
          </p:nvSpPr>
          <p:spPr>
            <a:xfrm>
              <a:off x="2382840" y="4616280"/>
              <a:ext cx="8334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32"/>
            <p:cNvSpPr/>
            <p:nvPr/>
          </p:nvSpPr>
          <p:spPr>
            <a:xfrm>
              <a:off x="2382840" y="5064840"/>
              <a:ext cx="8334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กลุ่ม 33"/>
          <p:cNvGrpSpPr/>
          <p:nvPr/>
        </p:nvGrpSpPr>
        <p:grpSpPr>
          <a:xfrm>
            <a:off x="7697880" y="4616280"/>
            <a:ext cx="834840" cy="1029240"/>
            <a:chOff x="7697880" y="4616280"/>
            <a:chExt cx="834840" cy="1029240"/>
          </a:xfrm>
        </p:grpSpPr>
        <p:sp>
          <p:nvSpPr>
            <p:cNvPr id="389" name="TextBox 34"/>
            <p:cNvSpPr/>
            <p:nvPr/>
          </p:nvSpPr>
          <p:spPr>
            <a:xfrm>
              <a:off x="7697880" y="4616280"/>
              <a:ext cx="83484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35"/>
            <p:cNvSpPr/>
            <p:nvPr/>
          </p:nvSpPr>
          <p:spPr>
            <a:xfrm>
              <a:off x="7697880" y="5064840"/>
              <a:ext cx="83484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กลุ่ม 36"/>
          <p:cNvGrpSpPr/>
          <p:nvPr/>
        </p:nvGrpSpPr>
        <p:grpSpPr>
          <a:xfrm>
            <a:off x="4140360" y="4616280"/>
            <a:ext cx="833400" cy="1029240"/>
            <a:chOff x="4140360" y="4616280"/>
            <a:chExt cx="833400" cy="1029240"/>
          </a:xfrm>
        </p:grpSpPr>
        <p:sp>
          <p:nvSpPr>
            <p:cNvPr id="392" name="TextBox 37"/>
            <p:cNvSpPr/>
            <p:nvPr/>
          </p:nvSpPr>
          <p:spPr>
            <a:xfrm>
              <a:off x="4140360" y="4616280"/>
              <a:ext cx="8334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38"/>
            <p:cNvSpPr/>
            <p:nvPr/>
          </p:nvSpPr>
          <p:spPr>
            <a:xfrm>
              <a:off x="4140360" y="5064840"/>
              <a:ext cx="8334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กลุ่ม 39"/>
          <p:cNvGrpSpPr/>
          <p:nvPr/>
        </p:nvGrpSpPr>
        <p:grpSpPr>
          <a:xfrm>
            <a:off x="5940360" y="4616280"/>
            <a:ext cx="833400" cy="1029240"/>
            <a:chOff x="5940360" y="4616280"/>
            <a:chExt cx="833400" cy="1029240"/>
          </a:xfrm>
        </p:grpSpPr>
        <p:sp>
          <p:nvSpPr>
            <p:cNvPr id="395" name="TextBox 40"/>
            <p:cNvSpPr/>
            <p:nvPr/>
          </p:nvSpPr>
          <p:spPr>
            <a:xfrm>
              <a:off x="5940360" y="4616280"/>
              <a:ext cx="833400" cy="33732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ะดับ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41"/>
            <p:cNvSpPr/>
            <p:nvPr/>
          </p:nvSpPr>
          <p:spPr>
            <a:xfrm>
              <a:off x="5940360" y="5064840"/>
              <a:ext cx="833400" cy="58068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Image result for รูปกราฟฟิก+การประเมิน"/>
          <p:cNvPicPr/>
          <p:nvPr/>
        </p:nvPicPr>
        <p:blipFill>
          <a:blip r:embed="rId1"/>
          <a:stretch/>
        </p:blipFill>
        <p:spPr>
          <a:xfrm>
            <a:off x="3894120" y="368784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Image result for รูปกราฟฟิก+การประเมิน"/>
          <p:cNvPicPr/>
          <p:nvPr/>
        </p:nvPicPr>
        <p:blipFill>
          <a:blip r:embed="rId2"/>
          <a:stretch/>
        </p:blipFill>
        <p:spPr>
          <a:xfrm>
            <a:off x="-11160" y="3500280"/>
            <a:ext cx="1487520" cy="1060560"/>
          </a:xfrm>
          <a:prstGeom prst="rect">
            <a:avLst/>
          </a:prstGeom>
          <a:ln w="0">
            <a:noFill/>
          </a:ln>
        </p:spPr>
      </p:pic>
      <p:pic>
        <p:nvPicPr>
          <p:cNvPr id="399" name="สี่เหลี่ยมผืนผ้า 4" descr=""/>
          <p:cNvPicPr/>
          <p:nvPr/>
        </p:nvPicPr>
        <p:blipFill>
          <a:blip r:embed="rId3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5"/>
          <p:cNvSpPr/>
          <p:nvPr/>
        </p:nvSpPr>
        <p:spPr>
          <a:xfrm>
            <a:off x="641520" y="1104840"/>
            <a:ext cx="7920000" cy="368280"/>
          </a:xfrm>
          <a:prstGeom prst="rect">
            <a:avLst/>
          </a:prstGeom>
          <a:solidFill>
            <a:srgbClr val="c4efff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3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จัดที่ดินแปลงเกษตรกรร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Box 6"/>
          <p:cNvGrpSpPr/>
          <p:nvPr/>
        </p:nvGrpSpPr>
        <p:grpSpPr>
          <a:xfrm>
            <a:off x="3693960" y="1481040"/>
            <a:ext cx="1901880" cy="371520"/>
            <a:chOff x="3693960" y="1481040"/>
            <a:chExt cx="1901880" cy="371520"/>
          </a:xfrm>
        </p:grpSpPr>
        <p:pic>
          <p:nvPicPr>
            <p:cNvPr id="402" name="TextBox 6" descr=""/>
            <p:cNvPicPr/>
            <p:nvPr/>
          </p:nvPicPr>
          <p:blipFill>
            <a:blip r:embed="rId4"/>
            <a:stretch/>
          </p:blipFill>
          <p:spPr>
            <a:xfrm>
              <a:off x="3693960" y="1481040"/>
              <a:ext cx="1901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708360" y="149688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7"/>
          <p:cNvSpPr/>
          <p:nvPr/>
        </p:nvSpPr>
        <p:spPr>
          <a:xfrm>
            <a:off x="641520" y="1849320"/>
            <a:ext cx="83484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425520" y="227484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0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1"/>
          <p:cNvSpPr/>
          <p:nvPr/>
        </p:nvSpPr>
        <p:spPr>
          <a:xfrm>
            <a:off x="2411280" y="1849320"/>
            <a:ext cx="8352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7728120" y="184932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7"/>
          <p:cNvSpPr/>
          <p:nvPr/>
        </p:nvSpPr>
        <p:spPr>
          <a:xfrm>
            <a:off x="4170240" y="184932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3"/>
          <p:cNvSpPr/>
          <p:nvPr/>
        </p:nvSpPr>
        <p:spPr>
          <a:xfrm>
            <a:off x="5970600" y="184932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5"/>
          <p:cNvSpPr/>
          <p:nvPr/>
        </p:nvSpPr>
        <p:spPr>
          <a:xfrm>
            <a:off x="611280" y="3994200"/>
            <a:ext cx="7921440" cy="368280"/>
          </a:xfrm>
          <a:prstGeom prst="rect">
            <a:avLst/>
          </a:prstGeom>
          <a:solidFill>
            <a:srgbClr val="c4efff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4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จัดที่ดินชุมช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TextBox 26"/>
          <p:cNvGrpSpPr/>
          <p:nvPr/>
        </p:nvGrpSpPr>
        <p:grpSpPr>
          <a:xfrm>
            <a:off x="3664080" y="4370400"/>
            <a:ext cx="1901520" cy="366840"/>
            <a:chOff x="3664080" y="4370400"/>
            <a:chExt cx="1901520" cy="366840"/>
          </a:xfrm>
        </p:grpSpPr>
        <p:pic>
          <p:nvPicPr>
            <p:cNvPr id="412" name="TextBox 26" descr=""/>
            <p:cNvPicPr/>
            <p:nvPr/>
          </p:nvPicPr>
          <p:blipFill>
            <a:blip r:embed="rId5"/>
            <a:stretch/>
          </p:blipFill>
          <p:spPr>
            <a:xfrm>
              <a:off x="3664080" y="4370400"/>
              <a:ext cx="19015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678120" y="438480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42"/>
          <p:cNvSpPr/>
          <p:nvPr/>
        </p:nvSpPr>
        <p:spPr>
          <a:xfrm>
            <a:off x="2154240" y="227484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4"/>
          <p:cNvSpPr/>
          <p:nvPr/>
        </p:nvSpPr>
        <p:spPr>
          <a:xfrm>
            <a:off x="5724360" y="2271600"/>
            <a:ext cx="133848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5"/>
          <p:cNvSpPr/>
          <p:nvPr/>
        </p:nvSpPr>
        <p:spPr>
          <a:xfrm>
            <a:off x="3924360" y="227484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0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6"/>
          <p:cNvSpPr/>
          <p:nvPr/>
        </p:nvSpPr>
        <p:spPr>
          <a:xfrm>
            <a:off x="7493040" y="227160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0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7"/>
          <p:cNvSpPr/>
          <p:nvPr/>
        </p:nvSpPr>
        <p:spPr>
          <a:xfrm>
            <a:off x="641520" y="4743360"/>
            <a:ext cx="83484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8"/>
          <p:cNvSpPr/>
          <p:nvPr/>
        </p:nvSpPr>
        <p:spPr>
          <a:xfrm>
            <a:off x="425520" y="516888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0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9"/>
          <p:cNvSpPr/>
          <p:nvPr/>
        </p:nvSpPr>
        <p:spPr>
          <a:xfrm>
            <a:off x="2411280" y="4743360"/>
            <a:ext cx="8352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0"/>
          <p:cNvSpPr/>
          <p:nvPr/>
        </p:nvSpPr>
        <p:spPr>
          <a:xfrm>
            <a:off x="7728120" y="474336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1"/>
          <p:cNvSpPr/>
          <p:nvPr/>
        </p:nvSpPr>
        <p:spPr>
          <a:xfrm>
            <a:off x="4170240" y="474336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2"/>
          <p:cNvSpPr/>
          <p:nvPr/>
        </p:nvSpPr>
        <p:spPr>
          <a:xfrm>
            <a:off x="5970600" y="474336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3"/>
          <p:cNvSpPr/>
          <p:nvPr/>
        </p:nvSpPr>
        <p:spPr>
          <a:xfrm>
            <a:off x="2154240" y="516888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4"/>
          <p:cNvSpPr/>
          <p:nvPr/>
        </p:nvSpPr>
        <p:spPr>
          <a:xfrm>
            <a:off x="5724360" y="5165640"/>
            <a:ext cx="133848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5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5"/>
          <p:cNvSpPr/>
          <p:nvPr/>
        </p:nvSpPr>
        <p:spPr>
          <a:xfrm>
            <a:off x="3924360" y="516888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0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6"/>
          <p:cNvSpPr/>
          <p:nvPr/>
        </p:nvSpPr>
        <p:spPr>
          <a:xfrm>
            <a:off x="7493040" y="516564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ำรวจรังวั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อบสวนสิทธิ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0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แผนดำเนิน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ได้ร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Image result for รูปกราฟฟิก+การประเมิน"/>
          <p:cNvPicPr/>
          <p:nvPr/>
        </p:nvPicPr>
        <p:blipFill>
          <a:blip r:embed="rId1"/>
          <a:stretch/>
        </p:blipFill>
        <p:spPr>
          <a:xfrm>
            <a:off x="3894120" y="3645000"/>
            <a:ext cx="1830240" cy="18302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Image result for รูปกราฟฟิก+การประเมิน"/>
          <p:cNvPicPr/>
          <p:nvPr/>
        </p:nvPicPr>
        <p:blipFill>
          <a:blip r:embed="rId2"/>
          <a:stretch/>
        </p:blipFill>
        <p:spPr>
          <a:xfrm>
            <a:off x="-11160" y="3489480"/>
            <a:ext cx="1487520" cy="1058760"/>
          </a:xfrm>
          <a:prstGeom prst="rect">
            <a:avLst/>
          </a:prstGeom>
          <a:ln w="0">
            <a:noFill/>
          </a:ln>
        </p:spPr>
      </p:pic>
      <p:pic>
        <p:nvPicPr>
          <p:cNvPr id="430" name="สี่เหลี่ยมผืนผ้า 4" descr=""/>
          <p:cNvPicPr/>
          <p:nvPr/>
        </p:nvPicPr>
        <p:blipFill>
          <a:blip r:embed="rId3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641520" y="1104840"/>
            <a:ext cx="7920000" cy="368280"/>
          </a:xfrm>
          <a:prstGeom prst="rect">
            <a:avLst/>
          </a:prstGeom>
          <a:solidFill>
            <a:srgbClr val="c4efff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5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ความสำเร็จของการตรวจสอบการถือครองที่ดิน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ร่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TextBox 6"/>
          <p:cNvGrpSpPr/>
          <p:nvPr/>
        </p:nvGrpSpPr>
        <p:grpSpPr>
          <a:xfrm>
            <a:off x="3693960" y="1481040"/>
            <a:ext cx="1901880" cy="371520"/>
            <a:chOff x="3693960" y="1481040"/>
            <a:chExt cx="1901880" cy="371520"/>
          </a:xfrm>
        </p:grpSpPr>
        <p:pic>
          <p:nvPicPr>
            <p:cNvPr id="433" name="TextBox 6" descr=""/>
            <p:cNvPicPr/>
            <p:nvPr/>
          </p:nvPicPr>
          <p:blipFill>
            <a:blip r:embed="rId4"/>
            <a:stretch/>
          </p:blipFill>
          <p:spPr>
            <a:xfrm>
              <a:off x="3693960" y="1481040"/>
              <a:ext cx="1901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3708360" y="149688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Box 7"/>
          <p:cNvSpPr/>
          <p:nvPr/>
        </p:nvSpPr>
        <p:spPr>
          <a:xfrm>
            <a:off x="641520" y="1849320"/>
            <a:ext cx="83484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425520" y="2274840"/>
            <a:ext cx="1338120" cy="1554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ตรวจสอบการถือครองที่ดินตามเป้าหมายที่ได้รับไม่น้อยกว่า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2411280" y="1849320"/>
            <a:ext cx="8352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7728120" y="184932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4170240" y="184932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3"/>
          <p:cNvSpPr/>
          <p:nvPr/>
        </p:nvSpPr>
        <p:spPr>
          <a:xfrm>
            <a:off x="5970600" y="184932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5"/>
          <p:cNvSpPr/>
          <p:nvPr/>
        </p:nvSpPr>
        <p:spPr>
          <a:xfrm>
            <a:off x="96840" y="3994200"/>
            <a:ext cx="8928000" cy="580680"/>
          </a:xfrm>
          <a:prstGeom prst="rect">
            <a:avLst/>
          </a:prstGeom>
          <a:solidFill>
            <a:srgbClr val="c4efff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6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ปัญหาการเข้าทำประโยชน์ของเกษตรกรผู้กระทำผิดระเบียบฯ ในเขตปฏิรูปที่ดิน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ปลง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TextBox 26"/>
          <p:cNvGrpSpPr/>
          <p:nvPr/>
        </p:nvGrpSpPr>
        <p:grpSpPr>
          <a:xfrm>
            <a:off x="3664080" y="4370400"/>
            <a:ext cx="1901520" cy="366840"/>
            <a:chOff x="3664080" y="4370400"/>
            <a:chExt cx="1901520" cy="366840"/>
          </a:xfrm>
        </p:grpSpPr>
        <p:pic>
          <p:nvPicPr>
            <p:cNvPr id="443" name="TextBox 26" descr=""/>
            <p:cNvPicPr/>
            <p:nvPr/>
          </p:nvPicPr>
          <p:blipFill>
            <a:blip r:embed="rId5"/>
            <a:stretch/>
          </p:blipFill>
          <p:spPr>
            <a:xfrm>
              <a:off x="3664080" y="4370400"/>
              <a:ext cx="19015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678120" y="438480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Box 42"/>
          <p:cNvSpPr/>
          <p:nvPr/>
        </p:nvSpPr>
        <p:spPr>
          <a:xfrm>
            <a:off x="2154240" y="2274840"/>
            <a:ext cx="1338120" cy="1554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ตรวจสอบการถือครองที่ดินตามเป้าหมายที่ได้รับไม่น้อยกว่า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4"/>
          <p:cNvSpPr/>
          <p:nvPr/>
        </p:nvSpPr>
        <p:spPr>
          <a:xfrm>
            <a:off x="5724360" y="2271600"/>
            <a:ext cx="1338480" cy="1554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ตรวจสอบการถือครองที่ดินตามเป้าหมายที่ได้รับไม่น้อยกว่า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5"/>
          <p:cNvSpPr/>
          <p:nvPr/>
        </p:nvSpPr>
        <p:spPr>
          <a:xfrm>
            <a:off x="3924360" y="2274840"/>
            <a:ext cx="1338120" cy="1554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ตรวจสอบการถือครองที่ดินตามเป้าหมายที่ได้รับไม่น้อยกว่า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6"/>
          <p:cNvSpPr/>
          <p:nvPr/>
        </p:nvSpPr>
        <p:spPr>
          <a:xfrm>
            <a:off x="7493040" y="2271600"/>
            <a:ext cx="1338120" cy="1554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ตรวจสอบการถือครองที่ดินตามเป้าหมายที่ได้รับไม่น้อยกว่า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7"/>
          <p:cNvSpPr/>
          <p:nvPr/>
        </p:nvSpPr>
        <p:spPr>
          <a:xfrm>
            <a:off x="641520" y="4743360"/>
            <a:ext cx="83484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8"/>
          <p:cNvSpPr/>
          <p:nvPr/>
        </p:nvSpPr>
        <p:spPr>
          <a:xfrm>
            <a:off x="425520" y="516888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ต่งตั้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จ้าหน้าที่ ส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ป็นคณะทำงานติดตามและตรวจสอบข้อเท็จจริ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9"/>
          <p:cNvSpPr/>
          <p:nvPr/>
        </p:nvSpPr>
        <p:spPr>
          <a:xfrm>
            <a:off x="2411280" y="4743360"/>
            <a:ext cx="8352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0"/>
          <p:cNvSpPr/>
          <p:nvPr/>
        </p:nvSpPr>
        <p:spPr>
          <a:xfrm>
            <a:off x="7728120" y="474336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51"/>
          <p:cNvSpPr/>
          <p:nvPr/>
        </p:nvSpPr>
        <p:spPr>
          <a:xfrm>
            <a:off x="4170240" y="474336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2"/>
          <p:cNvSpPr/>
          <p:nvPr/>
        </p:nvSpPr>
        <p:spPr>
          <a:xfrm>
            <a:off x="5970600" y="474336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3"/>
          <p:cNvSpPr/>
          <p:nvPr/>
        </p:nvSpPr>
        <p:spPr>
          <a:xfrm>
            <a:off x="2154240" y="516888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ทำแผนให้เจ้าหน้าที่ลงพื้นที่ตรวจสอบข้อเท็จจริ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แปล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เป็นรายเดือ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4"/>
          <p:cNvSpPr/>
          <p:nvPr/>
        </p:nvSpPr>
        <p:spPr>
          <a:xfrm>
            <a:off x="5724360" y="5165640"/>
            <a:ext cx="1338480" cy="131076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วบรว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พยาน หลักฐาน และรายงานผ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ารตรวจส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5"/>
          <p:cNvSpPr/>
          <p:nvPr/>
        </p:nvSpPr>
        <p:spPr>
          <a:xfrm>
            <a:off x="3924360" y="5168880"/>
            <a:ext cx="1338120" cy="1554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ลงพื้นที่ตรวจสอบข้อเท็จจริ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แปล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6"/>
          <p:cNvSpPr/>
          <p:nvPr/>
        </p:nvSpPr>
        <p:spPr>
          <a:xfrm>
            <a:off x="7493040" y="5165640"/>
            <a:ext cx="1338120" cy="17974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รุปข้อเท็จจริง ผู้ได้รับ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ที่ดินปฏิบัติ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ปฏิบ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ามระเบีย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Image result for รูปกราฟฟิก+การประเมิน"/>
          <p:cNvPicPr/>
          <p:nvPr/>
        </p:nvPicPr>
        <p:blipFill>
          <a:blip r:embed="rId1"/>
          <a:stretch/>
        </p:blipFill>
        <p:spPr>
          <a:xfrm>
            <a:off x="3924360" y="5229360"/>
            <a:ext cx="1589040" cy="1589040"/>
          </a:xfrm>
          <a:prstGeom prst="rect">
            <a:avLst/>
          </a:prstGeom>
          <a:ln w="0">
            <a:noFill/>
          </a:ln>
        </p:spPr>
      </p:pic>
      <p:pic>
        <p:nvPicPr>
          <p:cNvPr id="460" name="สี่เหลี่ยมผืนผ้า 4" descr=""/>
          <p:cNvPicPr/>
          <p:nvPr/>
        </p:nvPicPr>
        <p:blipFill>
          <a:blip r:embed="rId2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461" name="TextBox 6"/>
          <p:cNvGrpSpPr/>
          <p:nvPr/>
        </p:nvGrpSpPr>
        <p:grpSpPr>
          <a:xfrm>
            <a:off x="3548160" y="1798560"/>
            <a:ext cx="1901880" cy="365040"/>
            <a:chOff x="3548160" y="1798560"/>
            <a:chExt cx="1901880" cy="365040"/>
          </a:xfrm>
        </p:grpSpPr>
        <p:pic>
          <p:nvPicPr>
            <p:cNvPr id="462" name="TextBox 6" descr=""/>
            <p:cNvPicPr/>
            <p:nvPr/>
          </p:nvPicPr>
          <p:blipFill>
            <a:blip r:embed="rId3"/>
            <a:stretch/>
          </p:blipFill>
          <p:spPr>
            <a:xfrm>
              <a:off x="3548160" y="1798560"/>
              <a:ext cx="19018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564000" y="180972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468360" y="2203560"/>
            <a:ext cx="833400" cy="337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250920" y="2629080"/>
            <a:ext cx="1339920" cy="13107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คัดเลือกพื้นที่เกษตร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ี่สนใจและต้องการเข้ารับการอบ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1"/>
          <p:cNvSpPr/>
          <p:nvPr/>
        </p:nvSpPr>
        <p:spPr>
          <a:xfrm>
            <a:off x="2225520" y="2203560"/>
            <a:ext cx="833760" cy="337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4"/>
          <p:cNvSpPr/>
          <p:nvPr/>
        </p:nvSpPr>
        <p:spPr>
          <a:xfrm>
            <a:off x="7740720" y="2203560"/>
            <a:ext cx="833400" cy="337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7"/>
          <p:cNvSpPr/>
          <p:nvPr/>
        </p:nvSpPr>
        <p:spPr>
          <a:xfrm>
            <a:off x="3995640" y="2203560"/>
            <a:ext cx="943200" cy="337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3"/>
          <p:cNvSpPr/>
          <p:nvPr/>
        </p:nvSpPr>
        <p:spPr>
          <a:xfrm>
            <a:off x="5897520" y="2203560"/>
            <a:ext cx="835200" cy="337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2"/>
          <p:cNvSpPr/>
          <p:nvPr/>
        </p:nvSpPr>
        <p:spPr>
          <a:xfrm>
            <a:off x="1927080" y="2629080"/>
            <a:ext cx="1474920" cy="37443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ทำหลักสูตรแผนการอบรมตามความต้องการของเกษตรก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(Training pl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ทำหลักเกณฑ์ประเมินผลเกษตรกรในแต่ละแผนงาน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ที่เข้ารับการอบ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4"/>
          <p:cNvSpPr/>
          <p:nvPr/>
        </p:nvSpPr>
        <p:spPr>
          <a:xfrm>
            <a:off x="5584680" y="2625840"/>
            <a:ext cx="1489320" cy="3501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อบรมเกษตรกรทุกแผนงาน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ที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ด้รับอนุม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8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ะเมินผลเกษตร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ทุกรายที่เข้ารับการพัฒนาศักยภาพตามแผนงาน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45"/>
          <p:cNvSpPr/>
          <p:nvPr/>
        </p:nvSpPr>
        <p:spPr>
          <a:xfrm>
            <a:off x="3749760" y="2629080"/>
            <a:ext cx="1512720" cy="3257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อบรมเกษตรกรทุกแผนงาน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ที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ด้รับอนุม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7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ะเมินผลเกษตรกรทุกรายที่เข้ารับการพัฒนาศักยภาพตามแผนงานโคร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6"/>
          <p:cNvSpPr/>
          <p:nvPr/>
        </p:nvSpPr>
        <p:spPr>
          <a:xfrm>
            <a:off x="7356600" y="2625840"/>
            <a:ext cx="1536480" cy="4717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อบรมเกษตรกรทุกแผนงาน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ที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ด้รับอนุม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ไม่น้อยกว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9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ระเมินผลเกษตรกรทุกรายที่เข้ารับการพัฒนาศักยภาพตามแผนงาน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ครง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.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รุปองค์ความรู้ที่ได้จากการอบรมเกษตรกรสำหรับการพัฒนางา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641520" y="1125360"/>
            <a:ext cx="79200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fcf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7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พัฒนาเกษตรกรตามแผนงานโครงการที่ได้รับการจัดสร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งบประมาณประจำปี พ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. 2561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 ส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ก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งหวัด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าย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Image result for รูปกราฟฟิก+การประเมิน"/>
          <p:cNvPicPr/>
          <p:nvPr/>
        </p:nvPicPr>
        <p:blipFill>
          <a:blip r:embed="rId4"/>
          <a:stretch/>
        </p:blipFill>
        <p:spPr>
          <a:xfrm>
            <a:off x="34920" y="5684760"/>
            <a:ext cx="16574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สี่เหลี่ยมผืนผ้า 4" descr=""/>
          <p:cNvPicPr/>
          <p:nvPr/>
        </p:nvPicPr>
        <p:blipFill>
          <a:blip r:embed="rId1"/>
          <a:stretch/>
        </p:blipFill>
        <p:spPr>
          <a:xfrm>
            <a:off x="-85680" y="-30240"/>
            <a:ext cx="9302760" cy="11937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641520" y="1173240"/>
            <a:ext cx="7920000" cy="916920"/>
          </a:xfrm>
          <a:prstGeom prst="rect">
            <a:avLst/>
          </a:prstGeom>
          <a:solidFill>
            <a:srgbClr val="c4efff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8.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ความสำเร็จในการแก้ไขปัญหาการครอบครองที่ดินในเขตปฏิรูปที่ดินเพื่อเกษตรกรร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โดยมิชอบด้วยกฎหมาย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มาตรา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4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TextBox 6"/>
          <p:cNvGrpSpPr/>
          <p:nvPr/>
        </p:nvGrpSpPr>
        <p:grpSpPr>
          <a:xfrm>
            <a:off x="3693960" y="1828800"/>
            <a:ext cx="1901880" cy="365040"/>
            <a:chOff x="3693960" y="1828800"/>
            <a:chExt cx="1901880" cy="365040"/>
          </a:xfrm>
        </p:grpSpPr>
        <p:pic>
          <p:nvPicPr>
            <p:cNvPr id="479" name="TextBox 6" descr=""/>
            <p:cNvPicPr/>
            <p:nvPr/>
          </p:nvPicPr>
          <p:blipFill>
            <a:blip r:embed="rId2"/>
            <a:stretch/>
          </p:blipFill>
          <p:spPr>
            <a:xfrm>
              <a:off x="3693960" y="1828800"/>
              <a:ext cx="19018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3708360" y="184140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cs typeface="TH Kodchasal"/>
                </a:rPr>
                <a:t>น้ำหนักร้อยละ </a:t>
              </a:r>
              <a:r>
                <a:rPr b="1" lang="th-TH" sz="1600" spc="-1" strike="noStrike">
                  <a:solidFill>
                    <a:srgbClr val="000000"/>
                  </a:solidFill>
                  <a:latin typeface="TH Kodchasal"/>
                  <a:ea typeface="TH Kodchas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7"/>
          <p:cNvSpPr/>
          <p:nvPr/>
        </p:nvSpPr>
        <p:spPr>
          <a:xfrm>
            <a:off x="569880" y="220500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324000" y="2630520"/>
            <a:ext cx="1338120" cy="283716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ดำเนินการตามแนวทาง และมาตรการในการขับเคลื่อนการแก้ไขปัญหาที่ดินตามมาตรา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1"/>
          <p:cNvSpPr/>
          <p:nvPr/>
        </p:nvSpPr>
        <p:spPr>
          <a:xfrm>
            <a:off x="2238480" y="220500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4"/>
          <p:cNvSpPr/>
          <p:nvPr/>
        </p:nvSpPr>
        <p:spPr>
          <a:xfrm>
            <a:off x="7842240" y="220500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7"/>
          <p:cNvSpPr/>
          <p:nvPr/>
        </p:nvSpPr>
        <p:spPr>
          <a:xfrm>
            <a:off x="4170240" y="220500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3"/>
          <p:cNvSpPr/>
          <p:nvPr/>
        </p:nvSpPr>
        <p:spPr>
          <a:xfrm>
            <a:off x="5970600" y="2205000"/>
            <a:ext cx="833400" cy="337320"/>
          </a:xfrm>
          <a:prstGeom prst="rect">
            <a:avLst/>
          </a:prstGeom>
          <a:solidFill>
            <a:srgbClr val="91c6f7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ะดับ </a:t>
            </a:r>
            <a:r>
              <a:rPr b="1" lang="th-TH" sz="1600" spc="-1" strike="noStrike">
                <a:solidFill>
                  <a:srgbClr val="000000"/>
                </a:solidFill>
                <a:latin typeface="TH Kodchasal"/>
                <a:ea typeface="TH Kodchas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2"/>
          <p:cNvSpPr/>
          <p:nvPr/>
        </p:nvSpPr>
        <p:spPr>
          <a:xfrm>
            <a:off x="1979640" y="2630520"/>
            <a:ext cx="1338120" cy="22885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สื่อสารและสร้างการรับรู้ให้ผู้เกี่ยวข้องรับทราบแนวทางการขับเคลื่อนมาตรา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4"/>
          <p:cNvSpPr/>
          <p:nvPr/>
        </p:nvSpPr>
        <p:spPr>
          <a:xfrm>
            <a:off x="5580000" y="2627280"/>
            <a:ext cx="1584360" cy="448308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ติดตาม เร่งรัดการดำเนินงานจัดที่ดินพื้นที่ ม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.44 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้อ 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1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)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ละ 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้อ 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)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พร้อมทั้งให้ข้อเสนอแน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นวทางการดำเนินงานให้ประสบผลสำเร็จไม่น้อยกว่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ร้อยละ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70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ของพื้นที่เป้าหมายที่กำหน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5"/>
          <p:cNvSpPr/>
          <p:nvPr/>
        </p:nvSpPr>
        <p:spPr>
          <a:xfrm>
            <a:off x="3780000" y="2630520"/>
            <a:ext cx="1482480" cy="393444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บูรณาการส่วนงานที่เกี่ยวข้อ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ในการจัดท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ผนงาน พัฒนาอาชีพ และแผนการพัฒนาโครงสร้างพื้นฐานพื้นที่ข้อ 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และแผนงานจัดที่ดินในพื้นที่ข้อ 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9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2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6"/>
          <p:cNvSpPr/>
          <p:nvPr/>
        </p:nvSpPr>
        <p:spPr>
          <a:xfrm>
            <a:off x="7493040" y="2627280"/>
            <a:ext cx="1471680" cy="366012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จัดทำรายงานสรุปผลการปฏิบัติงาน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ปัญหา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ea typeface="TH Kodchasal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TH Kodchasal"/>
                <a:cs typeface="TH Kodchasal"/>
              </a:rPr>
              <a:t>อุปสรรคข้อจำกัดของการดำเนินงานเตรียมการนำเสนอส่วนงานที่เกี่ยวข้อง เพื่อดำเนินการแก้ไขต่อไ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Image result for รูปกราฟฟิก+การประเมิน"/>
          <p:cNvPicPr/>
          <p:nvPr/>
        </p:nvPicPr>
        <p:blipFill>
          <a:blip r:embed="rId3"/>
          <a:stretch/>
        </p:blipFill>
        <p:spPr>
          <a:xfrm>
            <a:off x="34920" y="5684760"/>
            <a:ext cx="1657440" cy="1179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Image result for รูปกราฟฟิก+การประเมิน"/>
          <p:cNvPicPr/>
          <p:nvPr/>
        </p:nvPicPr>
        <p:blipFill>
          <a:blip r:embed="rId4"/>
          <a:stretch/>
        </p:blipFill>
        <p:spPr>
          <a:xfrm>
            <a:off x="2031840" y="4797360"/>
            <a:ext cx="16448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00:22Z</dcterms:created>
  <dc:creator>ANAKE</dc:creator>
  <dc:description/>
  <dc:language>en-US</dc:language>
  <cp:lastModifiedBy>Windows User</cp:lastModifiedBy>
  <cp:lastPrinted>2018-03-03T09:56:31Z</cp:lastPrinted>
  <dcterms:modified xsi:type="dcterms:W3CDTF">2018-03-08T16:27:34Z</dcterms:modified>
  <cp:revision>520</cp:revision>
  <dc:subject/>
  <dc:title>ภาพนิ่ง 1</dc:title>
</cp:coreProperties>
</file>