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C36-0DF4-4135-8FCD-8CCB86AA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A84-8500-4AFC-90E2-CC6CE29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2A7-33AD-40CE-8375-8712BDE1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47F-E7F8-4352-89C2-1A245C83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09D-3644-474C-B996-96DF5279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B76-B530-42E7-BD26-A9B62E1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677-726D-4A45-8D41-5BC02BA6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389-2925-4D50-96B0-5CFA0DD4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B37-9C32-480D-A278-801D0023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AC7-F572-443B-8EAF-4044206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183-A671-423D-803F-BDCF8DE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F92-C9A4-4377-BE7D-1EAEF57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7DB-BD73-42D5-8565-3CC61269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52600" y="8535960"/>
            <a:ext cx="57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สำนักงานการปฏิรูปที่ดินเพื่อเกษตรก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ระทรวงเกษตรและสห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8715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ารประเมินตนเองตามเกณฑ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“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ารพัฒนาคุณภาพการบริหารจัดการภาครัฐ ระดับพื้นฐาน ฉบับที่ 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Fundamental Level Version 2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ของ สำนักงานการปฏิรูปที่ดินเพื่อเกษตร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ประจำปีงบประมาณ พ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.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ศ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. 255</a:t>
            </a: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รูปภาพ 10" descr="PMQA 7.jpg"/>
          <p:cNvPicPr/>
          <p:nvPr/>
        </p:nvPicPr>
        <p:blipFill>
          <a:blip r:embed="rId1"/>
          <a:stretch/>
        </p:blipFill>
        <p:spPr>
          <a:xfrm>
            <a:off x="636480" y="3195720"/>
            <a:ext cx="58644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26:31Z</dcterms:created>
  <dc:creator>offy</dc:creator>
  <dc:description/>
  <dc:language>en-US</dc:language>
  <cp:lastModifiedBy>user</cp:lastModifiedBy>
  <dcterms:modified xsi:type="dcterms:W3CDTF">2016-10-31T02:59:51Z</dcterms:modified>
  <cp:revision>19</cp:revision>
  <dc:subject/>
  <dc:title>ภาพนิ่ง 1</dc:title>
</cp:coreProperties>
</file>